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A41A-42C6-4392-A7EB-BD332F8A3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370D-B6BE-4F04-BAC6-BA8F6D160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35A0-5013-486E-9734-A2532BFC3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760F-6E93-4DE6-A56D-F752E8F30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811D-9ED9-4294-8A22-0AA4BBF53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6B53-783E-406F-8085-8686379A8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5786-668A-4627-A9AB-9C1F3B845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8611-1926-4B4F-9C64-F986942AF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3F56-D73E-4B45-9055-5778B4910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2CEB-B8F9-4F99-8454-560663980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9EE7-CF59-459E-B312-72E73D67B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1B2D-D61C-4025-8FA2-F53D0CADC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C6A8-0CF9-4514-9EED-F196072CD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5406-34BD-4E8D-8142-E1F40FA36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72AB-5C54-4622-8EF1-3B4496D22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14BB-DAE1-48FB-B1BE-FC5BF90B6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F4D1-0611-4560-A85B-2383D134C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D2F5-9212-480F-B60E-7009EABC1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89B7-0DCA-4C9F-9C38-C7D2D6B16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F42F-BB11-41FD-B7C8-A9F1B4F33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F076-3679-47C1-8BAC-61D4D9A5F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9581-80D8-4287-8FD9-FE8CE8BDF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13AD-635A-4BEB-8492-88E90F28D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D11A-C8E6-4322-ACC1-90123AC73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6861-B027-496D-93D8-8B845495F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35D3-32CA-4D11-B527-BD613D395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1ED9-E4D6-43BD-9C6A-8B657D853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A4B8-106B-417B-ADDE-D054ABBE6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62B6-2846-439A-BC01-42E172265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DEF1-D5C3-4042-B3DE-0469CD4AB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7451-2E63-4450-9DB7-8906EABD3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8D4A-8F32-4978-8052-8F0B4FA8A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0103-8F63-42C3-A795-65A3EACFC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11B9-C6A0-42B3-8928-1D6CFDC6E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3C78-F1AA-46BD-92E1-B32D38133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D76F-D5BE-45A9-8761-6F901DBAD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8A0D-4741-4E14-9A5F-A22AE7C6A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2C03-B107-4949-9CBE-EB1173BA3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D5F9-406F-4783-8575-2B9A2420D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CA69-359B-4416-A026-35D22BC2F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5BA5-8B4C-4812-9D21-459C4E092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F7C5-4086-4637-8C29-28B721038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FD73-E712-4F5D-B44B-E63E4294A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55B2-5812-4FAB-B9F9-72C02C4AB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ABD9-B880-42ED-B030-3FB1AED62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2F0D-3FC9-4504-B6E0-6E5DB8660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34EC-8CD5-4087-8DF2-8FBE62FA4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CFF6-1DDF-417C-95A0-4CB086530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2600-5DF6-470E-8551-6B700F76A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5D47-E1E7-4F10-B6DD-20EA80FD2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33C9-3C4C-4F0E-A4D2-9F60C87E1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96CF-6094-4288-94F0-EF2B912D2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AC29-C30E-4116-901F-693CC005E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955A-3457-4180-BB10-AEB2939B4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E74E-C3CF-4B0C-A1CB-8AE923FB0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6E20-4A0F-4F18-BC65-D45829CCE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E3DC-6530-4FC6-97D0-19D5FE19F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88CA-FE75-4EC5-89E3-43234FB08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7BC7-1057-4EEA-BD28-A53F1C32A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37896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FD1A-781B-46D1-914C-23BA4643E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99072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37896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37896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9AFB-072A-48D5-9EF2-E8DCA5BE7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99072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99072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37896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37896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37896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A89A-3B52-4B3A-B5E8-2640997BF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5080" y="99072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610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5080" y="99072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37896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590C-BBA3-4BDC-92CC-375CB9BAD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5080" y="99072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5080" y="337896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5080" y="99072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896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37896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5080" y="99072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37896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5080" y="337896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9320" y="99072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720" y="99072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37896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9320" y="337896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720" y="337896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CD27-4D39-4A17-933A-2D59062E7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99072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2334-DE9E-428D-856C-084E923EE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FCD7-F789-4833-AE7A-E41648A01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610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3520-E31F-4B56-988A-F66C596E4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99072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37896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C756-EBC9-4C20-A7BC-9760A4A2D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99072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37896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BAAE-E8D3-4550-8FAC-568A8DEEA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99072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37896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9BDD-407F-4025-A506-471F03B72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33C03803-365C-4D3D-AAAE-2003B874D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d3d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4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2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eptions and Advanced Fil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38080" y="19810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990360"/>
            <a:ext cx="8294400" cy="510516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ndle an exception, you us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try block statements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xceptionType Parameter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catch block statements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he keywor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dicates a block of code will be attempted (the curly braces are requir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block of code is known a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y b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085A1D40-457D-4917-B53B-69329B94F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y bloc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statements that are executed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otentially throw an exce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pplication will not halt if the try block throws an exce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try block,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 app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EA297B7F-9AD1-44A4-9160-4406E2785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ch clause begins with the key wor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xceptionType Parameter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ExceptionTyp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name of an exception clas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rameterNam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variable name which will reference the exception object if the code in the try block throws an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de that immediately follows the catch clause is known a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tch blo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curly braces are requir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de in the catch block is executed if the try block throws an exce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EF44D57C-A248-4896-B42F-B1966381E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990360"/>
            <a:ext cx="8294400" cy="510516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de is designed to handl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NotFound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is thr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 file = new File ("MyFile.tx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inputFile = new Scanner(fi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FileNotFound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File not found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ava Virtual Machine searches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that can deal with the exce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OpenFile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A7A64FA6-7508-49A4-8F44-4DB5C0FD9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xception object has a method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can be used to retrieve the default error message for the exce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Message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IntError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725B0CFA-214D-4468-84BB-0637A86C8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ORPHIC REFERENCES TO EXCE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orphic References To 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handling exceptions, you can use a polymorphic reference as a parameter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exceptions are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that uses a parameter variabl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 is capable of catching any exception that is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2311E5A2-39F5-4F6B-8F0A-25220AD21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orphic References To 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 = Integer.parseInt(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Exception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The following error occurred: "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+ 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se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thr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Format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Format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is derive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2E790847-1F6E-4DA9-B28D-06F48904D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LING MULTIPLE EXCE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1C46ED7C-4B88-4B62-92C9-394A63DAE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2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I: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ing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ing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II: More about Input/Outpu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Fil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Access File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Ser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Multiple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de in the try block may be capable of throwing more than one type of exce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needs to be written for each type of exception that could potentially be thr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VM will run the first compatib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lauses must be listed 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from most specific to most gen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SalesReport.java, SalesReport2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DC648914-D363-4104-819D-925C9E0C7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Hand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990360"/>
            <a:ext cx="8294400" cy="51814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can be many polymorphic catch clau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y statement may have only on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use for each specific type of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= Integer.parseInt(s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NumberFormat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Bad number format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NumberFormatException e)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// ERROR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tr + " is not a number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14FEE916-85A3-42B1-B15A-84D1E9E46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Hand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Format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is derive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llegalArgument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 = Integer.parseInt(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IllegalArgumentException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Bad number format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NumberFormatException e)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// ERROR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 + " is not a number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0BF895C9-3D03-4BAB-8A5F-F99572B35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Hand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previous code could be rewritten to work, as follows, with no erro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 = Integer.parseInt(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NumberFormatException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 is not a number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IllegalArgumentException e) </a:t>
            </a:r>
            <a:r>
              <a:rPr b="1" lang="en-US" sz="1800" spc="-1" strike="noStrike">
                <a:solidFill>
                  <a:srgbClr val="00ff00"/>
                </a:solidFill>
                <a:latin typeface="Courier New"/>
              </a:rPr>
              <a:t>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Bad number format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C5C84A57-C659-4044-B311-8E828ED4D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INALLY CL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y statement may have an option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resent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must appear after all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try block statements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ceptionType Parameter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catch block statements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finally block statements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EB72C775-DA25-45E8-9AB4-A5267F60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nally bloc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ne or more statemen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re always executed after the try block has execute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ny catch blocks have executed if an exception was thr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ments in the finally block execute whether an exception occurs or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See example in next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AEABF86D-852F-4E7B-B350-6107105A1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de for closing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990360"/>
            <a:ext cx="8294400" cy="51814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 finally block for the writeList method cleans up and then closes the PrintWri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out !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Closing PrintWrite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PrintWriter not open"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CK TRACE AND UNCAUGHT EXCE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caught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exception is thrown, it cannot be ign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ust be handled by the program, or by the default exception hand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ode in a method throws an exce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execution of that method stop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VM searches for a compatible exception handler inside the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92F7F637-D0F8-47EE-885F-04ADF2B0E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I: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caught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no exception handler inside the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of the program is passed to the previous method in the call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at method has no exception handler, then control is passed again, up the call stack, to the previou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ntrol reach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method must either handle the exception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is halted and the default exception handler handles the exce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41E73189-5FDC-4804-A776-E85D75845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ck T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all st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internal list of all the methods that are currently execu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tack tra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list of all the methods in the call sta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ndic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hod that was executing when an exception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methods that were called in order to execute that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tackTrace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9A27142B-7BDF-4B8B-B707-CA5EFCA11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ed and Unchecked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categories of exce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he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hecked excep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ose that are derive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or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s derived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rown when a critical error occurs, and should not be hand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ves as a superclass for exceptions that result from programming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183E4561-BEDF-4AAC-9ED3-CD3826288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ed and Unchecked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exceptions can be avoided with properly written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hecked exceptions, in most cases, should not be hand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xceptions that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ed exce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90A52E97-B6F3-49E1-ADD8-2073CF4D1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ed and Unchecked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code in a method can throw a checked exception, the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ndle the exception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listed in the method hea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informs the compiler what exceptions can be thrown from a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76BF1D4A-7CAC-4692-A140-19097F63E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ed and Unchecked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A44010B0-8E5C-4471-8FBA-052EBEA9C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729560" cy="5029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64753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ed and Unchecked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1920" y="99072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de in this method is capable of throwing checked excep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written at the end of the method header, followed by a list of the types of exceptions that the method can throw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displayFile(String name)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hrows FileNotFound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A310BC4A-98D1-4C64-8348-CE54D975F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ow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write cod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s one of the standard Java exceptions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stance of a custom exception class that you have desig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is used to manually throw an excep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hrow new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ExceptionType(MessageStrin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causes an exception object to be created and thr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0569E77D-C230-4657-85EF-5159F743E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owing 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ssageStr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 contains a custom error message that can be retrieved from the exception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do not pass a message to the constructor, the exception will have a null messag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hrow new Exception("Out of fuel");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e: Don’t confuse the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tatement with the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la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mples: See examples in the next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A744689B-8566-4088-97BF-8DCE8FF90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26AC358E-815D-48B8-A1CA-922ABF47E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Exception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reate your own exception classes by deriving them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or one of its derived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Account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StartingBalance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Test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ception is an object that is generated as the result of an error or an unexpected ev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are said to have been “thrown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t is the programmers responsibility to write code that detects and handles excep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handled exceptions will crash a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adArray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llows you to create exception handl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51AA37C8-BCE9-4E93-A6AA-33AF17586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BF498910-56EA-46CE-A420-39E307D1B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Exception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xamples of exceptions that can affect a bank 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gative starting balance is passed to the constr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gative interest rate is passed to the constr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gative number is passed to the deposit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gative number is passed to the withdraw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ount passed to the withdraw method exceeds the account’s ba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create exceptions that represent each of these error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FEE1E856-2C96-464E-AE00-1477DF3DB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@ex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ag in Documentation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ceptionName Descrip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rules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xce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g in a method’s documentation comment must appear after the general description of the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scription can span several lines. It ends at the end of the documentation comment (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ymbol) or at the beginning of another ta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 I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ORE ABOUT INPUT/OUTPUT STR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9C1DA91B-0F38-4B2D-8D21-13C027D59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y data is stored in memory is sometime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w binary 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an be stored in a file in its raw binary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ile that contains binary data is often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ng data in its binary format is more efficient than storing it a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ome types of data that should only be stored in its raw binary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320FC387-A096-43EB-B399-FB60F6546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files cannot be opened in a text editor such as Notep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data to a binary file you must create objects from the following cla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allows you to open a file for writing binary data. It provides only basic functionality for writing bytes to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Out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allows you to write data of any primitive type or String objects to a binary file. Cannot directly access a file. It is used in conjunction with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that has a connection to a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F1CBF4D5-6421-40CD-9165-94B6B7F29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Out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is wrapped arou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to write data to a binary fi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OutputStream fstream = ne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FileOutputStream("MyInfo.da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OutputStream outputFile = ne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DataOutputStream(f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file that you are opening with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already exists, it will be erased and an empty file by the same name will be cr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62A8AE5B-AD5D-4C73-B46D-5FD761C40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tatements can combined into on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OutputStream outputFile = new DataOutputStream(ne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ileOutputStream("MyInfo.dat")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the DataOutputStream object has been created, you can use it to write binary data to the fi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WriteBinaryFile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5331889B-7DA5-4769-A120-D8E2AB712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 binary file for input, you wrap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In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arou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In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InputStream fstream = new FileInputStream("MyInfo.da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InputStream inputFile = new DataInputStream(f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wo statements can be combined into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InputStream inputFile = new DataInputStream(ne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ileInputStream("MyInfo.dat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A615096C-C49B-4FD3-AFE8-93AE6FB17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In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 will throw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NotFound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 file named by the string argument cannot be f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In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has been created, you can use it to read binary data from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BinaryFile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EF1246E6-782B-4C16-8309-5A6C44C61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and Read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 a string to a binary file,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Out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riteU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writes i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gument in a format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TF-8 enco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before writing the string, this method writes a two-byte integer indicating the number of bytes that the string occup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it writes the string’s characters in Unicode. (UTF stands for Unicode Text Forma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In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adU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ads from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BF73CECE-589F-4AD7-B3A6-F195CDF29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ception handl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section of code that gracefully responds to exce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intercepting and responding to exception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ault exception handl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s with unhandled exce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ault exception handler prints an error message and crashes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7D54D38D-2400-4A5D-ABD4-FB5F247EB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and Read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 a string to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"Chlo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File.writeUTF(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ad a string from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inputFile.readUTF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adU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will correctly read a string only when the string was written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riteU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UTF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UTF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B03B56B2-70DB-46F6-B83D-951DD8A69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ending Data to Binary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 takes an optional second argument which must b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rgumen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file will not be erased if it exists; new data will be written to the end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rgumen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file will be erased if it already ex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OutputStream fstream = new FileOutputStream("MyInfo.dat", 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OutputStream outputFile = new DataOutputStream(f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2649BFBD-7D6C-40BA-B53B-9724B4E5B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Access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files and the binary files previously shown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quential file 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equential ac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time data is read from the file, the data will be read from its begin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the reading continues, the file’s read position advances sequentially through the file’s cont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 file access is useful in many circum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file is very large, locating data buried deep inside it can take a lo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964EFC3A-A8F2-4D25-A95B-EEA049849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Access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allows a program to per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ndom file 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andom file access, a program may immediately jump to any location in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nd work with random access files in Java, you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omAccessFile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ilename, String m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name of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string indicating the mode in which you wish to us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r"    = 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rw" = for reading and wri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543C59B9-53AB-40E9-A4B1-F5FD72AD8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Access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pen a file for random r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omAccessFile randomFile = new RandomAccessFile("MyData.dat", "r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pen a file for random reading and wri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omAccessFile randomFile = new RandomAccessFile("MyData.dat", "rw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pening a file in "r" mode where the file does not exist,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NotFound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thr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a file in "r" mode and trying to write to it will throw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open an existing file in "rw" mode, it will not be deleted and the file’s existing content will be p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567AD6CE-CDA7-4F1B-9420-9AB07A1B8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Access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in a sequential access file are accessed one after the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in a random access file are accessed in any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open a file in "rw" mode and the file does not exist, it will be cre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le that is opened or crea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treated as a binary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E219B450-5730-4852-9906-57BD08E1B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Access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methods a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Out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for writing data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methods a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In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for read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can be used to sequentially process a binary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WriteLetter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8897BF14-5B26-4794-9162-7D9514A0D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le 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treats a file as a stream of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ytes are numbe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byte is byte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st byte’s number is one less than the number of bytes in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byte numbers are similar to an array’s subscripts, and are used to identify locations in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ly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keeps a long integer value known a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le poi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FD72F177-B626-479E-B452-E8120CB4B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le 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le poin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s the byte number of a location in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file is first opened, the file pointer is set to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item is read from the file, it is read from the byte that the file pointer points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lso causes the file pointer to advance to the byte just beyond the item that was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other item is immediately read, the reading will begin at that point in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587227DD-31E4-4597-9AB3-0C7F2B759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le 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OF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rown when a read causes the file pointer to go beyond the size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also takes place at the location pointed to by the file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file pointer points to the end of the file, data will be written to the end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file pointer holds the number of a byte within the file, at a location where data is already stored, a write will overwrite the data at that poi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CEPTION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B7A51458-0B58-432C-9373-9440D07FA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le 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lets you move the file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lows data to be read and written at any byte location in the fi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ek method is used to move the file poin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ndFile.seek(long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ositio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gument is the number of the byte that you want to move the file pointer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49775677-BEB0-4596-B60F-55D88EE87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le 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domAccessFile file = new RandomAccessFile("MyInfo.dat", "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.seek(99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yte b = file.readBy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ReadRandomLetters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445AC2F3-DBB8-43A5-A769-8AEE8908F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Ser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object contains other types of objects as fields, saving its contents can be compli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llows you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iz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, which is a simpler way of saving objects to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object is serialized, it is converted into a series of bytes that contain the object’s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object is set up properly, even the other objects that it might contain as fields are automatically serial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set of bytes can be saved to a file for later retriev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B539CD5F-81F3-4334-A593-C1E04A3AD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Ser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object to be serialized, its class must implemen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 has no methods or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only to let the Java compiler know that objects of the class might be serial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class contains objects of other classes as fields, those classes must also implemen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, in order to be serial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ankAccount2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6638C9A4-A51C-4234-A122-0855E3C99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Ser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, as many others in the Java API,  implemen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a serialized object to a file, you us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is designed to perform the serialization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the bytes to a file, an output stream object is need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OutputStream outStream = new FileOutputStream("Objects.da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OutputStream objectOutputFile = new ObjectOutputStream(out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47707411-2951-42A5-89A2-E5028054E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Ser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erialize an object and write it to the file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s us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2 account = new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(2500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OutputFile.writeObject(ac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throw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an error occ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of reading a serialized object’s bytes and constructing an object from them is kn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eri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CE596CAF-B4F6-41C1-A6EC-6B50EB84D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Ser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serialize an objec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is used in conjunction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In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InputStream inStream = new FileInputStream("Objects.da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InputStream objectInputFile = new ObjectInputStream(in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ad a serialized object from the file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2 ac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ount = (BankAccount2) objectInputFile.readObjec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D61B0BC1-38EE-471E-8A7A-F3063376E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Ser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ad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the deserialized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 that you must cast the return value to the desired class typ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ad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throws a number of different exceptions if an error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izeObjects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erializeObjects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D30B6FE3-9F8B-4187-B378-7D6262C78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ception is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objects are created from classes in the Java API hierarchy of exception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 exception classes in the hierarchy are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63561A92-BD8D-4D92-8BB1-F0691ACE5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581280" y="914400"/>
            <a:ext cx="1524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581280" y="1600200"/>
            <a:ext cx="1524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952880" y="2514600"/>
            <a:ext cx="1524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523880" y="2514600"/>
            <a:ext cx="7621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4038480" y="3581280"/>
            <a:ext cx="1524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O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267080" y="5181480"/>
            <a:ext cx="2362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NotFound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2133720" y="5181480"/>
            <a:ext cx="16761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OF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AutoShape 22"/>
          <p:cNvCxnSpPr>
            <a:stCxn id="113" idx="0"/>
            <a:endCxn id="112" idx="2"/>
          </p:cNvCxnSpPr>
          <p:nvPr/>
        </p:nvCxnSpPr>
        <p:spPr>
          <a:xfrm flipV="1">
            <a:off x="4343040" y="12189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0" name="Group 32"/>
          <p:cNvGrpSpPr/>
          <p:nvPr/>
        </p:nvGrpSpPr>
        <p:grpSpPr>
          <a:xfrm>
            <a:off x="1904040" y="1904400"/>
            <a:ext cx="3810960" cy="609840"/>
            <a:chOff x="1904040" y="1904400"/>
            <a:chExt cx="3810960" cy="609840"/>
          </a:xfrm>
        </p:grpSpPr>
        <p:cxnSp>
          <p:nvCxnSpPr>
            <p:cNvPr id="121" name="AutoShape 23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2818440" y="990000"/>
              <a:ext cx="610200" cy="2439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AutoShape 24"/>
            <p:cNvCxnSpPr>
              <a:stCxn id="114" idx="0"/>
              <a:endCxn id="113" idx="2"/>
            </p:cNvCxnSpPr>
            <p:nvPr/>
          </p:nvCxnSpPr>
          <p:spPr>
            <a:xfrm flipV="1" rot="16200000">
              <a:off x="4723920" y="1523160"/>
              <a:ext cx="610200" cy="1372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3" name="Group 31"/>
          <p:cNvGrpSpPr/>
          <p:nvPr/>
        </p:nvGrpSpPr>
        <p:grpSpPr>
          <a:xfrm>
            <a:off x="1600200" y="2820600"/>
            <a:ext cx="609480" cy="997200"/>
            <a:chOff x="1600200" y="2820600"/>
            <a:chExt cx="609480" cy="997200"/>
          </a:xfrm>
        </p:grpSpPr>
        <p:sp>
          <p:nvSpPr>
            <p:cNvPr id="124" name="Rectangle 21"/>
            <p:cNvSpPr/>
            <p:nvPr/>
          </p:nvSpPr>
          <p:spPr>
            <a:xfrm>
              <a:off x="1600200" y="3580920"/>
              <a:ext cx="60948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" name="AutoShape 25"/>
            <p:cNvCxnSpPr>
              <a:stCxn id="124" idx="0"/>
              <a:endCxn id="115" idx="2"/>
            </p:cNvCxnSpPr>
            <p:nvPr/>
          </p:nvCxnSpPr>
          <p:spPr>
            <a:xfrm flipV="1">
              <a:off x="1904040" y="2820600"/>
              <a:ext cx="2160" cy="76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6" name="Rectangle 26"/>
          <p:cNvSpPr/>
          <p:nvPr/>
        </p:nvSpPr>
        <p:spPr>
          <a:xfrm>
            <a:off x="6705720" y="4114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7"/>
          <p:cNvSpPr/>
          <p:nvPr/>
        </p:nvSpPr>
        <p:spPr>
          <a:xfrm>
            <a:off x="7086600" y="51814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971800" y="35812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28"/>
          <p:cNvGrpSpPr/>
          <p:nvPr/>
        </p:nvGrpSpPr>
        <p:grpSpPr>
          <a:xfrm>
            <a:off x="6019920" y="3581280"/>
            <a:ext cx="1981080" cy="534960"/>
            <a:chOff x="6019920" y="3581280"/>
            <a:chExt cx="1981080" cy="534960"/>
          </a:xfrm>
        </p:grpSpPr>
        <p:sp>
          <p:nvSpPr>
            <p:cNvPr id="130" name="Rectangle 11"/>
            <p:cNvSpPr/>
            <p:nvPr/>
          </p:nvSpPr>
          <p:spPr>
            <a:xfrm>
              <a:off x="6019920" y="3581280"/>
              <a:ext cx="1981080" cy="30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time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AutoShape 29"/>
            <p:cNvCxnSpPr>
              <a:stCxn id="126" idx="0"/>
              <a:endCxn id="130" idx="2"/>
            </p:cNvCxnSpPr>
            <p:nvPr/>
          </p:nvCxnSpPr>
          <p:spPr>
            <a:xfrm flipV="1">
              <a:off x="7009560" y="3886920"/>
              <a:ext cx="2160" cy="22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2" name="Group 27"/>
          <p:cNvGrpSpPr/>
          <p:nvPr/>
        </p:nvGrpSpPr>
        <p:grpSpPr>
          <a:xfrm>
            <a:off x="2971800" y="3885840"/>
            <a:ext cx="4419360" cy="1295640"/>
            <a:chOff x="2971800" y="3885840"/>
            <a:chExt cx="4419360" cy="1295640"/>
          </a:xfrm>
        </p:grpSpPr>
        <p:cxnSp>
          <p:nvCxnSpPr>
            <p:cNvPr id="133" name="AutoShape 30"/>
            <p:cNvCxnSpPr>
              <a:stCxn id="127" idx="0"/>
              <a:endCxn id="116" idx="2"/>
            </p:cNvCxnSpPr>
            <p:nvPr/>
          </p:nvCxnSpPr>
          <p:spPr>
            <a:xfrm flipV="1" rot="16200000">
              <a:off x="5447880" y="3237840"/>
              <a:ext cx="1296000" cy="2591640"/>
            </a:xfrm>
            <a:prstGeom prst="bentConnector3">
              <a:avLst>
                <a:gd name="adj1" fmla="val 4998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AutoShape 31"/>
            <p:cNvCxnSpPr>
              <a:stCxn id="117" idx="0"/>
              <a:endCxn id="116" idx="2"/>
            </p:cNvCxnSpPr>
            <p:nvPr/>
          </p:nvCxnSpPr>
          <p:spPr>
            <a:xfrm flipV="1" rot="16200000">
              <a:off x="4476240" y="4209480"/>
              <a:ext cx="1296000" cy="648360"/>
            </a:xfrm>
            <a:prstGeom prst="bentConnector3">
              <a:avLst>
                <a:gd name="adj1" fmla="val 4998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AutoShape 32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3238200" y="3619080"/>
              <a:ext cx="1296000" cy="1829520"/>
            </a:xfrm>
            <a:prstGeom prst="bentConnector3">
              <a:avLst>
                <a:gd name="adj1" fmla="val 4998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6" name="Group 29"/>
          <p:cNvGrpSpPr/>
          <p:nvPr/>
        </p:nvGrpSpPr>
        <p:grpSpPr>
          <a:xfrm>
            <a:off x="3275640" y="2819160"/>
            <a:ext cx="3734640" cy="762120"/>
            <a:chOff x="3275640" y="2819160"/>
            <a:chExt cx="3734640" cy="762120"/>
          </a:xfrm>
        </p:grpSpPr>
        <p:cxnSp>
          <p:nvCxnSpPr>
            <p:cNvPr id="137" name="AutoShape 33"/>
            <p:cNvCxnSpPr>
              <a:stCxn id="128" idx="0"/>
              <a:endCxn id="114" idx="2"/>
            </p:cNvCxnSpPr>
            <p:nvPr/>
          </p:nvCxnSpPr>
          <p:spPr>
            <a:xfrm flipH="1" flipV="1" rot="5400000">
              <a:off x="4113720" y="1980720"/>
              <a:ext cx="762480" cy="24390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AutoShape 34"/>
            <p:cNvCxnSpPr>
              <a:stCxn id="116" idx="0"/>
              <a:endCxn id="114" idx="2"/>
            </p:cNvCxnSpPr>
            <p:nvPr/>
          </p:nvCxnSpPr>
          <p:spPr>
            <a:xfrm flipH="1" flipV="1" rot="5400000">
              <a:off x="4876560" y="2742840"/>
              <a:ext cx="762480" cy="91512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AutoShape 35"/>
            <p:cNvCxnSpPr>
              <a:stCxn id="130" idx="0"/>
              <a:endCxn id="114" idx="2"/>
            </p:cNvCxnSpPr>
            <p:nvPr/>
          </p:nvCxnSpPr>
          <p:spPr>
            <a:xfrm flipV="1" rot="16200000">
              <a:off x="5981400" y="2552040"/>
              <a:ext cx="762480" cy="12960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9E88F52D-49AB-47FB-B14A-165CF42B4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that are derived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or exceptions that are thrown when critical errors occur. (i.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ternal error in the Java Virtual Machine,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ning out of mem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should not try to handle these errors because they are the result of a serious cond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s should handle the exceptions that are instances of classes that are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2:44:46Z</dcterms:created>
  <dc:creator>Tony Gaddis</dc:creator>
  <dc:description/>
  <cp:keywords/>
  <dc:language>en-US</dc:language>
  <cp:lastModifiedBy>ferreipb</cp:lastModifiedBy>
  <cp:lastPrinted>2009-04-22T19:24:48Z</cp:lastPrinted>
  <dcterms:modified xsi:type="dcterms:W3CDTF">2013-11-07T20:46:10Z</dcterms:modified>
  <cp:revision>64</cp:revision>
  <dc:subject>Exceptions and Advanced File I/O</dc:subject>
  <dc:title>Chapter 12</dc:title>
</cp:coreProperties>
</file>