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4240-EAF7-456A-B6DF-567D970F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1590-48FA-4712-A791-53A1612A2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4E7-A072-4DD2-8451-20F3A841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B4E-9330-472D-B1C5-CC979B89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C4BD-4DB1-425D-AEA5-9D702E7D3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7FF-C317-4FE4-8A60-9DE93476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7E1D-A32D-4384-9582-4FE27A06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5EE-96BD-4E1E-AA5C-3ED8E890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52E-81CF-4BC9-88A0-84990E22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64E9-DBF2-4514-8A1C-DCBB447E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11EA-CC00-4D9F-A5DD-E90A32C6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F709-C1C4-41B5-A351-98B5C97C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497-368C-4104-AE8F-E7E0C5AB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09E-F444-4684-8B65-090DC74D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933-B0E6-4A88-9CD8-6FCA4AC4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722-654D-43C3-BEA8-D7AA019C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0305-785E-4878-B9CD-DC48230C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1F9-515E-4B16-A59B-8179B21A7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512-0ED0-47CC-A3A0-767BE7F51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8A37-B503-4EF7-89FC-86C5E3578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7675-9E4F-4315-B83C-D6C88CCB9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2125-05D6-4AE1-9B2F-79D5CAE3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C2C3-7602-4C7D-8C88-23FDA303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74F8-3884-4EE7-8A1D-A0B8EDD3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3FD1-5458-4215-B4B9-196A6EE5E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B95-61C7-43EE-A403-73A9D213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5F8-EF34-4B5D-9B1D-B701AB4B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9B6-EAE8-4204-A59D-54FE450A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5FD-1E55-4B2A-A17B-F77DCC67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61E-2405-4122-B135-43E220EF5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6A7-DCDC-43A3-9FD7-51115DDEC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BD5D-A3D9-43FA-B065-59FC87BE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474-8A63-426B-BBEB-5258B420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8C4-6437-4BB5-82BA-8FF08396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A63-DCA5-46FF-8A02-AE54FF543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4F1-6CDE-4257-BF05-6CE8BA7D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6C5D-ECC9-4AB9-A9F0-57DE4482A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E2C0-7218-4349-AD37-64F8E583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A639-6533-4042-9E67-C44B2AAB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B8E-A711-4800-8E72-07B9C563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E174-9196-49D1-B9DA-ABD133FF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D109-8D99-49A6-8CE4-00826BBA2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CC5-56F7-4CD6-8F22-97837E6E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27C-4334-4E30-A6EE-93FFC851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00EB-556A-469B-8031-7A785F0FA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6EE1-9214-41F4-90E2-25B474498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60B4-A27A-486F-B5C0-BA77DEB4A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95A2-E2BC-43B0-8C56-CA123C37F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CD5-4548-4245-BE87-0CDF986F7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2CDB-885B-4AEA-9349-159EE4245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448A-85D7-4ED9-A240-574D4BADC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B5FF-81BC-4C77-B94C-3CAF64E7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33BE-255F-4BA8-BB9A-F1AD94B8B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B22B-D379-4F55-ABD6-6DCEAA28A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7788-436E-4CEF-9296-D4A3940B9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B00B-DB41-4ED0-A3C3-60EC471C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C58DD3A-4776-4E8B-AB67-3B42A619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4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ps a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38080" y="19810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0E3ED5E-8714-4827-97CE-E1B1B149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version of the loop decrements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uring each iter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x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is greater than 0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x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322D605-B8E6-4013-8A66-D9090B1F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tatements in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ly braces are required to enclose block statement while loops. (like block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72D009E-AEE7-47F0-94AD-7317B7E2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or Input 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 valid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ocess of ensuring that user input is va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in th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range of 1 through 100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Validate the in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umber &lt; 1 || number &gt; 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hat number is invalid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Enter a number in th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range of 1 through 100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keyboard.next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occerTeam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75620C7-35F1-4E0D-88B7-DC0AF27A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-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, which means it will execute the loop prior to testing the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(sometimes called call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) take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while 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estAverage1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4B58DDD-888F-4FEE-95DE-D3F6C37B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8"/>
          <p:cNvGrpSpPr/>
          <p:nvPr/>
        </p:nvGrpSpPr>
        <p:grpSpPr>
          <a:xfrm>
            <a:off x="2895480" y="1219320"/>
            <a:ext cx="2819520" cy="4800240"/>
            <a:chOff x="2895480" y="1219320"/>
            <a:chExt cx="2819520" cy="4800240"/>
          </a:xfrm>
        </p:grpSpPr>
        <p:sp>
          <p:nvSpPr>
            <p:cNvPr id="142" name="Rectangle 6"/>
            <p:cNvSpPr/>
            <p:nvPr/>
          </p:nvSpPr>
          <p:spPr>
            <a:xfrm>
              <a:off x="2895480" y="2057400"/>
              <a:ext cx="190512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3809880" y="1219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2963520" y="2887560"/>
              <a:ext cx="2375640" cy="3132000"/>
              <a:chOff x="2963520" y="2887560"/>
              <a:chExt cx="2375640" cy="3132000"/>
            </a:xfrm>
          </p:grpSpPr>
          <p:sp>
            <p:nvSpPr>
              <p:cNvPr id="145" name="Rectangle 5"/>
              <p:cNvSpPr/>
              <p:nvPr/>
            </p:nvSpPr>
            <p:spPr>
              <a:xfrm rot="2701200">
                <a:off x="3200040" y="3124080"/>
                <a:ext cx="1143000" cy="1143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4801680" y="320040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8"/>
              <p:cNvSpPr/>
              <p:nvPr/>
            </p:nvSpPr>
            <p:spPr>
              <a:xfrm>
                <a:off x="3809880" y="457200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 Box 11"/>
              <p:cNvSpPr/>
              <p:nvPr/>
            </p:nvSpPr>
            <p:spPr>
              <a:xfrm>
                <a:off x="3125160" y="3371760"/>
                <a:ext cx="126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oole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pression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 Box 12"/>
              <p:cNvSpPr/>
              <p:nvPr/>
            </p:nvSpPr>
            <p:spPr>
              <a:xfrm>
                <a:off x="3887280" y="495288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Line 13"/>
            <p:cNvSpPr/>
            <p:nvPr/>
          </p:nvSpPr>
          <p:spPr>
            <a:xfrm>
              <a:off x="3809880" y="2514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4724280" y="3733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 flipV="1">
              <a:off x="5715000" y="15998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H="1">
              <a:off x="3886200" y="1600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03AD24E-6B92-4A32-B070-F17F287C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pre-test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allows the programmer to initialize a control variable, test a condition, and modify the control variable all in one line of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ake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quar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D6820D3-7D09-4569-A8A2-8194AE20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6"/>
          <p:cNvGrpSpPr/>
          <p:nvPr/>
        </p:nvGrpSpPr>
        <p:grpSpPr>
          <a:xfrm>
            <a:off x="1591920" y="1219320"/>
            <a:ext cx="6714000" cy="4419360"/>
            <a:chOff x="1591920" y="1219320"/>
            <a:chExt cx="6714000" cy="4419360"/>
          </a:xfrm>
        </p:grpSpPr>
        <p:sp>
          <p:nvSpPr>
            <p:cNvPr id="160" name="Rectangle 5"/>
            <p:cNvSpPr/>
            <p:nvPr/>
          </p:nvSpPr>
          <p:spPr>
            <a:xfrm rot="2701200">
              <a:off x="1828440" y="2743200"/>
              <a:ext cx="11430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03848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3201480" y="28954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>
              <a:off x="2438280" y="4191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AutoShape 9"/>
            <p:cNvCxnSpPr>
              <a:stCxn id="165" idx="0"/>
            </p:cNvCxnSpPr>
            <p:nvPr/>
          </p:nvCxnSpPr>
          <p:spPr>
            <a:xfrm flipV="1" rot="16200000">
              <a:off x="4171320" y="-57960"/>
              <a:ext cx="1524600" cy="4839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Line 10"/>
            <p:cNvSpPr/>
            <p:nvPr/>
          </p:nvSpPr>
          <p:spPr>
            <a:xfrm>
              <a:off x="2438280" y="1219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1753560" y="299088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ress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515680" y="45720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3276720" y="3352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640080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01992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4D3EBBB-0118-443D-9EFC-A4D28FEC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ctions of 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ialization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allows the loop to initialize its own contro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st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acts in the same manner as the condition section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date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the last thing to execute at the end of each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UserSquare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5153852-A6B3-4274-94B0-7B375E4F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ization section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s optional; however, it is usually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s initialize a counter variable that will be tested by the test section of the loop and updated by the update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ization section can initialize multipl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 this section have scope only for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0351BD6-C9C3-4AB1-8F2E-4F17E9AF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pdate 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expression is usually used to increment or decrement the counter variable(s) declared in the initialization section of the for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section of the loop executes last in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date section may update multipl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riable updated is executed as if it were on a line b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F31982E-1D63-4528-A1AD-A0E56103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ment and Decre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for Input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otals and Sentine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E86F938-159A-4480-9902-E560B391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ying The Control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avoid updating the control variable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within the body of the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pdate section should be used to update the contro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the control variable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body leads to hard to maintain code and difficult debug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5AC6D3F-E641-43BB-AF2A-1EE4F6AA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Initializations and Up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may initialize and update multipl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i = 5, int j = 0; i &lt; 10 || j &lt; 20; i++, j+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the only part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hat are mandatory are the semi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;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infinit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ft out, the test section defaults to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4D9030F-896B-4D1A-881D-9A639D8F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To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allow the program to keep running totals while evaluat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needing to keep a running total of use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TotalSale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 for Calculating a Running 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74D849A-FF42-47B6-AEBE-7296E3D3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99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B43A897-4510-4DDF-99B5-268EDD3C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tinel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 end point of input data is not kn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o notify the program to stop acqui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a user input, the user could be prompted to input data that is not normally in the input data range (i.e. –1 where normal input would be posi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that get file input typically use the end-of-file marker to stop acquiring inpu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occerPoints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47AC151F-1E5B-4BC7-9CB6-164E1916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, loops can be n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loop is nested, the inner loop will execute all of its iterations for each time the outer loop executes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i = 0; i &lt; 10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nt j = 0; j &lt; 10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 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op statements in this example will execute 100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Clock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4DFC46B-72CE-4A49-B734-C2B12F48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can be used to abnormally terminate a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 loops bypasses the normal mechanisms and makes the code hard to read and main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sidered bad form to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n this ma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33A6307-3E46-49A3-8F63-2278C86D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ill cause the currently executing iteration of a loop to terminate and the next iteration will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ill cause the evaluation of the condition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should be avoided because it makes the code hard to read and de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060A7E4-0CD6-49DA-83F6-EE008EDB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ing Which Loops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you do not want the statements to execute if the condition is false in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you want the statements to execute at least on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where there is some type of counting variable that can be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277915C-B698-4757-9573-339C96D4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Input and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ntering data all the time could get tedious for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can be saved 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can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have to be op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then written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 must be closed prior to program ter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re are two types of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C71A59D-7B41-48EA-8E0F-A90954BF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ing Which Loop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File Input an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8907D4B-FCA8-45E0-93E5-784F593E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Text To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pen a file for text output you create an instance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52280" y="2819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Writer outputFile = new PrintWriter("StudentData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838080" y="4191120"/>
            <a:ext cx="396252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name of the file that you wish to open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rintWriter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2819520" y="3200040"/>
            <a:ext cx="4343040" cy="990720"/>
            <a:chOff x="2819520" y="3200040"/>
            <a:chExt cx="4343040" cy="990720"/>
          </a:xfrm>
        </p:grpSpPr>
        <p:sp>
          <p:nvSpPr>
            <p:cNvPr id="216" name="Line 6"/>
            <p:cNvSpPr/>
            <p:nvPr/>
          </p:nvSpPr>
          <p:spPr>
            <a:xfrm flipV="1">
              <a:off x="2819520" y="38095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2819520" y="3809880"/>
              <a:ext cx="4343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 flipV="1">
              <a:off x="7162560" y="3200040"/>
              <a:ext cx="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 Box 11"/>
          <p:cNvSpPr/>
          <p:nvPr/>
        </p:nvSpPr>
        <p:spPr>
          <a:xfrm>
            <a:off x="5715000" y="4191120"/>
            <a:ext cx="28954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arning: if the file already exists, it will be erased and replaced with a new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598FAFB-BD1C-4404-8D2F-5C4D1440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llows you to write data to a file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, as you have been using to display data on the scre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will place a newline character after the writte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rites data without writing the newline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FEEF68C8-D0EF-4862-B469-18A732B9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219320" y="246708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Writer outputFile = new PrintWriter("Names.tx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Chri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Kathry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println("Jea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File.close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11360" y="1555920"/>
            <a:ext cx="1828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pe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1077840" y="178452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1077840" y="17845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1077840" y="26226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1371600" y="5029200"/>
            <a:ext cx="26668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rite data to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22"/>
          <p:cNvGrpSpPr/>
          <p:nvPr/>
        </p:nvGrpSpPr>
        <p:grpSpPr>
          <a:xfrm>
            <a:off x="1062000" y="2951280"/>
            <a:ext cx="1528920" cy="2077920"/>
            <a:chOff x="1062000" y="2951280"/>
            <a:chExt cx="1528920" cy="2077920"/>
          </a:xfrm>
        </p:grpSpPr>
        <p:grpSp>
          <p:nvGrpSpPr>
            <p:cNvPr id="232" name="Group 19"/>
            <p:cNvGrpSpPr/>
            <p:nvPr/>
          </p:nvGrpSpPr>
          <p:grpSpPr>
            <a:xfrm>
              <a:off x="1062000" y="2951280"/>
              <a:ext cx="235080" cy="1544400"/>
              <a:chOff x="1062000" y="2951280"/>
              <a:chExt cx="235080" cy="1544400"/>
            </a:xfrm>
          </p:grpSpPr>
          <p:sp>
            <p:nvSpPr>
              <p:cNvPr id="233" name="Line 14"/>
              <p:cNvSpPr/>
              <p:nvPr/>
            </p:nvSpPr>
            <p:spPr>
              <a:xfrm>
                <a:off x="1068480" y="295128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>
                <a:off x="1068480" y="323676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1068480" y="3468600"/>
                <a:ext cx="228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18"/>
              <p:cNvSpPr/>
              <p:nvPr/>
            </p:nvSpPr>
            <p:spPr>
              <a:xfrm>
                <a:off x="1062000" y="2952720"/>
                <a:ext cx="4680" cy="1542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Line 20"/>
            <p:cNvSpPr/>
            <p:nvPr/>
          </p:nvSpPr>
          <p:spPr>
            <a:xfrm>
              <a:off x="1066680" y="4495680"/>
              <a:ext cx="1524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2590920" y="4495680"/>
              <a:ext cx="0" cy="53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4648320" y="4267080"/>
            <a:ext cx="19047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lose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6"/>
          <p:cNvGrpSpPr/>
          <p:nvPr/>
        </p:nvGrpSpPr>
        <p:grpSpPr>
          <a:xfrm>
            <a:off x="3962160" y="3809880"/>
            <a:ext cx="1600560" cy="457200"/>
            <a:chOff x="3962160" y="3809880"/>
            <a:chExt cx="1600560" cy="457200"/>
          </a:xfrm>
        </p:grpSpPr>
        <p:sp>
          <p:nvSpPr>
            <p:cNvPr id="241" name="Line 24"/>
            <p:cNvSpPr/>
            <p:nvPr/>
          </p:nvSpPr>
          <p:spPr>
            <a:xfrm flipV="1">
              <a:off x="5562720" y="380988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5"/>
            <p:cNvSpPr/>
            <p:nvPr/>
          </p:nvSpPr>
          <p:spPr>
            <a:xfrm flipH="1">
              <a:off x="3962160" y="3809880"/>
              <a:ext cx="1600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25D5EAA-532E-4653-BE2C-7AD8D134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put the follow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at the top of the source fil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FileWrite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414BF7D1-3642-4B89-9F74-F7ACF343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mething unexpected happens in a Java program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 that is executing when the exception is thrown must either handle the exception or pass it up the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the exception will be discussed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ass it up the line, the method need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 the method h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1580DDB-180D-4DF2-A925-5339E82D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in a method header, simply add the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name of the expected ex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can throw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wri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like th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IOException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1EC2921-1A83-45D9-ABCD-278E19A8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ng Text to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void erasing a file that already exists,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n this manner: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Writer fw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new FileWriter("names.txt", tru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Wr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n this mann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fw = new PrintWriter(f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8099EDA-2981-4F8A-9E0B-87C3864D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ying a Fil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 Windows computer, paths contain backslash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aract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if the backslash is used in a string literal, it is the escape character so you must use two of th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Fil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PrintWriter("A:\\PriceList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B2ED422-5D9F-4F46-8E21-5F626662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ying a Fil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ly necessary if the backslash is in a string lit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backslash is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then it will be handled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ately, Java allows Unix style filenames using the forward slash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separate direct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outFile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("/home/rharrison/name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F336596-376F-44A0-91FC-3F6ABAD0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use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and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o read data from a 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85800" y="40384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myFile = new File("Customers.tx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myFile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62720" y="2590920"/>
            <a:ext cx="342900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name of the file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lass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914400" y="5029200"/>
            <a:ext cx="342900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ss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object as an argument to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class constru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5257440" y="3048120"/>
            <a:ext cx="304920" cy="990360"/>
            <a:chOff x="5257440" y="3048120"/>
            <a:chExt cx="304920" cy="990360"/>
          </a:xfrm>
        </p:grpSpPr>
        <p:sp>
          <p:nvSpPr>
            <p:cNvPr id="268" name="Line 8"/>
            <p:cNvSpPr/>
            <p:nvPr/>
          </p:nvSpPr>
          <p:spPr>
            <a:xfrm flipH="1">
              <a:off x="5257440" y="304812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9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Line 11"/>
          <p:cNvSpPr/>
          <p:nvPr/>
        </p:nvSpPr>
        <p:spPr>
          <a:xfrm>
            <a:off x="4343400" y="55627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 flipV="1">
            <a:off x="6019920" y="472392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233A77A-3306-4B0D-B9F4-F761B418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crement and Decre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umerous times where a variable must simply be incremented or decr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number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= number –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 shortened ways to increment and decrement a variable’s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ary operators, this task can be completed quick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++;  or  ++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--;  or  --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IncrementDecreme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691C5AC-6C42-4305-80FD-B24BD56A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ner keyboard = new Scanner(System.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"Enter the filename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filename = keyboard.next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 file = new File(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ner inputFile = new Scanner(file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s ab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read from the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pt the user for a 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the filename from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represent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 instance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hat reads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494D6D4-3E2A-4E02-8154-FDABA9EC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Data From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n instanc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, data can be read using the same methods that you have used to read keyboard inpu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57200" y="32194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Open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 file = new File("Names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Read a line from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 = inputFile.next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Clos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File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9C6892F-87D1-4D77-97BC-DD24FF1C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an throw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is passed to its constru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e put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 the header of the method that instantiat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ReadFirstLin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149DCE3-DF77-4DB1-A7B6-6CF0FA91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ng The End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asNex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will return true if another item can be read from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pe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 file = new File(file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inputFile = new Scanner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Read until the end of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putFile.hasNex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tr = inputFile.next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putFile.close();// close the file when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0978F08-B9D8-4717-930E-E4EB7B06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ng the End 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FileReadDemo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2F25D19-7B3C-40BD-B8B8-29E93865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pplications, such as games and simulations, require the use of randomly generated numb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API has a clas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this purpose.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use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and create an instance of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 randomNumbers = new Rando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5F61CDE-49A2-49CB-BB3F-69BEB23B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Methods of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3520" y="1600200"/>
          <a:ext cx="8001000" cy="419112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he next random number a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dou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 The number will be within the range of 0.0 and 1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extFloa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he next random number a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 The number will be within the range of 0.0 and 1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turns the next random number as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 The number will be within the range of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which is –2,147,483,648 to +2,147,483,6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extInt(int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is method accepts an integer argument, n.  It returns a random number as a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  The number will be within the range of 0 to 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23"/>
          <p:cNvSpPr/>
          <p:nvPr/>
        </p:nvSpPr>
        <p:spPr>
          <a:xfrm>
            <a:off x="60948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 MathTuto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0C7551C-0E71-4C37-9275-4AE11536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ces Between Prefix and Postf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crement or decrement are the only operations in a statement, there is no difference between prefix and post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d in a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notation indicates that the variable will be incremented or decremented prior to the rest of the equation being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fix notation indicates that the variable will be incremented or decremented after the rest of the equation has been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refix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402076E8-3214-40BE-9BD2-45FD3C6F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vides three different looping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has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he condition is true, the statements will execute repeate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, which means that it will test the value of the condition prior to executing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F29B52B-DBBD-4CD5-BD7E-E257A7BF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 must be taken to set the condition to false somewhere in the loop so the loop will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that do not end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inite lo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executes 0 or more times. If the condition is false, the loop will not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WhileLoop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49848D1-9E0B-478D-8879-7872104F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op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2963520" y="1230480"/>
            <a:ext cx="4580280" cy="4408200"/>
            <a:chOff x="2963520" y="1230480"/>
            <a:chExt cx="4580280" cy="4408200"/>
          </a:xfrm>
        </p:grpSpPr>
        <p:sp>
          <p:nvSpPr>
            <p:cNvPr id="115" name="Rectangle 5"/>
            <p:cNvSpPr/>
            <p:nvPr/>
          </p:nvSpPr>
          <p:spPr>
            <a:xfrm rot="2701200">
              <a:off x="3200040" y="2743200"/>
              <a:ext cx="11430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5638680" y="3124080"/>
              <a:ext cx="190512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ment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4801680" y="28195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3809880" y="4191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AutoShape 10"/>
            <p:cNvCxnSpPr/>
            <p:nvPr/>
          </p:nvCxnSpPr>
          <p:spPr>
            <a:xfrm rot="10800000">
              <a:off x="3885480" y="1599480"/>
              <a:ext cx="2705760" cy="1524600"/>
            </a:xfrm>
            <a:prstGeom prst="bentConnector3">
              <a:avLst>
                <a:gd name="adj1" fmla="val 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Line 11"/>
            <p:cNvSpPr/>
            <p:nvPr/>
          </p:nvSpPr>
          <p:spPr>
            <a:xfrm>
              <a:off x="3755880" y="1230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3125160" y="299088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ress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3887280" y="45720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464832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B88ACFC-9741-403E-A66E-5F3DE574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fo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to end, the condition must become false. The following loop will not 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x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is greater than 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ver gets decremented so it will always be greater than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he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x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ve fixes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4:44:15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42:26Z</dcterms:modified>
  <cp:revision>51</cp:revision>
  <dc:subject>Loops and Files</dc:subject>
  <dc:title>Chapter 4</dc:title>
</cp:coreProperties>
</file>