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DDD-73FF-410F-8EA4-8F0C5697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AB75-64FD-4009-A88D-0D062A23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6BA-E8D1-4C8C-9DA8-C965BB141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B37E-CCA7-41B3-8E82-C8B93FE9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009F-25B8-4B85-8788-AFFE5063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AC2-5A65-439E-B2A9-4B0C179C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03E-C15A-4787-AFC7-7888E5BC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182-BF7C-4622-BBB6-F6ADFC71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FD56-E07A-4F9D-A65B-8E60B7A8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FA6-415C-4807-8240-55293375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B17-C3AA-4519-BFD7-B85ABFBE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2A8-7C45-4090-AD55-64FB46D2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283-5E5C-42DF-BAC7-D1F54619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50B-9C83-4FA2-9163-44826D74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DC4-F93B-4EA6-8C9A-551E538E5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12E-3F36-4CE4-B4D2-9ADE7FF9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6E48-18EB-49AF-9808-A183EA4D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5F9-CB4F-4E3E-BCF4-C3630D73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63CF-B8F4-4CCA-AB1F-1F7872B0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F3B5-93E0-4B74-8E8A-D4335A08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4D3-043A-4636-BBA0-9F23C272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66D-585E-4D92-BAFC-9D06F901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541-5199-4E67-BF47-667B9894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55C-7506-4BE5-961A-3C1400DD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968B-6F0B-4F3C-A729-A13E13F1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9B5-B054-45B0-90FE-897117E9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471-EB40-487A-80D7-B65E2348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FB70-C58F-416F-AC4C-A392136F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78B-2378-46C5-A0B5-BFED42CB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0CB4-9AB6-4AFF-8C6D-03A09572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CA8-6296-4CED-9523-C20B58BA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A59F-35F7-4BAB-959F-44A66F3EC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C5C3-8FEA-48E9-A715-EF533160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B517-358B-4C0D-A36D-FF71DBB9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9147-649E-46F5-8B6B-CA88581A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4A7-B3F1-4B2A-9E06-A0040E133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498-E599-4CD7-A135-28FCBEB5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9F4-979A-474F-BEA0-536F73C0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430-5F2F-4867-B815-7A84355FE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7668-06F7-4C4C-A092-4F5CE9131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C75D-CC1B-481C-922E-6BA856BE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02C6-0731-4882-A38E-C9EEA0B3E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C3B-E576-46A2-98BB-847B417B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890-C5E6-4242-88B4-E09CBD38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9AC-7110-4C17-9BF9-1E61A55D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893-C527-4D96-93CB-F7A97E380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8153-3D6F-4E30-AA30-C94DE4FF7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2719-5623-4F0A-8FC7-4D5666D9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013-BB02-4300-B54E-E81EBCBBD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F8E-F730-4CE3-8B75-EA35C4EC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F8B-4DF7-457E-9502-86AEC50D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146F-AC3C-47E1-A8E0-65E1DF45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DB80-0A3F-44F9-B173-10143284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3CA-6011-41E3-94E1-0A93870B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3EF-B947-43C2-9A7A-7B9F92F6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9392-1936-4FB6-88BB-E113554C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3A1-7A88-493B-ADA3-93223063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B38-F781-402C-AF2B-28D05F7CE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ECD-8743-4328-8460-C3E298335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719-9F54-436D-9AFF-FF07CCF9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EB2-101B-4140-AB97-09987395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400E-52D5-49DF-A097-391B027A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AEE-39B1-4A76-AB4A-EE19CC853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E86D-960A-4FDD-8909-BC920972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AB85-484D-482D-9035-4AC7321F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B51-4231-45C0-AE9B-3C9752362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158-12D0-43BE-9140-6ED961FC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8BA-062E-462D-89F9-D6DFA108C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132-C0E8-4608-8719-8AC1E0D4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C8E-F5B3-48BD-B313-D8AD1F97C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8D33-E1DB-41A1-B83F-F5B7601A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22D-FE90-479E-96D6-DDE68C99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C625-8C26-4460-98CE-12D371B2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F28-6FCB-46A1-9239-EFE204879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9FB-44EC-40BA-AA9B-D36A7174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BD51-7138-45BC-AC30-65015162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171B-81C5-434B-913F-4B21747C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759-83B1-4BEC-87F2-A88E506A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229-5686-4134-A29E-AD987BA4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5A57-C402-4384-8E7C-9353DFDB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9B5-D020-451F-AF51-219C01D9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D5B7-5152-47E0-9AC9-DD8D9133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743D-D12F-4593-8C34-5F6C064F4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FD2-A8B5-4769-B123-F0FAF34F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C7F2-D8D0-484B-8129-70A900B1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F7E-FD50-49BD-8BD5-F4EBAA6B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1FE-67C2-4088-BAEE-B091CDAD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E3C5-F993-48B0-8D43-F8CEABA3F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915B-BE95-4E2E-9B26-1D72F125A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1BDD-3BD2-4686-949D-279237D40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5576-FCEF-48B0-9000-C887AE22A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E0F2-FC22-43CB-A615-DD9196729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E2E4-3975-412D-8FAE-0D5AD2097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4A7A-B72D-438F-9BDD-2D8E519B5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1DD5-3A88-4612-AB56-7BB91C608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B46A-AE67-4027-BA0B-42CED067C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E68-8277-442C-82E4-6C3A2C65F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CB13-2703-42D1-AAF7-7713F6A88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7F9C-74FA-4ADD-9CEC-D0ADCB23D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F0355DAB-1A21-46E9-9E48-D3E6AC18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12E21A9-FBD0-4509-9D6A-1E98DC53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ine must be exactly as shown in the example (excep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name can be programmer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line of code th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will run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tarts th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Jav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ogram runs, the statements with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ll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872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what the line in the example will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CC8E805-7D42-4207-BDAC-595BB4C2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look back at the previous example, we can see that there is only one line that ends with a semi-col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it is the only Java statement in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of the code is either a comment or other Java framework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5FE2368-C211-4044-BC6D-5412E49C9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are ignored by the Java compiler so they need no semi-col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Java code elements that do not need semi col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d by the code within its curly br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framework code that needs no semi-colon ter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30884DD-BFD7-44AA-B4A9-5E0D52AC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case-sensitive langu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ava programs must be stored in a file with a .java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.java file may contain many classes but may only have one public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.java file has a public class, the class must have the same name as th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2981C68-B89B-4C22-89B8-7B23FCE6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pplications must hav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left brace, or opening brace, there must be a corresponding right brace, or closing br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s are terminated with semicol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, class headers, method headers, and  braces are not considered Java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89461FA-FED3-4B7C-A804-AFA8E24A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601640"/>
          <a:ext cx="8001000" cy="4494240"/>
        </p:xfrm>
        <a:graphic>
          <a:graphicData uri="http://schemas.openxmlformats.org/drawingml/2006/table">
            <a:tbl>
              <a:tblPr/>
              <a:tblGrid>
                <a:gridCol w="1752480"/>
                <a:gridCol w="2743200"/>
                <a:gridCol w="350532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/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 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ks the beginning of a single line com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n and close 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sed in a method header to mark the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arameter lis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{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n and close curly br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loses a group of statements, such as the contents of a class or a meth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 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otation 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loses a string of characters, such as a message that is to be printed on the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mi-co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ks the end of a complete programming sta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97EBB22-B72B-4C15-B2CB-1B9D481C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programs that you will write will run in a consol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07E59EA-3374-45AE-A603-6181D7BC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ole window that starts a Java application is typically known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out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vice is typically the key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nds information to the standard output device by using a Java class stored in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8E7FAE8-F526-478F-9440-4C8C1C16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lasses in the standard Java library are accessed using the Java Applications Programming Interface (A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Java library is commonly referred to 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A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6253C06-0934-4E44-A71F-16867AA6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vious example uses 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ine use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from the standard Java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ethods and objects that perform system level task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, a member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, contains the method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0E1A6C2-C3FA-4427-B910-280D4D35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s of a Jav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, and the Java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nd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10B1B19-12B6-4E41-A2D0-AB9C8D83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actually perform the task of sending characters to the output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rogramming is great fun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onounced: System dot out dot printl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inside the parenthesis will be sent to the output device (in this case, a st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D997EEE-F461-4447-A3AE-1D2F2546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places a newline character at the end of whatever is being print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l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is being printed out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 two separate lines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printed out on separate lines since the first statement sends a newline command to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511AFD6-5DAB-4368-9C6B-C6EFCDAF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orks very similarly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does not put a newline character at the end of th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lines will b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ed o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 same lin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output: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se lines will beprinted onthe sam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odd spacing?  Why are some words run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DC05FB8-37BF-48CA-81B0-5717A4D3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of the previous examples, we have been printing out string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, we will see that much more can be pri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special characters that can be put into the output.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his line will have a newline at the end.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tring is an escape sequence that represents the newlin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sequences allow the programmer to print characters that otherwise would be unpri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5F11D7C-9F8B-4D07-9FCD-9CCD9F16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2040" y="1600200"/>
          <a:ext cx="8294760" cy="4613400"/>
        </p:xfrm>
        <a:graphic>
          <a:graphicData uri="http://schemas.openxmlformats.org/drawingml/2006/table">
            <a:tbl>
              <a:tblPr/>
              <a:tblGrid>
                <a:gridCol w="650880"/>
                <a:gridCol w="1625760"/>
                <a:gridCol w="601812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w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vances the cursor to the next line for subsequent pri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skip over to the next tab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ck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back up, or move left, on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riage re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the cursor to go to the beginning of the current line, not the nex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cks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backslash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ng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sing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\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 qu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uses a double quotation mark to be 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56831C0-35FD-4787-95DF-F7804B29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Escape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the escape sequences are comprised of two characters, they are treated by the compiler as a singl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hese are our top sellers: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\tComputer games\n\tCoffee\n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\tAspir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result in the following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se are our top sel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r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p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se escape sequences, complex text output can be achie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358705C-F052-45C3-9CAD-BB517F35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a named storage location in the computer’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eral is a value that is written into the code of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etermine the number and type of  variables a program will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example: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F599674-61BE-4992-82D8-636E1A76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s and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743840" y="1398600"/>
            <a:ext cx="2509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ine is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t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86680" y="1422360"/>
            <a:ext cx="3137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line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assignment  st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value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30760" y="5029200"/>
            <a:ext cx="4326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"The value is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2514240" y="4395960"/>
            <a:ext cx="5999040" cy="633240"/>
            <a:chOff x="2514240" y="4395960"/>
            <a:chExt cx="5999040" cy="633240"/>
          </a:xfrm>
        </p:grpSpPr>
        <p:cxnSp>
          <p:nvCxnSpPr>
            <p:cNvPr id="201" name="AutoShape 32"/>
            <p:cNvCxnSpPr>
              <a:stCxn id="202" idx="1"/>
            </p:cNvCxnSpPr>
            <p:nvPr/>
          </p:nvCxnSpPr>
          <p:spPr>
            <a:xfrm flipV="1" rot="10800000">
              <a:off x="3276000" y="4607280"/>
              <a:ext cx="457920" cy="273960"/>
            </a:xfrm>
            <a:prstGeom prst="bentConnector3">
              <a:avLst>
                <a:gd name="adj1" fmla="val 10102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Text Box 33"/>
            <p:cNvSpPr/>
            <p:nvPr/>
          </p:nvSpPr>
          <p:spPr>
            <a:xfrm>
              <a:off x="3734280" y="4395960"/>
              <a:ext cx="477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is is a string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iter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It will be printed 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as i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34"/>
            <p:cNvSpPr/>
            <p:nvPr/>
          </p:nvSpPr>
          <p:spPr>
            <a:xfrm rot="5400000">
              <a:off x="3200040" y="4191120"/>
              <a:ext cx="152280" cy="1523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2666880" y="5157720"/>
            <a:ext cx="4821480" cy="1008720"/>
            <a:chOff x="2666880" y="5157720"/>
            <a:chExt cx="4821480" cy="1008720"/>
          </a:xfrm>
        </p:grpSpPr>
        <p:sp>
          <p:nvSpPr>
            <p:cNvPr id="205" name="AutoShape 35"/>
            <p:cNvSpPr/>
            <p:nvPr/>
          </p:nvSpPr>
          <p:spPr>
            <a:xfrm flipV="1" rot="16200000">
              <a:off x="2819160" y="5485320"/>
              <a:ext cx="228600" cy="53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14"/>
                  </a:lnTo>
                  <a:cubicBezTo>
                    <a:pt x="10800" y="9514"/>
                    <a:pt x="5400" y="10414"/>
                    <a:pt x="0" y="10414"/>
                  </a:cubicBezTo>
                  <a:cubicBezTo>
                    <a:pt x="5400" y="10414"/>
                    <a:pt x="10800" y="11314"/>
                    <a:pt x="10800" y="1221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6"/>
            <p:cNvSpPr/>
            <p:nvPr/>
          </p:nvSpPr>
          <p:spPr>
            <a:xfrm>
              <a:off x="4878360" y="5157720"/>
              <a:ext cx="2610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integer 5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 printed out he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tice no quote mark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AutoShape 37"/>
            <p:cNvCxnSpPr>
              <a:stCxn id="206" idx="1"/>
              <a:endCxn id="205" idx="1"/>
            </p:cNvCxnSpPr>
            <p:nvPr/>
          </p:nvCxnSpPr>
          <p:spPr>
            <a:xfrm flipV="1" rot="10800000">
              <a:off x="2931480" y="5644080"/>
              <a:ext cx="1945440" cy="222840"/>
            </a:xfrm>
            <a:prstGeom prst="bentConnector4">
              <a:avLst>
                <a:gd name="adj1" fmla="val 43087"/>
                <a:gd name="adj2" fmla="val 2027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28"/>
          <p:cNvGrpSpPr/>
          <p:nvPr/>
        </p:nvGrpSpPr>
        <p:grpSpPr>
          <a:xfrm>
            <a:off x="2439720" y="2538360"/>
            <a:ext cx="2970360" cy="1602720"/>
            <a:chOff x="2439720" y="2538360"/>
            <a:chExt cx="2970360" cy="1602720"/>
          </a:xfrm>
        </p:grpSpPr>
        <p:sp>
          <p:nvSpPr>
            <p:cNvPr id="209" name="Rectangle 4"/>
            <p:cNvSpPr/>
            <p:nvPr/>
          </p:nvSpPr>
          <p:spPr>
            <a:xfrm>
              <a:off x="3429000" y="2614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3429000" y="299556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3429000" y="337644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3429000" y="375768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2439720" y="2538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2439720" y="29192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2439720" y="3300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2439720" y="36813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2"/>
            <p:cNvSpPr/>
            <p:nvPr/>
          </p:nvSpPr>
          <p:spPr>
            <a:xfrm>
              <a:off x="4268880" y="299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38"/>
          <p:cNvSpPr/>
          <p:nvPr/>
        </p:nvSpPr>
        <p:spPr>
          <a:xfrm>
            <a:off x="6557040" y="2666880"/>
            <a:ext cx="1384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tor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5334120" y="30481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6B9A1A7-96B9-4014-A954-3DD17069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+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+ operator can be used in two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concatena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addition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either side of the + operator is a string, the result will be a st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" + "Worl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value is: " + ‘/n’ +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72DE5D2-24F4-4C47-822A-EC4D6FA23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commands that have string literals must be treated wi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ing literal value cannot span lines in a Java source co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is line is too long and now it has spanned more than one line, which will cause a syntax error to be generated by the compiler.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632BB02-A499-4EC9-B7D7-F047F14E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named constants with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or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115A85F-401D-4C7C-B839-48823EA61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concatenation operator can be used to fix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hese lines are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re now ok and will not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cause the error as before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concatenation can join various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e can join a string to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a number like this: " +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C447F26-EADC-4737-834B-596EF766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ncatenation operator can be used to format complex String obje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following will be printed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n a tabbed format: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n\tFirst = " + 5 * 6 + ", 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Second = " (6 + 4) + ","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\tThird = " + 16.7 + ".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 that if an addition operation is also needed, it must be put in paren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634F4BA-A8A3-4BCE-9AC6-0AE624BC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are programmer-defined nam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ay not be any of the Java reserved key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97FD40D-3CA6-42C4-9859-E9128048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must follow certain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ntifier may onl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a–z or A–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gits 0–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cores (_)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llar sign (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haracter may not be a dig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are case 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sOrd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the same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msor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cannot include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19B922E-AB37-47C5-9B2D-A864CE9E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8080" y="1295280"/>
            <a:ext cx="73152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Reserved Key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720" y="1395360"/>
            <a:ext cx="1238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669040" y="1395360"/>
            <a:ext cx="160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496040" y="1395360"/>
            <a:ext cx="1456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c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174000" y="1395360"/>
            <a:ext cx="182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f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F87E65C-AC49-4A90-B89F-BEF5194A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should be descrip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names allow the code to be more readable; therefore, the code is more maintai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more descrip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t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salesTaxR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.07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f-docume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9ABFC06-037A-46E7-B0CA-4316BB5B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 should begin with a lower case letter and then switch to title case thereaf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caTax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names should be all titl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Big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Java naming conventions can be foun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java.sun.com/docs/codeconv/html/CodeConventions.doc8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 rule of thumb about naming variables and classes are that, with some exceptions, their names tend to be nouns or noun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393D551-802F-4BDA-95EC-8E42D6B3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5560" y="3336840"/>
            <a:ext cx="4066920" cy="184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3480" y="3336480"/>
            <a:ext cx="4065480" cy="1770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57200" y="1600200"/>
            <a:ext cx="77882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s are built into the Java language and are not derived from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8 Java primitive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F6272AE-1EBA-4F31-AD98-BA27E8D3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371600"/>
          <a:ext cx="8381880" cy="4699080"/>
        </p:xfrm>
        <a:graphic>
          <a:graphicData uri="http://schemas.openxmlformats.org/drawingml/2006/table">
            <a:tbl>
              <a:tblPr/>
              <a:tblGrid>
                <a:gridCol w="990720"/>
                <a:gridCol w="915840"/>
                <a:gridCol w="64753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1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32,7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32,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2,147,483,6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2,147,483,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gers in the range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-9,223,372,036,854,775,8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+9,223,372,036,854,775,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3.410-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3.410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7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ating-point numbers in the range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1.710-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o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±1.71030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with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Arial"/>
                        </a:rPr>
                        <a:t>15 digits of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9E73828-480A-440B-97CC-480B0218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Declarations take the following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Type Variable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 inc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 mon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spe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timeSt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salesCommi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020BA3A-B03C-4C5F-9DBD-48BE82EF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ava source code file contains one or more Java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ore than one class is in a source code file, only one of them may be pub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c class and the filename of the source code file must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A class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in a file nam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p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ava class can be separated into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D88D669-D2A6-4530-ABCC-0985987F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ll integer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hold whole numbers such as 5, 10, 23, 89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ata types cannot hold numbers that have a decimal point i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 embedded into Java source code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ger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IntegerVariable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C3D7F50-427B-4434-A15F-3CE21E11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Data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that allow fractional value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-point</a:t>
            </a:r>
            <a:r>
              <a:rPr b="0" i="1" lang="en-US" sz="3200" spc="-1" strike="noStrike">
                <a:solidFill>
                  <a:srgbClr val="000000"/>
                </a:solidFill>
                <a:latin typeface="Minion-Ital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and -45.316 are floating-point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Java there are two data types that can represent floating-poin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uble prec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5 decimal poi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96F7316-B0B3-49BC-B3D3-67F9E36D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loating point numbers are embedded into Java source code they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ating point lite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type for floating point literals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.75, 1.76, and 31.51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ongly-typ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a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28D74AD-5218-4AFA-8116-AA4E97B8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not compatible with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because of its size and pr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; //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forc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ppending the letter F or f to the lit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= 23.5F; // This wil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CE2BFFB-5CE6-4508-865F-DF10B43A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s cannot contain embedded currency symbols or com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$1,257.00; // 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ossPay = 1257.00;   //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literals can be represen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,281.97  ==  4.72819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no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present values in scientific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72819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4.728197E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5238A65-634D-48F6-8CF5-0F0D64D5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 and E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04920" y="1895400"/>
          <a:ext cx="8294400" cy="2970360"/>
        </p:xfrm>
        <a:graphic>
          <a:graphicData uri="http://schemas.openxmlformats.org/drawingml/2006/table">
            <a:tbl>
              <a:tblPr/>
              <a:tblGrid>
                <a:gridCol w="2765160"/>
                <a:gridCol w="2764080"/>
                <a:gridCol w="2765160"/>
              </a:tblGrid>
              <a:tr h="67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Decimal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Scientific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E N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7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479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4791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0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E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 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Universal-GreekwithMathPi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E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32"/>
          <p:cNvSpPr/>
          <p:nvPr/>
        </p:nvSpPr>
        <p:spPr>
          <a:xfrm>
            <a:off x="690120" y="533412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unFact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A9BC7CD-6034-4564-8775-9470E34C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type can have two possibl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may only be copied into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TrueFals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137F5D1-E856-44DA-A82E-344855AD4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 provides access to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are enclosed in single quote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, ‘Z’, ‘\n’, ‘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nf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terals with string lite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terals are enclosed in sing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literals are enclosed in doubl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Letter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6B3EFAF-9143-4E8F-BDD2-1CDD1905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, characters are stored a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data in Java is stored as Unicod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code character set can consist of 65536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dividu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ach character takes up 2 bytes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256 characters in the Unicode character set are compatible with the ASCII* character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Letters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*American Standard Code for Information Inter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6C76BFB-6F5E-4FC7-B00B-9C36C37E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294" name="Rectangle 5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Line 7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9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299" name="Rectangle 10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Line 12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18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303" name="Rectangle 19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0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1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2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3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4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5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6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312" name="Rectangle 28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9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0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2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33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34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35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6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321" name="Group 37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322" name="Rectangle 38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39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40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41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42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43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44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45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46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331" name="Rectangle 47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48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49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50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51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52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53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54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AutoShape 74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6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96C0277-B892-45B2-B234-F3C93FB8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imple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ile the 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c Simp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 extension i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result in a fi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un the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re is no file extension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assumes the exten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6D00790-EC17-4093-B078-B160EDA9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345" name="Rectangle 5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Line 7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9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350" name="Rectangle 10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1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Line 12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8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354" name="Rectangle 19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1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2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3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4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26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363" name="Rectangle 28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30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31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34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35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36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372" name="Group 37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373" name="Rectangle 38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39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40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41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42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43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44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45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46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382" name="Rectangle 47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48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9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50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51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52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53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54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AutoShape 74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76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8"/>
          <p:cNvGrpSpPr/>
          <p:nvPr/>
        </p:nvGrpSpPr>
        <p:grpSpPr>
          <a:xfrm>
            <a:off x="2590920" y="1523880"/>
            <a:ext cx="3962160" cy="2590920"/>
            <a:chOff x="2590920" y="1523880"/>
            <a:chExt cx="3962160" cy="2590920"/>
          </a:xfrm>
        </p:grpSpPr>
        <p:sp>
          <p:nvSpPr>
            <p:cNvPr id="393" name="Text Box 80"/>
            <p:cNvSpPr/>
            <p:nvPr/>
          </p:nvSpPr>
          <p:spPr>
            <a:xfrm>
              <a:off x="3582720" y="1523880"/>
              <a:ext cx="20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stored in 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as binary numb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83"/>
            <p:cNvSpPr/>
            <p:nvPr/>
          </p:nvSpPr>
          <p:spPr>
            <a:xfrm>
              <a:off x="4572000" y="2514600"/>
              <a:ext cx="0" cy="16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4"/>
            <p:cNvSpPr/>
            <p:nvPr/>
          </p:nvSpPr>
          <p:spPr>
            <a:xfrm>
              <a:off x="2590920" y="4114800"/>
              <a:ext cx="3962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23E29EE-ADF8-4B88-B46A-C0B42077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8108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1600200" y="3200400"/>
            <a:ext cx="1676520" cy="761760"/>
            <a:chOff x="1600200" y="3200400"/>
            <a:chExt cx="1676520" cy="761760"/>
          </a:xfrm>
        </p:grpSpPr>
        <p:sp>
          <p:nvSpPr>
            <p:cNvPr id="400" name="Rectangle 5"/>
            <p:cNvSpPr/>
            <p:nvPr/>
          </p:nvSpPr>
          <p:spPr>
            <a:xfrm>
              <a:off x="160020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6"/>
            <p:cNvSpPr/>
            <p:nvPr/>
          </p:nvSpPr>
          <p:spPr>
            <a:xfrm>
              <a:off x="243864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Line 7"/>
          <p:cNvSpPr/>
          <p:nvPr/>
        </p:nvSpPr>
        <p:spPr>
          <a:xfrm>
            <a:off x="243828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6248520" y="160020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5867280" y="3200400"/>
            <a:ext cx="1676520" cy="761760"/>
            <a:chOff x="5867280" y="3200400"/>
            <a:chExt cx="1676520" cy="761760"/>
          </a:xfrm>
        </p:grpSpPr>
        <p:sp>
          <p:nvSpPr>
            <p:cNvPr id="405" name="Rectangle 10"/>
            <p:cNvSpPr/>
            <p:nvPr/>
          </p:nvSpPr>
          <p:spPr>
            <a:xfrm>
              <a:off x="5867280" y="320040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6705360" y="320040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Line 12"/>
          <p:cNvSpPr/>
          <p:nvPr/>
        </p:nvSpPr>
        <p:spPr>
          <a:xfrm>
            <a:off x="6705720" y="2362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8"/>
          <p:cNvGrpSpPr/>
          <p:nvPr/>
        </p:nvGrpSpPr>
        <p:grpSpPr>
          <a:xfrm>
            <a:off x="609480" y="4724280"/>
            <a:ext cx="1828800" cy="380880"/>
            <a:chOff x="609480" y="4724280"/>
            <a:chExt cx="1828800" cy="380880"/>
          </a:xfrm>
        </p:grpSpPr>
        <p:sp>
          <p:nvSpPr>
            <p:cNvPr id="409" name="Rectangle 19"/>
            <p:cNvSpPr/>
            <p:nvPr/>
          </p:nvSpPr>
          <p:spPr>
            <a:xfrm>
              <a:off x="609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0"/>
            <p:cNvSpPr/>
            <p:nvPr/>
          </p:nvSpPr>
          <p:spPr>
            <a:xfrm>
              <a:off x="838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1"/>
            <p:cNvSpPr/>
            <p:nvPr/>
          </p:nvSpPr>
          <p:spPr>
            <a:xfrm>
              <a:off x="1066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2"/>
            <p:cNvSpPr/>
            <p:nvPr/>
          </p:nvSpPr>
          <p:spPr>
            <a:xfrm>
              <a:off x="1295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3"/>
            <p:cNvSpPr/>
            <p:nvPr/>
          </p:nvSpPr>
          <p:spPr>
            <a:xfrm>
              <a:off x="1523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4"/>
            <p:cNvSpPr/>
            <p:nvPr/>
          </p:nvSpPr>
          <p:spPr>
            <a:xfrm>
              <a:off x="1752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5"/>
            <p:cNvSpPr/>
            <p:nvPr/>
          </p:nvSpPr>
          <p:spPr>
            <a:xfrm>
              <a:off x="1981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6"/>
            <p:cNvSpPr/>
            <p:nvPr/>
          </p:nvSpPr>
          <p:spPr>
            <a:xfrm>
              <a:off x="2209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27"/>
          <p:cNvGrpSpPr/>
          <p:nvPr/>
        </p:nvGrpSpPr>
        <p:grpSpPr>
          <a:xfrm>
            <a:off x="2438280" y="4724280"/>
            <a:ext cx="1828800" cy="380880"/>
            <a:chOff x="2438280" y="4724280"/>
            <a:chExt cx="1828800" cy="380880"/>
          </a:xfrm>
        </p:grpSpPr>
        <p:sp>
          <p:nvSpPr>
            <p:cNvPr id="418" name="Rectangle 28"/>
            <p:cNvSpPr/>
            <p:nvPr/>
          </p:nvSpPr>
          <p:spPr>
            <a:xfrm>
              <a:off x="2438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29"/>
            <p:cNvSpPr/>
            <p:nvPr/>
          </p:nvSpPr>
          <p:spPr>
            <a:xfrm>
              <a:off x="2666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0"/>
            <p:cNvSpPr/>
            <p:nvPr/>
          </p:nvSpPr>
          <p:spPr>
            <a:xfrm>
              <a:off x="2895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1"/>
            <p:cNvSpPr/>
            <p:nvPr/>
          </p:nvSpPr>
          <p:spPr>
            <a:xfrm>
              <a:off x="31240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2"/>
            <p:cNvSpPr/>
            <p:nvPr/>
          </p:nvSpPr>
          <p:spPr>
            <a:xfrm>
              <a:off x="33526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33"/>
            <p:cNvSpPr/>
            <p:nvPr/>
          </p:nvSpPr>
          <p:spPr>
            <a:xfrm>
              <a:off x="35812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34"/>
            <p:cNvSpPr/>
            <p:nvPr/>
          </p:nvSpPr>
          <p:spPr>
            <a:xfrm>
              <a:off x="40384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35"/>
            <p:cNvSpPr/>
            <p:nvPr/>
          </p:nvSpPr>
          <p:spPr>
            <a:xfrm>
              <a:off x="3809880" y="472428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36"/>
          <p:cNvGrpSpPr/>
          <p:nvPr/>
        </p:nvGrpSpPr>
        <p:grpSpPr>
          <a:xfrm>
            <a:off x="4876920" y="4724280"/>
            <a:ext cx="3657600" cy="380880"/>
            <a:chOff x="4876920" y="4724280"/>
            <a:chExt cx="3657600" cy="380880"/>
          </a:xfrm>
        </p:grpSpPr>
        <p:grpSp>
          <p:nvGrpSpPr>
            <p:cNvPr id="427" name="Group 37"/>
            <p:cNvGrpSpPr/>
            <p:nvPr/>
          </p:nvGrpSpPr>
          <p:grpSpPr>
            <a:xfrm>
              <a:off x="4876920" y="4724280"/>
              <a:ext cx="1828800" cy="380880"/>
              <a:chOff x="4876920" y="4724280"/>
              <a:chExt cx="1828800" cy="380880"/>
            </a:xfrm>
          </p:grpSpPr>
          <p:sp>
            <p:nvSpPr>
              <p:cNvPr id="428" name="Rectangle 38"/>
              <p:cNvSpPr/>
              <p:nvPr/>
            </p:nvSpPr>
            <p:spPr>
              <a:xfrm>
                <a:off x="4876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9"/>
              <p:cNvSpPr/>
              <p:nvPr/>
            </p:nvSpPr>
            <p:spPr>
              <a:xfrm>
                <a:off x="5105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0"/>
              <p:cNvSpPr/>
              <p:nvPr/>
            </p:nvSpPr>
            <p:spPr>
              <a:xfrm>
                <a:off x="5334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41"/>
              <p:cNvSpPr/>
              <p:nvPr/>
            </p:nvSpPr>
            <p:spPr>
              <a:xfrm>
                <a:off x="5562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42"/>
              <p:cNvSpPr/>
              <p:nvPr/>
            </p:nvSpPr>
            <p:spPr>
              <a:xfrm>
                <a:off x="5791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3"/>
              <p:cNvSpPr/>
              <p:nvPr/>
            </p:nvSpPr>
            <p:spPr>
              <a:xfrm>
                <a:off x="6019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44"/>
              <p:cNvSpPr/>
              <p:nvPr/>
            </p:nvSpPr>
            <p:spPr>
              <a:xfrm>
                <a:off x="6248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45"/>
              <p:cNvSpPr/>
              <p:nvPr/>
            </p:nvSpPr>
            <p:spPr>
              <a:xfrm>
                <a:off x="6477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6"/>
            <p:cNvGrpSpPr/>
            <p:nvPr/>
          </p:nvGrpSpPr>
          <p:grpSpPr>
            <a:xfrm>
              <a:off x="6705720" y="4724280"/>
              <a:ext cx="1828800" cy="380880"/>
              <a:chOff x="6705720" y="4724280"/>
              <a:chExt cx="1828800" cy="380880"/>
            </a:xfrm>
          </p:grpSpPr>
          <p:sp>
            <p:nvSpPr>
              <p:cNvPr id="437" name="Rectangle 47"/>
              <p:cNvSpPr/>
              <p:nvPr/>
            </p:nvSpPr>
            <p:spPr>
              <a:xfrm>
                <a:off x="6705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8"/>
              <p:cNvSpPr/>
              <p:nvPr/>
            </p:nvSpPr>
            <p:spPr>
              <a:xfrm>
                <a:off x="6934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49"/>
              <p:cNvSpPr/>
              <p:nvPr/>
            </p:nvSpPr>
            <p:spPr>
              <a:xfrm>
                <a:off x="7162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50"/>
              <p:cNvSpPr/>
              <p:nvPr/>
            </p:nvSpPr>
            <p:spPr>
              <a:xfrm>
                <a:off x="73915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51"/>
              <p:cNvSpPr/>
              <p:nvPr/>
            </p:nvSpPr>
            <p:spPr>
              <a:xfrm>
                <a:off x="76201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2"/>
              <p:cNvSpPr/>
              <p:nvPr/>
            </p:nvSpPr>
            <p:spPr>
              <a:xfrm>
                <a:off x="78487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53"/>
              <p:cNvSpPr/>
              <p:nvPr/>
            </p:nvSpPr>
            <p:spPr>
              <a:xfrm>
                <a:off x="83059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54"/>
              <p:cNvSpPr/>
              <p:nvPr/>
            </p:nvSpPr>
            <p:spPr>
              <a:xfrm>
                <a:off x="8077320" y="472428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AutoShape 74"/>
          <p:cNvSpPr/>
          <p:nvPr/>
        </p:nvSpPr>
        <p:spPr>
          <a:xfrm rot="16200000">
            <a:off x="217152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76"/>
          <p:cNvSpPr/>
          <p:nvPr/>
        </p:nvSpPr>
        <p:spPr>
          <a:xfrm rot="16200000">
            <a:off x="6438960" y="255276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85"/>
          <p:cNvGrpSpPr/>
          <p:nvPr/>
        </p:nvGrpSpPr>
        <p:grpSpPr>
          <a:xfrm>
            <a:off x="3352680" y="1600200"/>
            <a:ext cx="2438640" cy="1981080"/>
            <a:chOff x="3352680" y="1600200"/>
            <a:chExt cx="2438640" cy="1981080"/>
          </a:xfrm>
        </p:grpSpPr>
        <p:sp>
          <p:nvSpPr>
            <p:cNvPr id="448" name="Text Box 78"/>
            <p:cNvSpPr/>
            <p:nvPr/>
          </p:nvSpPr>
          <p:spPr>
            <a:xfrm>
              <a:off x="3506760" y="1600200"/>
              <a:ext cx="218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binary nu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decimal valu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2"/>
            <p:cNvSpPr/>
            <p:nvPr/>
          </p:nvSpPr>
          <p:spPr>
            <a:xfrm>
              <a:off x="4572000" y="25146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3"/>
            <p:cNvSpPr/>
            <p:nvPr/>
          </p:nvSpPr>
          <p:spPr>
            <a:xfrm>
              <a:off x="3352680" y="358128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34F5867-BACE-46ED-B876-382508EE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98108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"/>
          <p:cNvGrpSpPr/>
          <p:nvPr/>
        </p:nvGrpSpPr>
        <p:grpSpPr>
          <a:xfrm>
            <a:off x="1600200" y="3276720"/>
            <a:ext cx="1676520" cy="761760"/>
            <a:chOff x="1600200" y="3276720"/>
            <a:chExt cx="1676520" cy="761760"/>
          </a:xfrm>
        </p:grpSpPr>
        <p:sp>
          <p:nvSpPr>
            <p:cNvPr id="455" name="Rectangle 5"/>
            <p:cNvSpPr/>
            <p:nvPr/>
          </p:nvSpPr>
          <p:spPr>
            <a:xfrm>
              <a:off x="160020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6"/>
            <p:cNvSpPr/>
            <p:nvPr/>
          </p:nvSpPr>
          <p:spPr>
            <a:xfrm>
              <a:off x="243864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Line 7"/>
          <p:cNvSpPr/>
          <p:nvPr/>
        </p:nvSpPr>
        <p:spPr>
          <a:xfrm>
            <a:off x="243828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6248520" y="1676520"/>
            <a:ext cx="9144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9"/>
          <p:cNvGrpSpPr/>
          <p:nvPr/>
        </p:nvGrpSpPr>
        <p:grpSpPr>
          <a:xfrm>
            <a:off x="5867280" y="3276720"/>
            <a:ext cx="1676520" cy="761760"/>
            <a:chOff x="5867280" y="3276720"/>
            <a:chExt cx="1676520" cy="761760"/>
          </a:xfrm>
        </p:grpSpPr>
        <p:sp>
          <p:nvSpPr>
            <p:cNvPr id="460" name="Rectangle 10"/>
            <p:cNvSpPr/>
            <p:nvPr/>
          </p:nvSpPr>
          <p:spPr>
            <a:xfrm>
              <a:off x="5867280" y="3276720"/>
              <a:ext cx="83808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1"/>
            <p:cNvSpPr/>
            <p:nvPr/>
          </p:nvSpPr>
          <p:spPr>
            <a:xfrm>
              <a:off x="6705360" y="3276720"/>
              <a:ext cx="838440" cy="761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Line 12"/>
          <p:cNvSpPr/>
          <p:nvPr/>
        </p:nvSpPr>
        <p:spPr>
          <a:xfrm>
            <a:off x="6705720" y="24382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18"/>
          <p:cNvGrpSpPr/>
          <p:nvPr/>
        </p:nvGrpSpPr>
        <p:grpSpPr>
          <a:xfrm>
            <a:off x="609480" y="4800600"/>
            <a:ext cx="1828800" cy="380880"/>
            <a:chOff x="609480" y="4800600"/>
            <a:chExt cx="1828800" cy="380880"/>
          </a:xfrm>
        </p:grpSpPr>
        <p:sp>
          <p:nvSpPr>
            <p:cNvPr id="464" name="Rectangle 19"/>
            <p:cNvSpPr/>
            <p:nvPr/>
          </p:nvSpPr>
          <p:spPr>
            <a:xfrm>
              <a:off x="609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20"/>
            <p:cNvSpPr/>
            <p:nvPr/>
          </p:nvSpPr>
          <p:spPr>
            <a:xfrm>
              <a:off x="838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1066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22"/>
            <p:cNvSpPr/>
            <p:nvPr/>
          </p:nvSpPr>
          <p:spPr>
            <a:xfrm>
              <a:off x="1295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23"/>
            <p:cNvSpPr/>
            <p:nvPr/>
          </p:nvSpPr>
          <p:spPr>
            <a:xfrm>
              <a:off x="1523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24"/>
            <p:cNvSpPr/>
            <p:nvPr/>
          </p:nvSpPr>
          <p:spPr>
            <a:xfrm>
              <a:off x="1752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25"/>
            <p:cNvSpPr/>
            <p:nvPr/>
          </p:nvSpPr>
          <p:spPr>
            <a:xfrm>
              <a:off x="1981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26"/>
            <p:cNvSpPr/>
            <p:nvPr/>
          </p:nvSpPr>
          <p:spPr>
            <a:xfrm>
              <a:off x="2209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27"/>
          <p:cNvGrpSpPr/>
          <p:nvPr/>
        </p:nvGrpSpPr>
        <p:grpSpPr>
          <a:xfrm>
            <a:off x="2438280" y="4800600"/>
            <a:ext cx="1828800" cy="380880"/>
            <a:chOff x="2438280" y="4800600"/>
            <a:chExt cx="1828800" cy="380880"/>
          </a:xfrm>
        </p:grpSpPr>
        <p:sp>
          <p:nvSpPr>
            <p:cNvPr id="473" name="Rectangle 28"/>
            <p:cNvSpPr/>
            <p:nvPr/>
          </p:nvSpPr>
          <p:spPr>
            <a:xfrm>
              <a:off x="2438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29"/>
            <p:cNvSpPr/>
            <p:nvPr/>
          </p:nvSpPr>
          <p:spPr>
            <a:xfrm>
              <a:off x="2666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30"/>
            <p:cNvSpPr/>
            <p:nvPr/>
          </p:nvSpPr>
          <p:spPr>
            <a:xfrm>
              <a:off x="2895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31"/>
            <p:cNvSpPr/>
            <p:nvPr/>
          </p:nvSpPr>
          <p:spPr>
            <a:xfrm>
              <a:off x="31240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32"/>
            <p:cNvSpPr/>
            <p:nvPr/>
          </p:nvSpPr>
          <p:spPr>
            <a:xfrm>
              <a:off x="33526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33"/>
            <p:cNvSpPr/>
            <p:nvPr/>
          </p:nvSpPr>
          <p:spPr>
            <a:xfrm>
              <a:off x="35812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34"/>
            <p:cNvSpPr/>
            <p:nvPr/>
          </p:nvSpPr>
          <p:spPr>
            <a:xfrm>
              <a:off x="40384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5"/>
            <p:cNvSpPr/>
            <p:nvPr/>
          </p:nvSpPr>
          <p:spPr>
            <a:xfrm>
              <a:off x="3809880" y="4800600"/>
              <a:ext cx="2286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36"/>
          <p:cNvGrpSpPr/>
          <p:nvPr/>
        </p:nvGrpSpPr>
        <p:grpSpPr>
          <a:xfrm>
            <a:off x="4876920" y="4800600"/>
            <a:ext cx="3657600" cy="380880"/>
            <a:chOff x="4876920" y="4800600"/>
            <a:chExt cx="3657600" cy="380880"/>
          </a:xfrm>
        </p:grpSpPr>
        <p:grpSp>
          <p:nvGrpSpPr>
            <p:cNvPr id="482" name="Group 37"/>
            <p:cNvGrpSpPr/>
            <p:nvPr/>
          </p:nvGrpSpPr>
          <p:grpSpPr>
            <a:xfrm>
              <a:off x="4876920" y="4800600"/>
              <a:ext cx="1828800" cy="380880"/>
              <a:chOff x="4876920" y="4800600"/>
              <a:chExt cx="1828800" cy="380880"/>
            </a:xfrm>
          </p:grpSpPr>
          <p:sp>
            <p:nvSpPr>
              <p:cNvPr id="483" name="Rectangle 38"/>
              <p:cNvSpPr/>
              <p:nvPr/>
            </p:nvSpPr>
            <p:spPr>
              <a:xfrm>
                <a:off x="4876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39"/>
              <p:cNvSpPr/>
              <p:nvPr/>
            </p:nvSpPr>
            <p:spPr>
              <a:xfrm>
                <a:off x="5105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40"/>
              <p:cNvSpPr/>
              <p:nvPr/>
            </p:nvSpPr>
            <p:spPr>
              <a:xfrm>
                <a:off x="5334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41"/>
              <p:cNvSpPr/>
              <p:nvPr/>
            </p:nvSpPr>
            <p:spPr>
              <a:xfrm>
                <a:off x="5562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42"/>
              <p:cNvSpPr/>
              <p:nvPr/>
            </p:nvSpPr>
            <p:spPr>
              <a:xfrm>
                <a:off x="5791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43"/>
              <p:cNvSpPr/>
              <p:nvPr/>
            </p:nvSpPr>
            <p:spPr>
              <a:xfrm>
                <a:off x="6019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44"/>
              <p:cNvSpPr/>
              <p:nvPr/>
            </p:nvSpPr>
            <p:spPr>
              <a:xfrm>
                <a:off x="6248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45"/>
              <p:cNvSpPr/>
              <p:nvPr/>
            </p:nvSpPr>
            <p:spPr>
              <a:xfrm>
                <a:off x="6477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46"/>
            <p:cNvGrpSpPr/>
            <p:nvPr/>
          </p:nvGrpSpPr>
          <p:grpSpPr>
            <a:xfrm>
              <a:off x="6705720" y="4800600"/>
              <a:ext cx="1828800" cy="380880"/>
              <a:chOff x="6705720" y="4800600"/>
              <a:chExt cx="1828800" cy="380880"/>
            </a:xfrm>
          </p:grpSpPr>
          <p:sp>
            <p:nvSpPr>
              <p:cNvPr id="492" name="Rectangle 47"/>
              <p:cNvSpPr/>
              <p:nvPr/>
            </p:nvSpPr>
            <p:spPr>
              <a:xfrm>
                <a:off x="6705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48"/>
              <p:cNvSpPr/>
              <p:nvPr/>
            </p:nvSpPr>
            <p:spPr>
              <a:xfrm>
                <a:off x="6934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49"/>
              <p:cNvSpPr/>
              <p:nvPr/>
            </p:nvSpPr>
            <p:spPr>
              <a:xfrm>
                <a:off x="7162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50"/>
              <p:cNvSpPr/>
              <p:nvPr/>
            </p:nvSpPr>
            <p:spPr>
              <a:xfrm>
                <a:off x="73915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51"/>
              <p:cNvSpPr/>
              <p:nvPr/>
            </p:nvSpPr>
            <p:spPr>
              <a:xfrm>
                <a:off x="76201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52"/>
              <p:cNvSpPr/>
              <p:nvPr/>
            </p:nvSpPr>
            <p:spPr>
              <a:xfrm>
                <a:off x="78487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53"/>
              <p:cNvSpPr/>
              <p:nvPr/>
            </p:nvSpPr>
            <p:spPr>
              <a:xfrm>
                <a:off x="83059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54"/>
              <p:cNvSpPr/>
              <p:nvPr/>
            </p:nvSpPr>
            <p:spPr>
              <a:xfrm>
                <a:off x="8077320" y="48006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AutoShape 74"/>
          <p:cNvSpPr/>
          <p:nvPr/>
        </p:nvSpPr>
        <p:spPr>
          <a:xfrm rot="16200000">
            <a:off x="217152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6"/>
          <p:cNvSpPr/>
          <p:nvPr/>
        </p:nvSpPr>
        <p:spPr>
          <a:xfrm rot="16200000">
            <a:off x="6438960" y="2628360"/>
            <a:ext cx="533160" cy="3657600"/>
          </a:xfrm>
          <a:custGeom>
            <a:avLst/>
            <a:gdLst>
              <a:gd name="textAreaLeft" fmla="*/ 0 w 533160"/>
              <a:gd name="textAreaRight" fmla="*/ 192600 w 5331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86"/>
          <p:cNvGrpSpPr/>
          <p:nvPr/>
        </p:nvGrpSpPr>
        <p:grpSpPr>
          <a:xfrm>
            <a:off x="3352680" y="2057400"/>
            <a:ext cx="2438640" cy="2059920"/>
            <a:chOff x="3352680" y="2057400"/>
            <a:chExt cx="2438640" cy="2059920"/>
          </a:xfrm>
        </p:grpSpPr>
        <p:sp>
          <p:nvSpPr>
            <p:cNvPr id="503" name="Text Box 79"/>
            <p:cNvSpPr/>
            <p:nvPr/>
          </p:nvSpPr>
          <p:spPr>
            <a:xfrm>
              <a:off x="3581640" y="3200400"/>
              <a:ext cx="205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e decimal val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represent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haract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84"/>
            <p:cNvSpPr/>
            <p:nvPr/>
          </p:nvSpPr>
          <p:spPr>
            <a:xfrm>
              <a:off x="4572000" y="20574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85"/>
            <p:cNvSpPr/>
            <p:nvPr/>
          </p:nvSpPr>
          <p:spPr>
            <a:xfrm>
              <a:off x="3352680" y="205740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11E2321-9433-4443-8F9F-715DD5F2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store a value in a variable,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ignment op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qual (=) 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left side of the assignment operator must be a variable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nd on the right side must be either a literal or expression that evaluates to a type that is compatible with the type of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6A2147B-E242-4ED2-A99C-023F0F087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761400" y="5486400"/>
            <a:ext cx="74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variables must be declared before they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A22AE1F-4347-4DA7-8277-7C17252C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 = 2;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757080" y="47242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nce declared, they can then receive a value (initializa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wever the value must be compatible with the variabl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lared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73040B1-F761-4D78-AA32-A58A4424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This program shows variable assignm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month, days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month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days = 2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0680" y="519732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fter receiving a value, the variables can then be u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tput statements or in other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F219681-E3E5-46B2-BDD9-3C770870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3244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his program shows variable initializ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nitial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atic void main(String[] arg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t month = 2, days = 2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Month " + month + " has "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days + " Days."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760680" y="48769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ocal variables can be declared and initializ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D1F9AAE-8154-4D32-80DB-032F75B9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Assignment and Init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can only hold one value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do not receive a defaul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must have a valid type in order to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int month, days; //No value give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nth " +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has "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ay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Day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rying to use uninitialized variables will generate a Syntax Error when the code is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B4B7E5C-017C-4B8F-AA72-B00377529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five (5) arithmetic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2057400"/>
          <a:ext cx="8381880" cy="4191120"/>
        </p:xfrm>
        <a:graphic>
          <a:graphicData uri="http://schemas.openxmlformats.org/drawingml/2006/table">
            <a:tbl>
              <a:tblPr/>
              <a:tblGrid>
                <a:gridCol w="1447920"/>
                <a:gridCol w="1974600"/>
                <a:gridCol w="1257480"/>
                <a:gridCol w="3701880"/>
              </a:tblGrid>
              <a:tr h="69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total = cost +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ost = total – tax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tax = cost * rat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salePrice = original / 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d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remainder = value %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A3C4528-5942-4D69-A8B7-1A1D5563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62120" y="247644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Si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95280" y="3086280"/>
            <a:ext cx="5452200" cy="2209680"/>
            <a:chOff x="1295280" y="3086280"/>
            <a:chExt cx="5452200" cy="2209680"/>
          </a:xfrm>
        </p:grpSpPr>
        <p:sp>
          <p:nvSpPr>
            <p:cNvPr id="109" name="Text Box 10"/>
            <p:cNvSpPr/>
            <p:nvPr/>
          </p:nvSpPr>
          <p:spPr>
            <a:xfrm>
              <a:off x="2130480" y="3619800"/>
              <a:ext cx="4617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class Simp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data and methods for this class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14"/>
            <p:cNvSpPr/>
            <p:nvPr/>
          </p:nvSpPr>
          <p:spPr>
            <a:xfrm>
              <a:off x="1295280" y="3086280"/>
              <a:ext cx="762120" cy="220968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960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876920" y="1714680"/>
            <a:ext cx="4038120" cy="642600"/>
            <a:chOff x="4876920" y="1714680"/>
            <a:chExt cx="4038120" cy="642600"/>
          </a:xfrm>
        </p:grpSpPr>
        <p:sp>
          <p:nvSpPr>
            <p:cNvPr id="114" name="Text Box 4"/>
            <p:cNvSpPr/>
            <p:nvPr/>
          </p:nvSpPr>
          <p:spPr>
            <a:xfrm>
              <a:off x="5670000" y="1714680"/>
              <a:ext cx="32450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his is a Java comment. It is ignored by the compil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4876920" y="1866600"/>
              <a:ext cx="793080" cy="304560"/>
            </a:xfrm>
            <a:prstGeom prst="leftArrow">
              <a:avLst>
                <a:gd name="adj1" fmla="val 50000"/>
                <a:gd name="adj2" fmla="val 651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3429000" y="2400480"/>
            <a:ext cx="4973400" cy="703800"/>
            <a:chOff x="3429000" y="2400480"/>
            <a:chExt cx="4973400" cy="703800"/>
          </a:xfrm>
        </p:grpSpPr>
        <p:sp>
          <p:nvSpPr>
            <p:cNvPr id="117" name="Text Box 11"/>
            <p:cNvSpPr/>
            <p:nvPr/>
          </p:nvSpPr>
          <p:spPr>
            <a:xfrm>
              <a:off x="5717880" y="2400480"/>
              <a:ext cx="26845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class header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class 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2"/>
            <p:cNvSpPr/>
            <p:nvPr/>
          </p:nvSpPr>
          <p:spPr>
            <a:xfrm>
              <a:off x="3429000" y="2628720"/>
              <a:ext cx="2209680" cy="304560"/>
            </a:xfrm>
            <a:prstGeom prst="leftArrow">
              <a:avLst>
                <a:gd name="adj1" fmla="val 50000"/>
                <a:gd name="adj2" fmla="val 18138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BB8BCC1-8C76-4246-AAE8-BD75A792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ors are called binary operators because they must have two oper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or must have a left and right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Wages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ithmetic operators work as one would ex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error to try to divide any number by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orking with two integer operands, the division operator requires special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11AB40F-3DCC-45C2-A21D-31377F69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er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can be tr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 a Java program, what is the value of 1/2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think the answer is 0.5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that’s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simply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division will truncate any decimal rema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0E64D84-1341-4FBE-9B89-C53D5C4B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or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expressions can be ver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rder in which arithmetic operations will be carrie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066680" y="3733920"/>
          <a:ext cx="7772400" cy="2187360"/>
        </p:xfrm>
        <a:graphic>
          <a:graphicData uri="http://schemas.openxmlformats.org/drawingml/2006/table">
            <a:tbl>
              <a:tblPr/>
              <a:tblGrid>
                <a:gridCol w="1903680"/>
                <a:gridCol w="1677960"/>
                <a:gridCol w="3276360"/>
                <a:gridCol w="914400"/>
              </a:tblGrid>
              <a:tr h="49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ssocia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ight to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-4 +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 /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-4 + 4 % 3 * 13 + 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6 + 3 – 4 + 6 * 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Text Box 56"/>
          <p:cNvSpPr/>
          <p:nvPr/>
        </p:nvSpPr>
        <p:spPr>
          <a:xfrm>
            <a:off x="152640" y="426708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7"/>
          <p:cNvSpPr/>
          <p:nvPr/>
        </p:nvSpPr>
        <p:spPr>
          <a:xfrm>
            <a:off x="152640" y="52578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6495B14-9FE4-4D01-A973-0707BD29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ing with Pare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392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enthesis are used in an expression, the inner most parenthesis are processed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ets of parenthesis are at the same level, they are processed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((4*5) / (5-2) ) – 25;  // result = 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20"/>
          <p:cNvGrpSpPr/>
          <p:nvPr/>
        </p:nvGrpSpPr>
        <p:grpSpPr>
          <a:xfrm>
            <a:off x="1447920" y="3716280"/>
            <a:ext cx="3124080" cy="2610720"/>
            <a:chOff x="1447920" y="3716280"/>
            <a:chExt cx="3124080" cy="2610720"/>
          </a:xfrm>
        </p:grpSpPr>
        <p:sp>
          <p:nvSpPr>
            <p:cNvPr id="548" name="AutoShape 4"/>
            <p:cNvSpPr/>
            <p:nvPr/>
          </p:nvSpPr>
          <p:spPr>
            <a:xfrm rot="5400000">
              <a:off x="177480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173196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6"/>
            <p:cNvSpPr/>
            <p:nvPr/>
          </p:nvSpPr>
          <p:spPr>
            <a:xfrm flipV="1" rot="16200000">
              <a:off x="2400120" y="3240720"/>
              <a:ext cx="304920" cy="2209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4880 h 2209680"/>
                <a:gd name="textAreaBottom" fmla="*/ 21348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2384280" y="3716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10"/>
            <p:cNvSpPr/>
            <p:nvPr/>
          </p:nvSpPr>
          <p:spPr>
            <a:xfrm rot="5400000">
              <a:off x="2640960" y="3936240"/>
              <a:ext cx="761760" cy="3100320"/>
            </a:xfrm>
            <a:custGeom>
              <a:avLst/>
              <a:gdLst>
                <a:gd name="textAreaLeft" fmla="*/ 0 w 761760"/>
                <a:gd name="textAreaRight" fmla="*/ 275040 w 761760"/>
                <a:gd name="textAreaTop" fmla="*/ 105120 h 3100320"/>
                <a:gd name="textAreaBottom" fmla="*/ 2995200 h 31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72"/>
                    <a:pt x="10800" y="2343"/>
                  </a:cubicBezTo>
                  <a:lnTo>
                    <a:pt x="10800" y="8565"/>
                  </a:lnTo>
                  <a:cubicBezTo>
                    <a:pt x="10800" y="9737"/>
                    <a:pt x="16200" y="10908"/>
                    <a:pt x="21600" y="10908"/>
                  </a:cubicBezTo>
                  <a:cubicBezTo>
                    <a:pt x="16200" y="10908"/>
                    <a:pt x="10800" y="12080"/>
                    <a:pt x="10800" y="13251"/>
                  </a:cubicBezTo>
                  <a:lnTo>
                    <a:pt x="10800" y="19257"/>
                  </a:lnTo>
                  <a:cubicBezTo>
                    <a:pt x="10800" y="2042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"/>
            <p:cNvSpPr/>
            <p:nvPr/>
          </p:nvSpPr>
          <p:spPr>
            <a:xfrm>
              <a:off x="2824200" y="5867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"/>
            <p:cNvSpPr/>
            <p:nvPr/>
          </p:nvSpPr>
          <p:spPr>
            <a:xfrm>
              <a:off x="2976480" y="5008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AutoShape 17"/>
            <p:cNvSpPr/>
            <p:nvPr/>
          </p:nvSpPr>
          <p:spPr>
            <a:xfrm rot="5400000">
              <a:off x="2995560" y="4640400"/>
              <a:ext cx="247680" cy="57456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26640 h 574560"/>
                <a:gd name="textAreaBottom" fmla="*/ 547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0"/>
                    <a:pt x="10800" y="3199"/>
                  </a:cubicBezTo>
                  <a:lnTo>
                    <a:pt x="10800" y="7601"/>
                  </a:lnTo>
                  <a:cubicBezTo>
                    <a:pt x="10800" y="9201"/>
                    <a:pt x="16200" y="10800"/>
                    <a:pt x="21600" y="10800"/>
                  </a:cubicBezTo>
                  <a:cubicBezTo>
                    <a:pt x="16200" y="10800"/>
                    <a:pt x="10800" y="12400"/>
                    <a:pt x="10800" y="13999"/>
                  </a:cubicBezTo>
                  <a:lnTo>
                    <a:pt x="10800" y="18401"/>
                  </a:lnTo>
                  <a:cubicBezTo>
                    <a:pt x="10800" y="200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D2E7C79-1CFC-421E-BE21-407A0BA9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some combined assignment op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operators allow the programmer to perform an arithmetic operation and assignment with a single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not required, these operators are popular since they shorten simple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B6B57E2-298F-4F63-ACEA-2A5F89F9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Assignment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1295280"/>
                <a:gridCol w="1549440"/>
                <a:gridCol w="1955880"/>
                <a:gridCol w="3733560"/>
              </a:tblGrid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ue of variable after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+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+=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x = x + 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lus 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y -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y = y –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 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minu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z *=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z = z * 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imes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 /=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 = a /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ivided by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%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 %=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 = c % 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e remainder of the division of the old value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ivided by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4B1FA0F-47AF-49C4-983B-E0D2AE53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have data that does not need to b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ering programs with literal values can make the program hard do read and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literal values with constants remedies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low the programmer to use a name rather than a valu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lso give a singular point for changing those values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89D4881-B789-490D-A7D7-F6B89ED2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keep the program organized and easier to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identifiers that can hold only a singl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are declared using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need not be initialized when declared; however, they must be initialized before they are used or a compiler error will be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BB9FE7A-2623-4919-B181-E93B03B5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initialized with a value, constants cannot be changed program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onvention, constants are all upper case and words are separated by the underscore chara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inal int CAL_SALES_TAX = 0.7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F2B575D-F7E3-459E-A05F-429E0183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as no primitive data type that holds a series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rom the Java standard library is used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be useful, the a variable must be created to refere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per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onvention, class names should always begin with an upper cas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8311554-33FD-4AB2-A95E-E5EE9488A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06960" y="1790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6"/>
          <p:cNvGrpSpPr/>
          <p:nvPr/>
        </p:nvGrpSpPr>
        <p:grpSpPr>
          <a:xfrm>
            <a:off x="609480" y="2476440"/>
            <a:ext cx="5241600" cy="3020040"/>
            <a:chOff x="609480" y="2476440"/>
            <a:chExt cx="5241600" cy="3020040"/>
          </a:xfrm>
        </p:grpSpPr>
        <p:sp>
          <p:nvSpPr>
            <p:cNvPr id="123" name="Rectangle 11"/>
            <p:cNvSpPr/>
            <p:nvPr/>
          </p:nvSpPr>
          <p:spPr>
            <a:xfrm>
              <a:off x="609480" y="2476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137960" y="3314520"/>
              <a:ext cx="471312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4"/>
          <p:cNvGrpSpPr/>
          <p:nvPr/>
        </p:nvGrpSpPr>
        <p:grpSpPr>
          <a:xfrm>
            <a:off x="1600200" y="3848040"/>
            <a:ext cx="6213600" cy="1008720"/>
            <a:chOff x="1600200" y="3848040"/>
            <a:chExt cx="6213600" cy="1008720"/>
          </a:xfrm>
        </p:grpSpPr>
        <p:sp>
          <p:nvSpPr>
            <p:cNvPr id="126" name="Text Box 22"/>
            <p:cNvSpPr/>
            <p:nvPr/>
          </p:nvSpPr>
          <p:spPr>
            <a:xfrm>
              <a:off x="1978920" y="3848040"/>
              <a:ext cx="58348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area is the body of the main metho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l of the actions to be completed d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e main method will be between these curly brac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23"/>
            <p:cNvSpPr/>
            <p:nvPr/>
          </p:nvSpPr>
          <p:spPr>
            <a:xfrm>
              <a:off x="1600200" y="3924000"/>
              <a:ext cx="228240" cy="914400"/>
            </a:xfrm>
            <a:custGeom>
              <a:avLst/>
              <a:gdLst>
                <a:gd name="textAreaLeft" fmla="*/ 0 w 228240"/>
                <a:gd name="textAreaRight" fmla="*/ 82440 w 228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5562720" y="1486080"/>
            <a:ext cx="3347640" cy="2314080"/>
            <a:chOff x="5562720" y="1486080"/>
            <a:chExt cx="3347640" cy="2314080"/>
          </a:xfrm>
        </p:grpSpPr>
        <p:sp>
          <p:nvSpPr>
            <p:cNvPr id="129" name="Text Box 18"/>
            <p:cNvSpPr/>
            <p:nvPr/>
          </p:nvSpPr>
          <p:spPr>
            <a:xfrm>
              <a:off x="5562720" y="1486080"/>
              <a:ext cx="33476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method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for the main method. 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ain method is where a 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pplication begins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rot="10800000">
              <a:off x="5943240" y="2857320"/>
              <a:ext cx="814680" cy="942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48252F9-A79E-4B03-BB5C-D433D24D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variables actually contain the value that they have been assig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number = 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25 will be stored in the memory location associated with the variab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not stored in variables, however.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B0C3948-8E73-4751-ACDB-BF21B4AE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itive vs. Referenc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94400" cy="23590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variable references an object, it contains the memory address of the object’s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it is said that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cityName =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harleston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5867280" y="4495680"/>
            <a:ext cx="24386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1905120" y="4876920"/>
            <a:ext cx="2666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to th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382680" y="4946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ity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457200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373720" y="365760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he object that contain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haracter string “Charles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F6BC875-EDD3-48E0-BBD6-B3B9D17E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assigned a String li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only objects that can be created in thi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creat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ring value = new String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method that all other objects must use when they are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StringDem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D01E50F-6819-441E-AFD4-ECB1E980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lass, objects that are instances of it hav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ose methods i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ringSize = value.length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tatement run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on the object pointed to by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tringLength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6233BB6-6308-4943-9F76-FF1EF9B0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contains many methods that help with the manipula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eaning that they cannot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methods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 can create new versions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tringMethods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E1A56036-59A9-4FC1-B95B-741A163D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the part of a program that has access to a variable’s cont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inside a method (like the main method)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variables’ scope begins at the declaration of the variable and ends at the end of the method in which it was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Scope.java (This program contains an intentional erro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5BF6E3C-9E33-4AF0-8992-ECDF748E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three methods for commenting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80880" y="2209680"/>
          <a:ext cx="8458200" cy="4068720"/>
        </p:xfrm>
        <a:graphic>
          <a:graphicData uri="http://schemas.openxmlformats.org/drawingml/2006/table">
            <a:tbl>
              <a:tblPr/>
              <a:tblGrid>
                <a:gridCol w="1524240"/>
                <a:gridCol w="693396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76869"/>
                        </a:gs>
                        <a:gs pos="50000">
                          <a:srgbClr val="bbe0e3"/>
                        </a:gs>
                        <a:gs pos="100000">
                          <a:srgbClr val="576869"/>
                        </a:gs>
                      </a:gsLst>
                      <a:lin ang="5400000"/>
                    </a:gra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ngle line comment.  Anything after the // on the line will be ignored by the compil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ock comment.  Everything beginning with /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/*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avadoc comment.  This is a special version of the previous block comment that allows comments to be documented by the javadoc utility program.  Everything beginning with the /** and ending with the first */ will be ignored by the compiler.  This comment type cannot be nes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F8575A8-CD1F-4428-98AD-E190223E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 comments can be built into HTML docu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Comment3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the docu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gram with the source file as an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doc Comment3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will cre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veral other documentation files in the same directory as the inpu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402CE8E-A294-4F7E-B3B9-4AB9337B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index.ht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javadocindex"/>
          <p:cNvPicPr/>
          <p:nvPr/>
        </p:nvPicPr>
        <p:blipFill>
          <a:blip r:embed="rId1"/>
          <a:stretch/>
        </p:blipFill>
        <p:spPr>
          <a:xfrm>
            <a:off x="1295280" y="1752480"/>
            <a:ext cx="663912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1D30F79-71F1-467F-8781-87A6EDCE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Java has a strict syntax, whitespace characters are ignored by the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whitespace character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age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f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Compact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5E8B725-F380-434F-84E2-06EA2A2E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Th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9600" y="160164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is is a simpl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762120" y="2287440"/>
            <a:ext cx="7270560" cy="3020040"/>
            <a:chOff x="762120" y="2287440"/>
            <a:chExt cx="7270560" cy="3020040"/>
          </a:xfrm>
        </p:grpSpPr>
        <p:sp>
          <p:nvSpPr>
            <p:cNvPr id="135" name="Rectangle 5"/>
            <p:cNvSpPr/>
            <p:nvPr/>
          </p:nvSpPr>
          <p:spPr>
            <a:xfrm>
              <a:off x="762120" y="2287440"/>
              <a:ext cx="2971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class 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1289520" y="3125520"/>
              <a:ext cx="674316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static void main(String [] args)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.out.println("Programming is great fun!");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2743200" y="4497120"/>
            <a:ext cx="5050800" cy="1439280"/>
            <a:chOff x="2743200" y="4497120"/>
            <a:chExt cx="5050800" cy="1439280"/>
          </a:xfrm>
        </p:grpSpPr>
        <p:sp>
          <p:nvSpPr>
            <p:cNvPr id="138" name="Text Box 12"/>
            <p:cNvSpPr/>
            <p:nvPr/>
          </p:nvSpPr>
          <p:spPr>
            <a:xfrm>
              <a:off x="3733200" y="5232600"/>
              <a:ext cx="40608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This is the Java Statement that </a:t>
              </a:r>
              <a:br>
                <a:rPr sz="2000"/>
              </a:b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s executed when the program ru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 rot="16200000">
              <a:off x="2604960" y="4635000"/>
              <a:ext cx="1143000" cy="8668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7B2F9FC-DFED-49D3-9AF2-69A40552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should use proper ind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lock of code should be indented a few spaces from its surrounding bl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o four spaces are su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 characters should be avo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s can vary in size between applications and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rogramming text editors allow the user to replace the tab with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xample: Readable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91778A9-B429-482C-A37D-2854D6F4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 input from the keyboard we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will use the following statement at the top of our program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257118A-E147-49A6-AD0B-B7FB4C74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er objects work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keyboard = new Scanner (System.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methods are listed in Table 2-18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example: Payroll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0896698-4B33-44AD-98B1-95E45E7C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log bo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mall graphical window that displays a message to the user or request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dialog boxes can be display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f the dialog box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alog - a dialog box that displays a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Dialog - a dialog box that prompts the user for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B991C9E-030A-4F44-9DCF-8926A6EF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is not automatically available to your Java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tatement must be before the program’s class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x.swing.JOptionPa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atement tells the compiler where to find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261A7D9-E762-4009-AD56-20FD0DF9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685800" y="1371600"/>
            <a:ext cx="728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provides methods to display each type of dialog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9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5334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36628CF-C285-435A-884B-2C3B7F78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85e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 to display a message di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"Hello World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argument will be discussed in Chapter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is the message that is to be 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8149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835E095-D6EF-4A6F-BABD-1513E408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put dialog is a quick and simple way to ask the user to enter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log displays a text field, an Ok button and a Cancel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k is pressed, the dialog returns the user’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ancel is pressed, the dialog returns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19B5F24-3FA3-4BEF-B116-2B2618E8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Di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= JOptionPane.showInputDialog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Enter your nam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passed to the method is the message to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OK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he string enter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user clicks on the Cancel button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33717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006EBB8-2B54-418D-8308-556AC822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automatically stop executing when the end of the main method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generat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a process running in the computer, whe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s not called, this thread continues to exe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6CF6C7C-77E0-403F-A577-99664359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is ignored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ent in the example is a single-line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header tells the compiler things about the class such as what other classes can use it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at it is a Java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the name of that class (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ly B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the class header, they define the scope of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ssociated with a method, they define the scope of th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CAA3908-EE6C-4996-B96F-CAC44481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ex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quires an integer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it c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passed back to the operating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de is usually ignored, however, it can be used outside th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dicate whether the program ended successfully or as the result of a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0 traditionally indicates that the program ended success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849C83E-0A98-44E0-AB54-5977678E0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ing a String to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putDia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always returns the user's input as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ing a number, such as “127.89, can be converted to a numeric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99EEEE4-8BDF-48A5-BD6E-83906335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numeric wrapper classes, (covered in Chapter 10) has a method that converts a string to a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has a method that converts a string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thods are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e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ir names begin with the word “pars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6A7A166-02CB-4CA9-90FF-2D744602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ars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 in b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yte bVar = Byte.parseByte("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2599 in i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Var = Integer.parseInt("2599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0 in s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rt sVar = Short.parseShort("10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5908 in l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lVar = Long.parseLong("15908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12.3 in f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Var = Float.parseFloat("12.3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tore 7945.6 in dV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Var = Double.parseDouble("7945.6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F7379FA-E09C-475A-B668-286A972A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n Integer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a number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ber = Integer.parseInt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DC3739C-77DC-477F-AB2F-9548AE33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n Input Di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457200" y="19051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 = JOptionPane.showInputDialog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Enter the retail price.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ce = Double.parseDoubl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09480" y="4572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xample: PayrollDialog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51:31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8:22:40Z</dcterms:modified>
  <cp:revision>172</cp:revision>
  <dc:subject>Java Fundamentals </dc:subject>
  <dc:title>Chapter 2</dc:title>
</cp:coreProperties>
</file>