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650-CD1D-46B8-95C6-A49BA122B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44BE-4E09-4306-B37F-0611E815E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12F-EACD-4895-AADD-D6D2618A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9AE6-3485-4177-9813-D58BA4E9B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DA60-45E5-490B-B835-C8BDD636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0D5C-B47B-4D43-A8DD-D8B1D517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83C-CDD4-4C12-9F22-8BBA040D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D45-8C1D-41FC-98EF-F45B95537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B9F7-C414-46B9-8179-7F91EA4C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9A80-8F9F-4021-8BEF-AE2784B20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ABC6-F2BD-4988-9062-F7C9DBC1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4967-B36D-4C8F-928D-3ED03167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B6F-85EA-4D58-AB8D-3E122D6D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E602-51AD-4F22-A8AB-9BA0290C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38A1-1D61-482A-8CDF-EEB17F6D8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EA9F-35F7-4C4F-8AEA-E89B2B4E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43A8-1C1E-451B-8317-BC57A60CC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EE1-05BE-470D-9B5F-24441915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B480-662B-4978-977D-D0E122A8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A406-F613-42A2-A669-1CAD7F2EC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C829-54C7-41ED-82E8-F26BFA8D7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567D-E08D-4A94-BAFF-238F1613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08C-6B52-462B-B4DA-76D4BDD72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A05-7497-477B-9D9A-E0FECB20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C97-C859-4A68-B147-54EB0CE3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7E9-F261-4BA8-B23E-3A4D44805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566B-33D6-4698-A361-71EAF1C1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ED8B-6ABF-4DCA-8350-22920F58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1BC-996B-472B-B485-D901EA77E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0C09-F9E3-4C31-9BE5-9D62A8F2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0817-41C8-4C50-83DA-023B028C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D996-E9CF-4CA1-9581-AE81500D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D320-3BFA-4DAE-9FF9-DAFB7694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23CE-05CF-477E-84BB-F6ADCF14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7A17-C3D7-4D2B-99A2-B951A43DB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811-3C95-4C2E-8416-76E51742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A288-ED00-43BE-8A7C-F9BDD69D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C62C-71A3-4EDC-AB6D-ED811864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A5E8-8041-4C90-8B13-745069387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EB59-C629-47B0-B259-FB48C536D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46A4-4941-41D5-9E27-5A740D2D8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41E6-4616-4799-A61C-EEC45A9C9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2DDD-8A3C-4642-8FF2-60F04287F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A61F-C4EB-41CA-9358-A8CC24F3A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8106-1253-4CAD-81C6-C9ED9A4A5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7C6D-60CF-45ED-BA58-F3D920EA1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5455-1B65-4FB3-BEED-AC57B379C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CA5F-6F11-4C68-9215-B6360CBE3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DFA8-91CB-473F-B2FE-C77E1BC1F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8267-1086-4C6D-B97E-CD0356B48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B3FCDED-93B0-4253-9683-5866CA2F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assObject.java" TargetMode="External"/><Relationship Id="rId2" Type="http://schemas.openxmlformats.org/officeDocument/2006/relationships/hyperlink" Target="file:///PassObject2.jav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ReturnObject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tock%20Class%20Phase%201/Stock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ountable.java" TargetMode="External"/><Relationship Id="rId2" Type="http://schemas.openxmlformats.org/officeDocument/2006/relationships/hyperlink" Target="file:///StaticDemo.jav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etric.java" TargetMode="External"/><Relationship Id="rId2" Type="http://schemas.openxmlformats.org/officeDocument/2006/relationships/hyperlink" Target="file:///MetricDemo.jav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9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econd Look at Classes an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4ECCE7C-DAAF-4BE7-AEA4-BC3AF74E0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Objects as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can be passed to methods as arg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asses all argu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object is passed as an argument, the value of the reference variable is pa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the reference variable is an address or reference to the object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ust a pointer to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ethod receives a reference variable as an argument, it is possible for the method to modify the contents of the object referenced by the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4DDA0F3-666B-4EC2-8873-E23CDC9C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Objects as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1295280"/>
            <a:ext cx="27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assObject.java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assObject2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2774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Rectangle(bo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40240" y="4241880"/>
            <a:ext cx="69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isplayRectangle(Rectangl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isplay the length and 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Length: " + r.getLength()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Width: " + r.getWidth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862160" y="162072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952880" y="2092320"/>
            <a:ext cx="3048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6705720" y="232092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6705720" y="262584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514600" y="3540240"/>
            <a:ext cx="798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78200" y="3159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2895480" y="3844800"/>
            <a:ext cx="4343040" cy="457200"/>
            <a:chOff x="2895480" y="3844800"/>
            <a:chExt cx="4343040" cy="457200"/>
          </a:xfrm>
        </p:grpSpPr>
        <p:sp>
          <p:nvSpPr>
            <p:cNvPr id="145" name="Line 12"/>
            <p:cNvSpPr/>
            <p:nvPr/>
          </p:nvSpPr>
          <p:spPr>
            <a:xfrm>
              <a:off x="7238520" y="407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23"/>
            <p:cNvGrpSpPr/>
            <p:nvPr/>
          </p:nvGrpSpPr>
          <p:grpSpPr>
            <a:xfrm>
              <a:off x="2895480" y="3844800"/>
              <a:ext cx="4343040" cy="270000"/>
              <a:chOff x="2895480" y="3844800"/>
              <a:chExt cx="4343040" cy="270000"/>
            </a:xfrm>
          </p:grpSpPr>
          <p:sp>
            <p:nvSpPr>
              <p:cNvPr id="147" name="Line 10"/>
              <p:cNvSpPr/>
              <p:nvPr/>
            </p:nvSpPr>
            <p:spPr>
              <a:xfrm>
                <a:off x="2895480" y="384480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1"/>
              <p:cNvSpPr/>
              <p:nvPr/>
            </p:nvSpPr>
            <p:spPr>
              <a:xfrm flipV="1">
                <a:off x="2895480" y="4073040"/>
                <a:ext cx="434304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9" name="AutoShape 20"/>
          <p:cNvCxnSpPr>
            <a:stCxn id="142" idx="3"/>
            <a:endCxn id="139" idx="1"/>
          </p:cNvCxnSpPr>
          <p:nvPr/>
        </p:nvCxnSpPr>
        <p:spPr>
          <a:xfrm flipV="1">
            <a:off x="3312720" y="2586960"/>
            <a:ext cx="164052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34AF4992-F9E6-4A5D-BE7A-1C0C1059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Objects From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not limited to returning the primitive data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can return references to objects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 with passing arguments, a copy of the objec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ed, only its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eturnObject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 ty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ankAccou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getAccou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ew BankAccount(balan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93D8257-9DF6-4089-AA1D-4AE96AAC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Objects from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62120" y="1371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ount = getAccou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440800" y="4267080"/>
            <a:ext cx="59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ankAccount getAccou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ew BankAccount(bal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495680" y="2286000"/>
            <a:ext cx="24386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76160" y="2362320"/>
            <a:ext cx="674640" cy="307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20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09480" y="3048120"/>
            <a:ext cx="1143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143000" y="1828440"/>
            <a:ext cx="0" cy="12193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1142640" y="5410080"/>
            <a:ext cx="16765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1143000" y="3504960"/>
            <a:ext cx="0" cy="19047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1752480" y="2590560"/>
            <a:ext cx="27432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419720" y="1828800"/>
            <a:ext cx="25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B9DD9225-5728-40DE-9D8E-D7BD5589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a class can b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ck xyzCompany = new Stock ("XYZ", 9.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yzCompany.toString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does not have to be called explicitly but is called implicitly whenever you pass an object of the clas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ck xyzCompany = new Stock ("XYZ", 9.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yzCompan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9685D2A-7727-4859-95CA-9CBBFD41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also called implicitly whenever you concatenate an object of the class with a string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ck xyzCompany = new Stock ("XYZ", 9.6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tock data is:\n" + xyzCompan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98A24F8-52EA-4977-A681-53EB5C0C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objects have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that returns the class name and a hash of the memory address of the obj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an override the default method with our own to print out more useful inform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ock.jav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StockDemo1.ja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DAACC48-C730-473D-A658-20F8EC68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is used with reference variables, the memory address of the objects are comp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the objects are not comp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hav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operat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to compare memory addresses of the objects (just 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9C67704-E96D-45EF-8A75-73C085C1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try the follow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ck stock1 = new Stock("GMX", 55.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ck stock2 = new Stock("GMX", 55.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tock1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=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tock2)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// This is a mistak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objects are the s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objects are not the s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addresses of the objects are comp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CBACB60-83F7-4F89-A40C-59EFDC53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to compare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, we should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objects can be compared by their contents rather than by their memory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StockCompar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57200" y="2438280"/>
            <a:ext cx="8001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equals(Stock objec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symbol.equals(Object2.symbol &amp;&amp; sharePrice == Object2.sharePr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B46BF96-74DC-4DA4-8F3E-6E54D6C7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9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Objects as Arguments to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Objects from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that Copy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D7B9D4B-A197-4B39-B467-ABFEAF14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That Copy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ways to copy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not use the assignment operator to copy reference typ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only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simply copying the address of an object into another reference variab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copy (cor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volves creating a new instance of the class and copying the values from one object into the new obje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ObjectCop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3C80195B-808A-4D41-A62C-F0D64E58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py constructor accepts an existing object of the same class and clones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ock(Stock object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bol = object2.symb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arePrice = object2.sharePri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reate a Stock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ck company1 = new Stock("XYZ", 9.6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Create company2, a copy of company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ck company2 = new Stock(company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FF68E7C-F9BE-401B-9340-42C00F28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 instance of one class as a reference in another clas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 aggreg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creates a “has a” relationship between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or.java, Textbook.java, Course.java, Course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61EDB46-BAFA-4415-9626-2F6BE216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5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 in UML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057400" y="685800"/>
            <a:ext cx="4952520" cy="2208960"/>
            <a:chOff x="2057400" y="685800"/>
            <a:chExt cx="4952520" cy="2208960"/>
          </a:xfrm>
        </p:grpSpPr>
        <p:sp>
          <p:nvSpPr>
            <p:cNvPr id="196" name="Rectangle 4"/>
            <p:cNvSpPr/>
            <p:nvPr/>
          </p:nvSpPr>
          <p:spPr>
            <a:xfrm>
              <a:off x="2057400" y="685800"/>
              <a:ext cx="4952520" cy="37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u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2057400" y="1058040"/>
              <a:ext cx="4952520" cy="933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rseName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 Instructor :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 textBook : TextB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2057400" y="1991160"/>
              <a:ext cx="4952520" cy="903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rse(name : String, instr : Instructor, text : TextBoo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getName()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getInstructor() :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getTextBook() : TextB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 toString()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7"/>
          <p:cNvGrpSpPr/>
          <p:nvPr/>
        </p:nvGrpSpPr>
        <p:grpSpPr>
          <a:xfrm>
            <a:off x="4724280" y="3492360"/>
            <a:ext cx="4190760" cy="2819160"/>
            <a:chOff x="4724280" y="3492360"/>
            <a:chExt cx="4190760" cy="2819160"/>
          </a:xfrm>
        </p:grpSpPr>
        <p:sp>
          <p:nvSpPr>
            <p:cNvPr id="200" name="Rectangle 8"/>
            <p:cNvSpPr/>
            <p:nvPr/>
          </p:nvSpPr>
          <p:spPr>
            <a:xfrm>
              <a:off x="4724280" y="3492360"/>
              <a:ext cx="41907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4724280" y="3796920"/>
              <a:ext cx="419076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tle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or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sher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0"/>
            <p:cNvSpPr/>
            <p:nvPr/>
          </p:nvSpPr>
          <p:spPr>
            <a:xfrm>
              <a:off x="4724280" y="4635360"/>
              <a:ext cx="4190760" cy="1676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extBook(title : String, author : String, publishe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extBook(object2 : TextBoo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set(title : String, author : String, publisher : Str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oString()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380880" y="3505320"/>
            <a:ext cx="3962160" cy="2742840"/>
            <a:chOff x="380880" y="3505320"/>
            <a:chExt cx="3962160" cy="2742840"/>
          </a:xfrm>
        </p:grpSpPr>
        <p:sp>
          <p:nvSpPr>
            <p:cNvPr id="204" name="Rectangle 12"/>
            <p:cNvSpPr/>
            <p:nvPr/>
          </p:nvSpPr>
          <p:spPr>
            <a:xfrm>
              <a:off x="380880" y="3505320"/>
              <a:ext cx="3962160" cy="28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80880" y="3786120"/>
              <a:ext cx="3962160" cy="984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stName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Name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elvetic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iceNumber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380880" y="4771080"/>
              <a:ext cx="3962160" cy="147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Instructor(lname : String, fname : Str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ice : Str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Instructor(object2 : Instructo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set(lname : String, fname : Str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ice : String)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toString() 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AutoShape 15"/>
          <p:cNvSpPr/>
          <p:nvPr/>
        </p:nvSpPr>
        <p:spPr>
          <a:xfrm>
            <a:off x="4419720" y="2895480"/>
            <a:ext cx="152280" cy="30492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16"/>
          <p:cNvCxnSpPr>
            <a:stCxn id="198" idx="2"/>
            <a:endCxn id="207" idx="0"/>
          </p:cNvCxnSpPr>
          <p:nvPr/>
        </p:nvCxnSpPr>
        <p:spPr>
          <a:xfrm flipH="1" flipV="1">
            <a:off x="4495320" y="2882160"/>
            <a:ext cx="388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AutoShape 17"/>
          <p:cNvCxnSpPr/>
          <p:nvPr/>
        </p:nvCxnSpPr>
        <p:spPr>
          <a:xfrm flipH="1" rot="16200000">
            <a:off x="5518080" y="2198160"/>
            <a:ext cx="280080" cy="2324880"/>
          </a:xfrm>
          <a:prstGeom prst="bentConnector3">
            <a:avLst>
              <a:gd name="adj1" fmla="val 476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AutoShape 18"/>
          <p:cNvCxnSpPr>
            <a:stCxn id="207" idx="2"/>
            <a:endCxn id="204" idx="0"/>
          </p:cNvCxnSpPr>
          <p:nvPr/>
        </p:nvCxnSpPr>
        <p:spPr>
          <a:xfrm rot="5400000">
            <a:off x="3282120" y="2292480"/>
            <a:ext cx="293040" cy="2134080"/>
          </a:xfrm>
          <a:prstGeom prst="bentConnector3">
            <a:avLst>
              <a:gd name="adj1" fmla="val 4772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8E1398C-5EE8-4BB4-BB23-A16F56A8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References to Priva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returning references to private data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 to private variables will allow any object that receives the reference to modify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CF7C20B2-3C6D-4D00-8368-E9FBD14C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ll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ference variable that points to no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reference is null, then no operations can be performed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can be tested to see if they point to null prior to being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name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!= nu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Name is: 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ame.toUpperCas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FullName.java, NameTeste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5515DF58-4AE9-4358-AD35-A49FB1866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 is simply a name that an object can use to refer to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 can be used to overcome shadowing and allow a parameter to have the same name as an instance fiel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Feet(int fe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feet = fe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ets the this instance’s fee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equal to the parameter fe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3276360" y="4038120"/>
            <a:ext cx="4693320" cy="475200"/>
            <a:chOff x="3276360" y="4038120"/>
            <a:chExt cx="4693320" cy="475200"/>
          </a:xfrm>
        </p:grpSpPr>
        <p:sp>
          <p:nvSpPr>
            <p:cNvPr id="221" name="Text Box 4"/>
            <p:cNvSpPr/>
            <p:nvPr/>
          </p:nvSpPr>
          <p:spPr>
            <a:xfrm>
              <a:off x="4798800" y="4114440"/>
              <a:ext cx="31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Times New Roman"/>
                </a:rPr>
                <a:t>Local parameter variable 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 flipH="1" flipV="1">
              <a:off x="4723920" y="4038120"/>
              <a:ext cx="152280" cy="228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8"/>
            <p:cNvSpPr/>
            <p:nvPr/>
          </p:nvSpPr>
          <p:spPr>
            <a:xfrm flipH="1">
              <a:off x="3276360" y="4267080"/>
              <a:ext cx="1600200" cy="228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0"/>
          <p:cNvGrpSpPr/>
          <p:nvPr/>
        </p:nvGrpSpPr>
        <p:grpSpPr>
          <a:xfrm>
            <a:off x="1600200" y="4572000"/>
            <a:ext cx="4038480" cy="1450440"/>
            <a:chOff x="1600200" y="4572000"/>
            <a:chExt cx="4038480" cy="1450440"/>
          </a:xfrm>
        </p:grpSpPr>
        <p:sp>
          <p:nvSpPr>
            <p:cNvPr id="225" name="Text Box 10"/>
            <p:cNvSpPr/>
            <p:nvPr/>
          </p:nvSpPr>
          <p:spPr>
            <a:xfrm>
              <a:off x="1600200" y="55627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Shadowed instance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1828800" y="4572000"/>
              <a:ext cx="228600" cy="99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F2920D7-3420-4A2B-ADFD-93D59DA0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 can be used to call a constructor from another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ock(String s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this(sym, 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nstructor would allow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be created using only the symbol name as a para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lls the constructor that takes the symbol and the price,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symbol argument and 0 as the price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borate constructor chaining can be created using this tech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in a constructor, it must be the first statement in the co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C279149-5676-4D0E-AE7A-D5B10400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quires declaration and definition like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e or more enum consta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um Day { SUNDAY, MONDAY, TUESDAY, WEDNESDAY, THURSDAY,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FRIDAY, SATURDAY 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y WorkDay; // creates a Day enu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y WorkDay = Day.WEDNES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A250689-56B4-44B0-A7DF-DB58BE0D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pecialized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4876920" y="2895480"/>
            <a:ext cx="1828800" cy="381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MON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876920" y="342900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TUES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876920" y="39625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WEDNES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4876920" y="23623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SUN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876920" y="4495680"/>
            <a:ext cx="1828800" cy="381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THURS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4876920" y="502920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0"/>
          <p:cNvSpPr/>
          <p:nvPr/>
        </p:nvSpPr>
        <p:spPr>
          <a:xfrm>
            <a:off x="4876920" y="55627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.SATUR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2133720" y="3962520"/>
            <a:ext cx="1828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809880" y="19810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re objects of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 specialized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80880" y="2895480"/>
            <a:ext cx="4343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workDay = Day.WEDNES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 holds the address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.WEDNES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396252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D9B9CC4-6A39-4A3E-AECF-F1B5D5967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9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Object-Oriented Design: Class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32C52442-DFFB-49BD-A03D-194E028E3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 -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name of calling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the zero-based position of the constant in the enum. For example the ordinal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y.THURS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ccepts an object as an argument and returns true if the argument is equal to the calling enum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ccepts an object as an argument and returns a negative integer if the calling constant’s ordinal &lt; than the argument’s ordinal, a positive integer if the calling constant’s ordinal &gt; than the argument’s ordinal and zero if the calling constant’s ordinal == the argument’s ord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EnumDemo.java, CarType.java, SportsCar.java, SportsCar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E2DF343-7D09-4ACA-86CB-DE04782C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umerated Types - Swi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you to test an enum constan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portsCarDemo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6D2AA58-A787-4639-BF95-6392DE4F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bjects are no longer needed they should be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rees up the memory that they consu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andles all of the memory operations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y set the referenc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Java will reclaim the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A1FA423-4250-4E1B-B1D1-B27A92B4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Virtual Machine has a process that runs in the background that reclaims memory from released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rbage coll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reclaim memory from any object that no longer has a valid reference pointing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account1 = new BankAccount(50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account2 = account1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e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oint to the sam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733D7AA-C7F1-4C90-9737-FCFE5F61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192200" y="16002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495680" y="2071800"/>
            <a:ext cx="2667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791320" y="241776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286000" y="241776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9"/>
          <p:cNvCxnSpPr>
            <a:endCxn id="262" idx="1"/>
          </p:cNvCxnSpPr>
          <p:nvPr/>
        </p:nvCxnSpPr>
        <p:spPr>
          <a:xfrm flipV="1">
            <a:off x="3124080" y="2566800"/>
            <a:ext cx="1372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10"/>
          <p:cNvSpPr/>
          <p:nvPr/>
        </p:nvSpPr>
        <p:spPr>
          <a:xfrm>
            <a:off x="457200" y="2341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457200" y="386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2286000" y="394164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13"/>
          <p:cNvCxnSpPr>
            <a:stCxn id="268" idx="3"/>
            <a:endCxn id="262" idx="2"/>
          </p:cNvCxnSpPr>
          <p:nvPr/>
        </p:nvCxnSpPr>
        <p:spPr>
          <a:xfrm flipV="1">
            <a:off x="3123720" y="3061440"/>
            <a:ext cx="2706120" cy="103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14"/>
          <p:cNvSpPr/>
          <p:nvPr/>
        </p:nvSpPr>
        <p:spPr>
          <a:xfrm>
            <a:off x="608040" y="5108400"/>
            <a:ext cx="72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 to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CD00F207-A515-4655-9FA3-22CFB23B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05520" y="5073480"/>
            <a:ext cx="55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by running the statement: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account1 = null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be pointing to the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192200" y="15033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2286000" y="23209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457200" y="224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457200" y="3768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2286000" y="38448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22"/>
          <p:cNvCxnSpPr>
            <a:stCxn id="278" idx="3"/>
          </p:cNvCxnSpPr>
          <p:nvPr/>
        </p:nvCxnSpPr>
        <p:spPr>
          <a:xfrm flipV="1">
            <a:off x="3124080" y="2964600"/>
            <a:ext cx="2896560" cy="103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Rectangle 23"/>
          <p:cNvSpPr/>
          <p:nvPr/>
        </p:nvSpPr>
        <p:spPr>
          <a:xfrm>
            <a:off x="4495680" y="1974960"/>
            <a:ext cx="2667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5791320" y="232092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80288FC-7D89-4B48-B4CE-F8F115D7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603000" y="507348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we now run the statement: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account2 = null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th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be pointing to the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2"/>
          <p:cNvGrpSpPr/>
          <p:nvPr/>
        </p:nvGrpSpPr>
        <p:grpSpPr>
          <a:xfrm>
            <a:off x="3962520" y="2965320"/>
            <a:ext cx="4114800" cy="1644120"/>
            <a:chOff x="3962520" y="2965320"/>
            <a:chExt cx="4114800" cy="1644120"/>
          </a:xfrm>
        </p:grpSpPr>
        <p:sp>
          <p:nvSpPr>
            <p:cNvPr id="286" name="Text Box 13"/>
            <p:cNvSpPr/>
            <p:nvPr/>
          </p:nvSpPr>
          <p:spPr>
            <a:xfrm>
              <a:off x="3962520" y="369252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nce there are no valid references to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, it is now available for the garb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lector to reclai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AutoShape 14"/>
            <p:cNvCxnSpPr>
              <a:stCxn id="286" idx="0"/>
            </p:cNvCxnSpPr>
            <p:nvPr/>
          </p:nvCxnSpPr>
          <p:spPr>
            <a:xfrm flipV="1">
              <a:off x="6019560" y="2965320"/>
              <a:ext cx="1080" cy="72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8" name="Text Box 15"/>
          <p:cNvSpPr/>
          <p:nvPr/>
        </p:nvSpPr>
        <p:spPr>
          <a:xfrm>
            <a:off x="4192200" y="15033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2286000" y="23209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57200" y="224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457200" y="3768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2286000" y="38448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4495680" y="1974960"/>
            <a:ext cx="2667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5791320" y="2320920"/>
            <a:ext cx="121896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CEA2EE4-7891-40B9-9D5C-DFB0B7F68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268160" y="15429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2362320" y="236052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533520" y="2284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533520" y="380844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ou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2362320" y="3884760"/>
            <a:ext cx="8380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4572000" y="2014560"/>
            <a:ext cx="26668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a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5867280" y="2360520"/>
            <a:ext cx="121932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1"/>
          <p:cNvGrpSpPr/>
          <p:nvPr/>
        </p:nvGrpSpPr>
        <p:grpSpPr>
          <a:xfrm>
            <a:off x="4419720" y="1827360"/>
            <a:ext cx="3352680" cy="2822040"/>
            <a:chOff x="4419720" y="1827360"/>
            <a:chExt cx="3352680" cy="2822040"/>
          </a:xfrm>
        </p:grpSpPr>
        <p:sp>
          <p:nvSpPr>
            <p:cNvPr id="305" name="AutoShape 12"/>
            <p:cNvSpPr/>
            <p:nvPr/>
          </p:nvSpPr>
          <p:spPr>
            <a:xfrm>
              <a:off x="5410080" y="1827360"/>
              <a:ext cx="1371600" cy="1371600"/>
            </a:xfrm>
            <a:prstGeom prst="pi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4419720" y="3732480"/>
              <a:ext cx="335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garbage collector reclaims the memory the next time it runs in the backgroun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AutoShape 14"/>
            <p:cNvCxnSpPr>
              <a:stCxn id="306" idx="0"/>
              <a:endCxn id="305" idx="8"/>
            </p:cNvCxnSpPr>
            <p:nvPr/>
          </p:nvCxnSpPr>
          <p:spPr>
            <a:xfrm flipV="1">
              <a:off x="6095520" y="3207960"/>
              <a:ext cx="1080" cy="52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E798D7B-7073-46BD-A9B4-9CC1A8B8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inal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thod with the signa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finalize()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cluded in a class, it will run just prior to the garbage collector reclaiming its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rbage collector is a background thread that runs period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not be determined 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actually be r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AA7A936-3B08-4FC0-BB1A-B51F56A3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– two classes interact with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object is to collaborate with another object, it must know something about the second object’s methods and how to call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design a 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collaborates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(previously defined), we define it to create and manipul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s: StockPurchase.java, StockTrad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60FC96F-0899-4A99-9528-EEAF2C64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Instance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of a class has its own copy of instanc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defin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an have different values stored in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methods require that an instance of a class be created in order to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methods typically interact with instance fields or calculate values based on those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F7923D79-514B-40EA-B1DA-6F98579C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C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804960" indent="-3477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Responsibilities and Collaborations (CRC) cards are useful for determining and documenting a class’s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16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ings a class is responsible for kn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16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ions a class is responsible for 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3477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 Card Layout (Example for class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1905120" y="3809880"/>
            <a:ext cx="609588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1905120" y="4114800"/>
            <a:ext cx="304776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 stock to 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4952880" y="4114800"/>
            <a:ext cx="304812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k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1905120" y="4419720"/>
            <a:ext cx="3047760" cy="304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 number of sh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4952880" y="4419720"/>
            <a:ext cx="3048120" cy="304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1905120" y="4724280"/>
            <a:ext cx="304776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cost of 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4952880" y="4724280"/>
            <a:ext cx="304812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k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1905120" y="5029200"/>
            <a:ext cx="304776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4952880" y="5029200"/>
            <a:ext cx="3048120" cy="30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e or clas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4564B5B-A73B-45F0-85C6-370923C9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 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 not belong to a single instance of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voke a static method or use a static field, the class name, rather than the instance name,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val = Math.sqrt(2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676520" y="5638680"/>
            <a:ext cx="167616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800600" y="5638680"/>
            <a:ext cx="1981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atic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2514600" y="525780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4724280" y="5257800"/>
            <a:ext cx="106704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33333F0-6751-409B-BDF7-F39206D6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fields are declared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 between the access specifier and the field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static int instanceCount = 0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eld is initialized to 0 only once, regardless of the number of times the class is instant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static fields are initialized to 0 if no initialization is perform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untable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tatic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FA2CAA1-12D1-424B-B222-249D3D46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2590920" y="1773360"/>
            <a:ext cx="3961800" cy="3636360"/>
            <a:chOff x="2590920" y="1773360"/>
            <a:chExt cx="3961800" cy="3636360"/>
          </a:xfrm>
        </p:grpSpPr>
        <p:sp>
          <p:nvSpPr>
            <p:cNvPr id="116" name="Text Box 4"/>
            <p:cNvSpPr/>
            <p:nvPr/>
          </p:nvSpPr>
          <p:spPr>
            <a:xfrm>
              <a:off x="2958120" y="1773360"/>
              <a:ext cx="319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nstanceCou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ie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tati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114440" y="2742840"/>
              <a:ext cx="9140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2590920" y="4343040"/>
              <a:ext cx="10663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5486040" y="434304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4038480" y="4343040"/>
              <a:ext cx="10663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AutoShape 13"/>
            <p:cNvCxnSpPr>
              <a:stCxn id="117" idx="2"/>
              <a:endCxn id="118" idx="0"/>
            </p:cNvCxnSpPr>
            <p:nvPr/>
          </p:nvCxnSpPr>
          <p:spPr>
            <a:xfrm flipH="1">
              <a:off x="3123720" y="3504600"/>
              <a:ext cx="1447920" cy="83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14"/>
            <p:cNvCxnSpPr>
              <a:stCxn id="117" idx="2"/>
              <a:endCxn id="120" idx="0"/>
            </p:cNvCxnSpPr>
            <p:nvPr/>
          </p:nvCxnSpPr>
          <p:spPr>
            <a:xfrm>
              <a:off x="4571280" y="3504600"/>
              <a:ext cx="1080" cy="83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15"/>
            <p:cNvCxnSpPr>
              <a:stCxn id="117" idx="2"/>
              <a:endCxn id="119" idx="0"/>
            </p:cNvCxnSpPr>
            <p:nvPr/>
          </p:nvCxnSpPr>
          <p:spPr>
            <a:xfrm>
              <a:off x="4571280" y="3504600"/>
              <a:ext cx="1448280" cy="83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54591269-B3E9-4AF0-AB58-A0342DAE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can also be declared static by plac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 between the access modifier and the return type of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milesToKilometers(double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…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lass contains a static method, it is not necessary to create an instance of the class in order to use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kilosPerMile = Metric.milesToKilometers(1.0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tric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tric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561BAC7-4221-4637-89FE-B6B59EF8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methods are convenient because they may be called at the class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typically used to create utility classes, such 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n the Java Standard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methods may not communicate with instance fields, only static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12:36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47:04Z</dcterms:modified>
  <cp:revision>60</cp:revision>
  <dc:subject>A Second Look at Classes and Objects</dc:subject>
  <dc:title>Chapter 9</dc:title>
</cp:coreProperties>
</file>