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AF80-45CB-4C8E-90B2-44BF30324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78C1-3CF6-403F-9807-8FBF9858E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CA4C-434F-41EA-8E66-236D63031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6AE6-7A22-4DE7-8F90-1D753798B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1CA6-A635-4949-BA9C-77A56A162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648F-5851-43F9-A024-91DB1D8CB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D6D1-906F-4A55-AE8F-EAE9CDEE2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DD94-79E9-4A9F-8C40-EBF3643FE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C280-DCC3-4582-BA61-118A74506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B269-DD8D-420E-8CD0-3DFE23C53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4700-29A3-4DCF-994E-AA689E01C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2651-53EB-4CCC-B3E1-502D13717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BB1D-F166-4AB6-811D-A54394CDD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3104-A583-4235-AC99-7988D7215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309D-0DDD-4298-AE32-E3BB004A9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5C57-326B-4E4B-8143-9293DE13A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044C-1ACC-4D9F-8BE6-49E98D7A1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9751-114A-4C22-908A-9D5D5BF67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CE7A-CDE4-4475-A503-69B623B4E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4E43-F08C-48BC-A5E6-32D0F6968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68F2-A6F2-474B-8D1F-3721F749D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36DB-2FA6-415B-8A47-BDC5D986F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680A-98F4-49E7-8075-C4F315C23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8817-4386-435E-BEA2-6147E7BB6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AEB6-C7B1-4176-9168-07082FD30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3EB5-35F5-4408-9B41-51F5DDEC7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4027-6408-4E1B-982A-E4F899EFD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581A-728A-4358-8D1C-333320520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A8A8-9A9B-4BB1-A5F8-CF6452381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1A0C-10DD-4708-BC98-2113B1584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EB93-ED6C-4DD1-8600-B59891C44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94AC-0620-4C07-8ED9-4CC71E35F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8D33-7041-480D-930E-E3F5E7F0F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5D6F-2B10-4087-8F59-465AEAF7C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9EBC-432D-48A8-B7D9-7A1AE94E7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0E11-EB0E-4417-81C6-79F0376D1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E696-1F16-49DE-9406-42D800A06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44F6-FD0F-41B7-B144-0906D640E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6D84-BC8A-490C-A15A-7569D5BED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98F6-89F4-41B6-B4B4-A5A57B00E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7009-D8B6-497D-8DAF-AC2ADD262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6980-C10A-4B05-9922-312B8CFDF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A7D4-983C-4D8A-A482-5B9702C96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ABFC-3F14-46A9-888C-42089E771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B2EB-C261-4CC5-9402-A07F9E93B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651E-8532-42C2-AC55-EEA1B6172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6C6E-A79B-4C6E-A865-70A1F0D33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4D1B-CD8B-4D2A-9AAE-322B038AA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0ACC-6A1B-4F80-B7E7-0DDA68047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485E-4E10-4382-A7CB-DF0B521C2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0F3B-7417-4CDD-956D-9E58BFB7D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CCFF-E62C-4A8F-90E4-40E31C8E9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9B53-8FB4-46D9-9464-67FD14CB0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204F-0099-47F6-BCD5-EBCF78368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2F30-5F98-46A8-B191-59119AA6B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81E6-1391-4F2E-82E4-0F6B3BAE1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6679-15E9-4D4E-A28C-2F72C7ED0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34DC-0BB3-4931-AF97-2AFE08183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2BBF-AA30-481C-9376-7EB0BF5DF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174E-EDC6-4B30-BD77-CEB22C035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B68A-8613-4A2F-9058-0143C24C9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441F-13D0-4DD2-AC80-78ECA81B0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FE7D-D4B7-4C29-BFD9-69CDD30CB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FFF3-2937-4632-B7CE-74FBD868C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3DD0-A2BA-4725-8FF1-33C9F09BC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7177-5CDA-49A5-8108-31B616B72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721E-4F64-4418-9618-E72FA1673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9694-D074-4766-8173-19733766E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EF54-8926-4755-B681-EB5EEC834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1713-6940-49DB-BDF4-7C19B1B88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3B06-7AF1-4F37-8535-D72166360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DAE6-15FA-4ACB-A682-682E89169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BF4A-B7C2-43A9-B63E-EFC3D5A75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6911-65BD-4BEC-B143-4B10F5B51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BF3B-3F6D-43D9-9CA0-08DC633F8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B05C-5910-4276-B685-FF328CFB0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237C-9653-40E5-84BB-7BC9CB945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D671-E9F2-4106-B5B3-5EB7D1C90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C3C5-53EE-41C8-BAB7-A934086F0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13DC-D169-4062-B41D-E94A220E4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A181-2E24-4688-AA50-A748CBE77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>
            <a:off x="-2160" y="-9360"/>
            <a:ext cx="9140760" cy="213336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85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BF73E75A-EA51-45B2-82DD-4D1A8745C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523880" y="62485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d3d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203040" y="5715000"/>
            <a:ext cx="1371600" cy="914400"/>
            <a:chOff x="203040" y="5715000"/>
            <a:chExt cx="1371600" cy="914400"/>
          </a:xfrm>
        </p:grpSpPr>
        <p:pic>
          <p:nvPicPr>
            <p:cNvPr id="45" name="Picture 10" descr="Pearson_CMYK"/>
            <p:cNvPicPr/>
            <p:nvPr/>
          </p:nvPicPr>
          <p:blipFill>
            <a:blip r:embed="rId2"/>
            <a:stretch/>
          </p:blipFill>
          <p:spPr>
            <a:xfrm>
              <a:off x="304920" y="6172200"/>
              <a:ext cx="1155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203040" y="5715000"/>
              <a:ext cx="137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Addison Wesley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is an imprint o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8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rays and the ArrayLis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38080" y="198108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4304DDDA-9531-4BAD-A9D8-9214F0AD9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unds Che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indexes always start at zero and continue to (array length - 1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values = new int[10];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rray would have indexes 0 through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InvalidSubscript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s, it is typical to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, j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counting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ight help to think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representing the wor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891EEEC7-3522-414B-B7F2-9260EAC14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f-by-One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very easy to be off-by-one when accessing array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his code has an off-by-on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numbers = new int[10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i = 1; i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&lt;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100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bers[i] = 9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the equal sign allows the loop to continue on to index 100, where 99 is the last index in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de would throw an </a:t>
            </a:r>
            <a:r>
              <a:rPr b="0" lang="en-US" sz="2400" spc="-1" strike="noStrike">
                <a:solidFill>
                  <a:srgbClr val="ff3300"/>
                </a:solidFill>
                <a:latin typeface="Courier New"/>
              </a:rPr>
              <a:t>ArrayIndexOutOfBounds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C932A3A4-A070-4AD3-A241-D58B1CAEA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elatively few items need to be initialized, an initialization list can be used to initialize the arr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days = {31, 28, 31, 30, 31, 30, 31, 31, 30, 31, 30, 31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s in the list are stored in the array in or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ys[0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ssigned 3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ys[1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ssigned 28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ys[2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ssigned 3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ys[3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ssigned 3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ArrayInitialization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742B6308-0B01-4907-A7DB-D4A8735BB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Array Decla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ly we showed arrays being declar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numb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the brackets can also go 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umbers[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equivalent but the first style is typi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arrays can be declared on the sam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numbers, codes, scor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alternate notation each variable must have brac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umbers[], codes[], scor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 in this instance is simply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843D6271-49C6-416B-98DE-7F9E59EBB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ssing Array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data in an array is the same as any othe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ossPay = hours[3] * payRa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 and post increment works the s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score = {7, 8, 9, 10, 11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+score[2]; // Pre-increment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ore[4]++; // Post-increment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PayArray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3EF1B949-531C-4A3E-9C89-F34660F0B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ssing Array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 elements can be used in relational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(cost[20] &lt; cost[0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be used as loop cond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value[count] !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A3DF2FF7-CC63-41E7-9D7D-4177ECBEB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are objects and provide a public fiel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 a constant that can be tes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[] temperatures = new double[25];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ength of this array is 25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an array can be obtained via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a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ize = temperatures.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ll contain 2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62DD9B1F-7902-4E5F-816E-8DB67CAA4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ant can be used in a loop to provide automatic bou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 = 0; i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emperatures.length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emperature " + i ": 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temperatures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04920" y="26668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dex subscripts  start at 0 and end at one </a:t>
            </a: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less than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the array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"/>
          <p:cNvSpPr/>
          <p:nvPr/>
        </p:nvSpPr>
        <p:spPr>
          <a:xfrm flipH="1">
            <a:off x="2742840" y="3124080"/>
            <a:ext cx="609480" cy="9144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3581280" y="3048120"/>
            <a:ext cx="1905120" cy="99036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C88BFC32-624A-421D-8E85-35BB702B0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nhanced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ied array processing (read on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goes through all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forma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data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lementVaria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9AC8AF63-0BE9-4CA3-9BB8-95AC2C752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nhanced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bers = {3, 6, 9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val : numb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he next value is "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2CA5ACBA-7829-4F76-8D03-73A4BC604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6108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8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to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ing Array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Arrays as Arguments to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Useful Array Algorithms and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Arrays from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1BB200A5-D786-4F0F-8091-F654F146C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let the user specify the size of an array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umTe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te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ner keyboard = new Scanner(System.i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"How many tests do you have?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Tests = keyboard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s = new int[numTes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DisplayTestScore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168C4FD5-D4AC-4A43-BD30-8BB868B1B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ssigning Array 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y reference can be assigned to another array of the same typ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reate an array referenced by the numbers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Reassign numbers to a new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s = new int[5];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first (10 element) array no longer has a reference to it, it will be garbage col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4880F564-982A-4E5E-8C88-D6697C293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ssigning Array 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34"/>
          <p:cNvGrpSpPr/>
          <p:nvPr/>
        </p:nvGrpSpPr>
        <p:grpSpPr>
          <a:xfrm>
            <a:off x="4495680" y="1905120"/>
            <a:ext cx="3809880" cy="380880"/>
            <a:chOff x="4495680" y="1905120"/>
            <a:chExt cx="3809880" cy="380880"/>
          </a:xfrm>
        </p:grpSpPr>
        <p:sp>
          <p:nvSpPr>
            <p:cNvPr id="188" name="Rectangle 17"/>
            <p:cNvSpPr/>
            <p:nvPr/>
          </p:nvSpPr>
          <p:spPr>
            <a:xfrm>
              <a:off x="449568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8"/>
            <p:cNvSpPr/>
            <p:nvPr/>
          </p:nvSpPr>
          <p:spPr>
            <a:xfrm>
              <a:off x="487656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9"/>
            <p:cNvSpPr/>
            <p:nvPr/>
          </p:nvSpPr>
          <p:spPr>
            <a:xfrm>
              <a:off x="5257440" y="190512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20"/>
            <p:cNvSpPr/>
            <p:nvPr/>
          </p:nvSpPr>
          <p:spPr>
            <a:xfrm>
              <a:off x="563868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1"/>
            <p:cNvSpPr/>
            <p:nvPr/>
          </p:nvSpPr>
          <p:spPr>
            <a:xfrm>
              <a:off x="601956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2"/>
            <p:cNvSpPr/>
            <p:nvPr/>
          </p:nvSpPr>
          <p:spPr>
            <a:xfrm>
              <a:off x="6400440" y="190512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3"/>
            <p:cNvSpPr/>
            <p:nvPr/>
          </p:nvSpPr>
          <p:spPr>
            <a:xfrm>
              <a:off x="678168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4"/>
            <p:cNvSpPr/>
            <p:nvPr/>
          </p:nvSpPr>
          <p:spPr>
            <a:xfrm>
              <a:off x="716256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5"/>
            <p:cNvSpPr/>
            <p:nvPr/>
          </p:nvSpPr>
          <p:spPr>
            <a:xfrm>
              <a:off x="7543440" y="190512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6"/>
            <p:cNvSpPr/>
            <p:nvPr/>
          </p:nvSpPr>
          <p:spPr>
            <a:xfrm>
              <a:off x="792468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Rectangle 35"/>
          <p:cNvSpPr/>
          <p:nvPr/>
        </p:nvSpPr>
        <p:spPr>
          <a:xfrm>
            <a:off x="2743200" y="320040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7"/>
          <p:cNvSpPr/>
          <p:nvPr/>
        </p:nvSpPr>
        <p:spPr>
          <a:xfrm>
            <a:off x="151200" y="2987640"/>
            <a:ext cx="235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s the address of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40"/>
          <p:cNvCxnSpPr>
            <a:stCxn id="198" idx="3"/>
            <a:endCxn id="188" idx="1"/>
          </p:cNvCxnSpPr>
          <p:nvPr/>
        </p:nvCxnSpPr>
        <p:spPr>
          <a:xfrm flipV="1">
            <a:off x="3733920" y="2095200"/>
            <a:ext cx="762480" cy="12960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Text Box 41"/>
          <p:cNvSpPr/>
          <p:nvPr/>
        </p:nvSpPr>
        <p:spPr>
          <a:xfrm>
            <a:off x="4661280" y="2666880"/>
            <a:ext cx="3594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557D31FB-D01F-4D97-84BE-146AB74E0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ssigning Array 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4495680" y="1905120"/>
            <a:ext cx="3809880" cy="380880"/>
            <a:chOff x="4495680" y="1905120"/>
            <a:chExt cx="3809880" cy="380880"/>
          </a:xfrm>
        </p:grpSpPr>
        <p:sp>
          <p:nvSpPr>
            <p:cNvPr id="205" name="Rectangle 4"/>
            <p:cNvSpPr/>
            <p:nvPr/>
          </p:nvSpPr>
          <p:spPr>
            <a:xfrm>
              <a:off x="449568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5"/>
            <p:cNvSpPr/>
            <p:nvPr/>
          </p:nvSpPr>
          <p:spPr>
            <a:xfrm>
              <a:off x="487656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5257440" y="190512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563868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01956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400440" y="190512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678168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716256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543440" y="190512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7924680" y="19051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14"/>
          <p:cNvGrpSpPr/>
          <p:nvPr/>
        </p:nvGrpSpPr>
        <p:grpSpPr>
          <a:xfrm>
            <a:off x="4648320" y="4648320"/>
            <a:ext cx="1904400" cy="380880"/>
            <a:chOff x="4648320" y="4648320"/>
            <a:chExt cx="1904400" cy="380880"/>
          </a:xfrm>
        </p:grpSpPr>
        <p:sp>
          <p:nvSpPr>
            <p:cNvPr id="216" name="Rectangle 15"/>
            <p:cNvSpPr/>
            <p:nvPr/>
          </p:nvSpPr>
          <p:spPr>
            <a:xfrm>
              <a:off x="4648320" y="4648320"/>
              <a:ext cx="38052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5028840" y="46483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5410080" y="4648320"/>
              <a:ext cx="38052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5790960" y="4648320"/>
              <a:ext cx="38052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171840" y="46483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Rectangle 20"/>
          <p:cNvSpPr/>
          <p:nvPr/>
        </p:nvSpPr>
        <p:spPr>
          <a:xfrm>
            <a:off x="2743200" y="320040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151200" y="2987640"/>
            <a:ext cx="235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s the address of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AutoShape 22"/>
          <p:cNvCxnSpPr>
            <a:stCxn id="221" idx="3"/>
            <a:endCxn id="216" idx="1"/>
          </p:cNvCxnSpPr>
          <p:nvPr/>
        </p:nvCxnSpPr>
        <p:spPr>
          <a:xfrm>
            <a:off x="3733920" y="3390840"/>
            <a:ext cx="915120" cy="144864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Text Box 23"/>
          <p:cNvSpPr/>
          <p:nvPr/>
        </p:nvSpPr>
        <p:spPr>
          <a:xfrm>
            <a:off x="5040720" y="3962520"/>
            <a:ext cx="27410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s = new int[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4572000" y="2666880"/>
            <a:ext cx="38862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array gets mark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rbage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6019920" y="1828800"/>
            <a:ext cx="609480" cy="609480"/>
          </a:xfrm>
          <a:custGeom>
            <a:avLst/>
            <a:gdLst>
              <a:gd name="textAreaLeft" fmla="*/ 89280 w 609480"/>
              <a:gd name="textAreaRight" fmla="*/ 520200 w 60948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AutoShape 26"/>
          <p:cNvCxnSpPr>
            <a:stCxn id="225" idx="0"/>
            <a:endCxn id="226" idx="4"/>
          </p:cNvCxnSpPr>
          <p:nvPr/>
        </p:nvCxnSpPr>
        <p:spPr>
          <a:xfrm flipH="1" flipV="1">
            <a:off x="6324120" y="2437560"/>
            <a:ext cx="191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2761C103-4D0F-4BFF-90E0-8BD24C5CA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ying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14018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ay to copy an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array1 = { 2, 4, 6, 8, 10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array2 = array1; // This does not copy array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4419720" y="3200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2590920" y="4038480"/>
            <a:ext cx="9903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380160" y="390204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olds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 to th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7"/>
          <p:cNvSpPr/>
          <p:nvPr/>
        </p:nvSpPr>
        <p:spPr>
          <a:xfrm>
            <a:off x="2590920" y="5029200"/>
            <a:ext cx="990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80160" y="489276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olds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 to th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20"/>
          <p:cNvCxnSpPr>
            <a:stCxn id="232" idx="3"/>
            <a:endCxn id="231" idx="1"/>
          </p:cNvCxnSpPr>
          <p:nvPr/>
        </p:nvCxnSpPr>
        <p:spPr>
          <a:xfrm flipV="1">
            <a:off x="3580920" y="3390120"/>
            <a:ext cx="83916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21"/>
          <p:cNvCxnSpPr>
            <a:stCxn id="234" idx="3"/>
            <a:endCxn id="231" idx="1"/>
          </p:cNvCxnSpPr>
          <p:nvPr/>
        </p:nvCxnSpPr>
        <p:spPr>
          <a:xfrm flipV="1">
            <a:off x="3580920" y="3390480"/>
            <a:ext cx="839160" cy="1829520"/>
          </a:xfrm>
          <a:prstGeom prst="bentConnector3">
            <a:avLst>
              <a:gd name="adj1" fmla="val 738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Rectangle 23"/>
          <p:cNvSpPr/>
          <p:nvPr/>
        </p:nvSpPr>
        <p:spPr>
          <a:xfrm>
            <a:off x="4800600" y="3200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4"/>
          <p:cNvSpPr/>
          <p:nvPr/>
        </p:nvSpPr>
        <p:spPr>
          <a:xfrm>
            <a:off x="5181480" y="32004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5562720" y="3200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5943600" y="3200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2"/>
          <p:cNvSpPr/>
          <p:nvPr/>
        </p:nvSpPr>
        <p:spPr>
          <a:xfrm>
            <a:off x="5245200" y="4181400"/>
            <a:ext cx="293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Array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95C5E530-F1C1-4749-87D1-E9D837F77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ying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not copy an array by merely assigning one reference variable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eed to copy the individual elements of one array to anoth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firstArray = {5, 10, 15, 20, 25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secondArray = new int[5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; i &lt; firstArray.length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condArray[i] = firstArray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de copies each elemen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rst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corresponding elemen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EDA11DAF-3D17-428E-B54E-9573BA08A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sing Array Elements to a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single element of an array is passed to a method it is handled like any other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 PassElement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often you will want to write methods to process array data by passing the entire array, not just one element at a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ED287229-E88F-4130-89F2-74E5E6E18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sing Arrays as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9177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are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references can be passed to methods like any other object referenc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23"/>
          <p:cNvGrpSpPr/>
          <p:nvPr/>
        </p:nvGrpSpPr>
        <p:grpSpPr>
          <a:xfrm>
            <a:off x="840240" y="3276720"/>
            <a:ext cx="6855840" cy="3065760"/>
            <a:chOff x="840240" y="3276720"/>
            <a:chExt cx="6855840" cy="3065760"/>
          </a:xfrm>
        </p:grpSpPr>
        <p:sp>
          <p:nvSpPr>
            <p:cNvPr id="253" name="Rectangle 5"/>
            <p:cNvSpPr/>
            <p:nvPr/>
          </p:nvSpPr>
          <p:spPr>
            <a:xfrm>
              <a:off x="4648320" y="3352680"/>
              <a:ext cx="3808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5029200" y="3352680"/>
              <a:ext cx="3808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5410080" y="3352680"/>
              <a:ext cx="3812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791320" y="3352680"/>
              <a:ext cx="3808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6172200" y="3352680"/>
              <a:ext cx="3808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209680" y="4038480"/>
              <a:ext cx="99072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1"/>
            <p:cNvSpPr/>
            <p:nvPr/>
          </p:nvSpPr>
          <p:spPr>
            <a:xfrm>
              <a:off x="840240" y="327672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howArray(numbers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AutoShape 12"/>
            <p:cNvCxnSpPr>
              <a:stCxn id="258" idx="3"/>
              <a:endCxn id="253" idx="1"/>
            </p:cNvCxnSpPr>
            <p:nvPr/>
          </p:nvCxnSpPr>
          <p:spPr>
            <a:xfrm flipV="1">
              <a:off x="3200400" y="3542760"/>
              <a:ext cx="1448640" cy="686520"/>
            </a:xfrm>
            <a:prstGeom prst="bentConnector3">
              <a:avLst>
                <a:gd name="adj1" fmla="val 4998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1" name="Rectangle 13"/>
            <p:cNvSpPr/>
            <p:nvPr/>
          </p:nvSpPr>
          <p:spPr>
            <a:xfrm>
              <a:off x="6553080" y="3352680"/>
              <a:ext cx="3812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4"/>
            <p:cNvSpPr/>
            <p:nvPr/>
          </p:nvSpPr>
          <p:spPr>
            <a:xfrm>
              <a:off x="6934320" y="3352680"/>
              <a:ext cx="3808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7315200" y="3352680"/>
              <a:ext cx="3808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1068840" y="4876920"/>
              <a:ext cx="5804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ublic static void showArray(int[] arra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nt i = 0; i &lt; array.length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ystem.out.print(array[i] + " "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8"/>
            <p:cNvSpPr/>
            <p:nvPr/>
          </p:nvSpPr>
          <p:spPr>
            <a:xfrm flipV="1">
              <a:off x="2666880" y="3581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9"/>
            <p:cNvSpPr/>
            <p:nvPr/>
          </p:nvSpPr>
          <p:spPr>
            <a:xfrm>
              <a:off x="2666880" y="4419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0"/>
            <p:cNvSpPr/>
            <p:nvPr/>
          </p:nvSpPr>
          <p:spPr>
            <a:xfrm>
              <a:off x="2666880" y="472428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1"/>
            <p:cNvSpPr/>
            <p:nvPr/>
          </p:nvSpPr>
          <p:spPr>
            <a:xfrm>
              <a:off x="6248520" y="4724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Text Box 24"/>
          <p:cNvSpPr/>
          <p:nvPr/>
        </p:nvSpPr>
        <p:spPr>
          <a:xfrm>
            <a:off x="4647600" y="40384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PassArray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F288F12D-610D-416F-AF16-4BE3A31C2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ng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 determines only whether array references point to the same array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457200" y="2895480"/>
            <a:ext cx="8077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firstArray = { 5, 10, 15, 20, 25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secondArray = { 5, 10, 15, 20, 25 }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irstArray == secondArray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is is a mistak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he arrays are the sam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The arrays are not the sam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ng Arrays: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9D801A68-3EDA-4EE8-A067-50BAE89E9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457200" y="1295280"/>
            <a:ext cx="853452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firstArray = { 2, 4, 6, 8, 10 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secondArray = { 2, 4, 6, 8, 10 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olean arraysEqual = tru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/ First determine whether the arrays are the same siz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firstArray.length != secondArray.length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rraysEqual = fals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ext determine whether the elements contain the same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arraysEqual &amp;&amp; i &lt; firstArray.length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firstArray[i] != secondArray[i]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rraysEqual = fals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arraysEqua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e arrays are equal."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e arrays are not equal."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C2055AE3-384A-42F1-9195-2DF0225AF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8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quential Search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Dimensional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with Three or More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lection Sort and the 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-Line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F99992DB-CC54-4C46-A126-723D5E933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ful Array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Highes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[] numbers = new int[5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highest = numbers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nt i = 1; i &lt; numbers.length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numbers[i] &gt; highe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ighest = numbers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Lowes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owest = numbers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nt i = 1; i &lt; numbers.length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numbers[i] &lt; lowe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west = numbers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Hexagon 4"/>
          <p:cNvSpPr/>
          <p:nvPr/>
        </p:nvSpPr>
        <p:spPr>
          <a:xfrm>
            <a:off x="7086600" y="4419720"/>
            <a:ext cx="1371600" cy="129528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96E1BD93-38B8-468E-A095-FE13232B8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ful Array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ing Array El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otal = 0; // Initialize accu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; i &lt; units.length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 += units[i]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ing Array El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total = 0; // Initialize accu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average; // Will hold the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; i &lt; scores.length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 += scores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verage = total / scores.length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alesData.java, Sale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1A26C48A-835E-4283-BD8F-E7FE90018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ally Filled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, if the amount of data that an array must hold is unknow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the array to the largest expected number of e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counting variable to keep track of how much valid data is in the ar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 array = new int[10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("Enter a number or -1 to quit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= keyboard.next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number != -1 &amp;&amp; count &lt;= 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[count] = numb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("Enter a number or -1 to quit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= keyboard.next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5715000" y="5410080"/>
            <a:ext cx="3200400" cy="7333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input</a:t>
            </a: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number</a:t>
            </a: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 and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board</a:t>
            </a: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  were previously declared and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board </a:t>
            </a: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references a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canner</a:t>
            </a: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61D9E523-4D4B-4952-8486-9DB1A657B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s and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ing the contents of an array to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bers = {10, 20, 30, 40, 50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Writer outputFile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rintWriter ("Values.tx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File.println(numbers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File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ACA516F3-C717-4B0D-AC08-2C28850B1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s and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the contents of a file into an array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 int SIZE = 5;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// Assuming we know the size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numbers = new int[SIZE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 file = new File ("Values.tx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inputFile = new Scanner(fi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inputFile.hasNext() &amp;&amp; i &lt; numbers.leng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s[i] = inputFile.next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File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2E460B02-9C5E-428D-B263-40D8FB988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urning an Array Re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thod can return a reference to an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turn type of the method must be declared as an array of the right typ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ouble[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Array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ouble[] arra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{ 1.2, 2.3, 4.5, 6.7, 8.9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return arra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s a public static method that returns an array of doubles.</a:t>
            </a:r>
            <a:r>
              <a:rPr b="0" lang="en-US" sz="2400" spc="-1" strike="noStrike">
                <a:solidFill>
                  <a:srgbClr val="000000"/>
                </a:solidFill>
                <a:latin typeface="Minion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ReturnArray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4136CDA5-2B32-4BFA-8DEA-0A47CFBBE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1695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are not limited to primitiv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ray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s can be cre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[] names = { "Bill", "Susan", "Steven", "Jean"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253080" y="3292560"/>
            <a:ext cx="26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 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ddress to the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2990160" y="3292560"/>
            <a:ext cx="32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ray is an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reference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35"/>
          <p:cNvGrpSpPr/>
          <p:nvPr/>
        </p:nvGrpSpPr>
        <p:grpSpPr>
          <a:xfrm>
            <a:off x="1371600" y="3962520"/>
            <a:ext cx="4114800" cy="2133360"/>
            <a:chOff x="1371600" y="3962520"/>
            <a:chExt cx="4114800" cy="2133360"/>
          </a:xfrm>
        </p:grpSpPr>
        <p:sp>
          <p:nvSpPr>
            <p:cNvPr id="303" name="Rectangle 10"/>
            <p:cNvSpPr/>
            <p:nvPr/>
          </p:nvSpPr>
          <p:spPr>
            <a:xfrm>
              <a:off x="1371600" y="3962520"/>
              <a:ext cx="99072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Group 21"/>
            <p:cNvGrpSpPr/>
            <p:nvPr/>
          </p:nvGrpSpPr>
          <p:grpSpPr>
            <a:xfrm>
              <a:off x="4648320" y="4572000"/>
              <a:ext cx="838080" cy="1523880"/>
              <a:chOff x="4648320" y="4572000"/>
              <a:chExt cx="838080" cy="1523880"/>
            </a:xfrm>
          </p:grpSpPr>
          <p:sp>
            <p:nvSpPr>
              <p:cNvPr id="305" name="Rectangle 5"/>
              <p:cNvSpPr/>
              <p:nvPr/>
            </p:nvSpPr>
            <p:spPr>
              <a:xfrm>
                <a:off x="4648320" y="4572000"/>
                <a:ext cx="8380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ill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6"/>
              <p:cNvSpPr/>
              <p:nvPr/>
            </p:nvSpPr>
            <p:spPr>
              <a:xfrm>
                <a:off x="4648320" y="4952880"/>
                <a:ext cx="83808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usan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7"/>
              <p:cNvSpPr/>
              <p:nvPr/>
            </p:nvSpPr>
            <p:spPr>
              <a:xfrm>
                <a:off x="4648320" y="5334120"/>
                <a:ext cx="8380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even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Rectangle 8"/>
              <p:cNvSpPr/>
              <p:nvPr/>
            </p:nvSpPr>
            <p:spPr>
              <a:xfrm>
                <a:off x="4648320" y="5715000"/>
                <a:ext cx="8380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ean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Rectangle 9"/>
            <p:cNvSpPr/>
            <p:nvPr/>
          </p:nvSpPr>
          <p:spPr>
            <a:xfrm>
              <a:off x="3048120" y="4572000"/>
              <a:ext cx="76176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13"/>
            <p:cNvSpPr/>
            <p:nvPr/>
          </p:nvSpPr>
          <p:spPr>
            <a:xfrm>
              <a:off x="3048120" y="4952880"/>
              <a:ext cx="76176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14"/>
            <p:cNvSpPr/>
            <p:nvPr/>
          </p:nvSpPr>
          <p:spPr>
            <a:xfrm>
              <a:off x="3048120" y="5334120"/>
              <a:ext cx="76176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3048120" y="5715000"/>
              <a:ext cx="76176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22"/>
            <p:cNvSpPr/>
            <p:nvPr/>
          </p:nvSpPr>
          <p:spPr>
            <a:xfrm>
              <a:off x="1905120" y="4952880"/>
              <a:ext cx="115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mes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23"/>
            <p:cNvSpPr/>
            <p:nvPr/>
          </p:nvSpPr>
          <p:spPr>
            <a:xfrm>
              <a:off x="1905120" y="4572000"/>
              <a:ext cx="115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mes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4"/>
            <p:cNvSpPr/>
            <p:nvPr/>
          </p:nvSpPr>
          <p:spPr>
            <a:xfrm>
              <a:off x="1905120" y="5715000"/>
              <a:ext cx="115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mes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5"/>
            <p:cNvSpPr/>
            <p:nvPr/>
          </p:nvSpPr>
          <p:spPr>
            <a:xfrm>
              <a:off x="1905120" y="5334120"/>
              <a:ext cx="115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mes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7"/>
            <p:cNvCxnSpPr>
              <a:stCxn id="309" idx="3"/>
              <a:endCxn id="305" idx="1"/>
            </p:cNvCxnSpPr>
            <p:nvPr/>
          </p:nvCxnSpPr>
          <p:spPr>
            <a:xfrm>
              <a:off x="3809520" y="476208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AutoShape 28"/>
            <p:cNvCxnSpPr>
              <a:stCxn id="310" idx="3"/>
              <a:endCxn id="306" idx="1"/>
            </p:cNvCxnSpPr>
            <p:nvPr/>
          </p:nvCxnSpPr>
          <p:spPr>
            <a:xfrm>
              <a:off x="3809520" y="514332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" name="AutoShape 29"/>
            <p:cNvCxnSpPr>
              <a:stCxn id="311" idx="3"/>
              <a:endCxn id="307" idx="1"/>
            </p:cNvCxnSpPr>
            <p:nvPr/>
          </p:nvCxnSpPr>
          <p:spPr>
            <a:xfrm>
              <a:off x="3809520" y="552420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AutoShape 30"/>
            <p:cNvCxnSpPr>
              <a:stCxn id="312" idx="3"/>
              <a:endCxn id="308" idx="1"/>
            </p:cNvCxnSpPr>
            <p:nvPr/>
          </p:nvCxnSpPr>
          <p:spPr>
            <a:xfrm>
              <a:off x="3809520" y="590508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" name="AutoShape 33"/>
            <p:cNvCxnSpPr>
              <a:stCxn id="303" idx="3"/>
              <a:endCxn id="309" idx="0"/>
            </p:cNvCxnSpPr>
            <p:nvPr/>
          </p:nvCxnSpPr>
          <p:spPr>
            <a:xfrm>
              <a:off x="2361960" y="4152960"/>
              <a:ext cx="1067400" cy="41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22" name="Text Box 34"/>
          <p:cNvSpPr/>
          <p:nvPr/>
        </p:nvSpPr>
        <p:spPr>
          <a:xfrm>
            <a:off x="5851440" y="4460760"/>
            <a:ext cx="266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Days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8B320C6E-BF8F-4200-B579-D46306BCA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6225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initialization list is not provided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word must be used to create the array: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names = new String[4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786240" y="3063960"/>
            <a:ext cx="26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 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ddress to the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295280" y="3809880"/>
            <a:ext cx="9907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2971800" y="4419720"/>
            <a:ext cx="762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2971800" y="4800600"/>
            <a:ext cx="762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5"/>
          <p:cNvSpPr/>
          <p:nvPr/>
        </p:nvSpPr>
        <p:spPr>
          <a:xfrm>
            <a:off x="2971800" y="5181480"/>
            <a:ext cx="7621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2971800" y="5562720"/>
            <a:ext cx="762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7"/>
          <p:cNvSpPr/>
          <p:nvPr/>
        </p:nvSpPr>
        <p:spPr>
          <a:xfrm>
            <a:off x="1600200" y="4800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1600200" y="4419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1600200" y="5562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0"/>
          <p:cNvSpPr/>
          <p:nvPr/>
        </p:nvSpPr>
        <p:spPr>
          <a:xfrm>
            <a:off x="1600200" y="518148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25"/>
          <p:cNvCxnSpPr>
            <a:stCxn id="327" idx="3"/>
            <a:endCxn id="328" idx="0"/>
          </p:cNvCxnSpPr>
          <p:nvPr/>
        </p:nvCxnSpPr>
        <p:spPr>
          <a:xfrm>
            <a:off x="2285640" y="4000680"/>
            <a:ext cx="106740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Text Box 27"/>
          <p:cNvSpPr/>
          <p:nvPr/>
        </p:nvSpPr>
        <p:spPr>
          <a:xfrm>
            <a:off x="4800600" y="4800600"/>
            <a:ext cx="41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92E7BCB5-10DE-4E6D-8F76-C52762485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6225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array is created in this manner, each element of the array must be initial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86240" y="3063960"/>
            <a:ext cx="26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 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ddress to the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295280" y="3809880"/>
            <a:ext cx="9907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2971800" y="4419720"/>
            <a:ext cx="762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2971800" y="4800600"/>
            <a:ext cx="762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2971800" y="5181480"/>
            <a:ext cx="7621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2971800" y="5562720"/>
            <a:ext cx="762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16"/>
          <p:cNvCxnSpPr>
            <a:stCxn id="342" idx="3"/>
            <a:endCxn id="343" idx="0"/>
          </p:cNvCxnSpPr>
          <p:nvPr/>
        </p:nvCxnSpPr>
        <p:spPr>
          <a:xfrm>
            <a:off x="2285640" y="4000680"/>
            <a:ext cx="106740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8" name="Group 29"/>
          <p:cNvGrpSpPr/>
          <p:nvPr/>
        </p:nvGrpSpPr>
        <p:grpSpPr>
          <a:xfrm>
            <a:off x="3733560" y="2514600"/>
            <a:ext cx="4113360" cy="3429000"/>
            <a:chOff x="3733560" y="2514600"/>
            <a:chExt cx="4113360" cy="3429000"/>
          </a:xfrm>
        </p:grpSpPr>
        <p:sp>
          <p:nvSpPr>
            <p:cNvPr id="349" name="Text Box 17"/>
            <p:cNvSpPr/>
            <p:nvPr/>
          </p:nvSpPr>
          <p:spPr>
            <a:xfrm>
              <a:off x="4923000" y="251460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ames[0] = "Bill"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ames[1] = "Susan"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ames[2] = "Steven"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ames[3] = "Jean"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28"/>
            <p:cNvGrpSpPr/>
            <p:nvPr/>
          </p:nvGrpSpPr>
          <p:grpSpPr>
            <a:xfrm>
              <a:off x="3733560" y="4419720"/>
              <a:ext cx="1371600" cy="1523880"/>
              <a:chOff x="3733560" y="4419720"/>
              <a:chExt cx="1371600" cy="1523880"/>
            </a:xfrm>
          </p:grpSpPr>
          <p:grpSp>
            <p:nvGrpSpPr>
              <p:cNvPr id="351" name="Group 18"/>
              <p:cNvGrpSpPr/>
              <p:nvPr/>
            </p:nvGrpSpPr>
            <p:grpSpPr>
              <a:xfrm>
                <a:off x="4267080" y="4419720"/>
                <a:ext cx="838080" cy="1523880"/>
                <a:chOff x="4267080" y="4419720"/>
                <a:chExt cx="838080" cy="1523880"/>
              </a:xfrm>
            </p:grpSpPr>
            <p:sp>
              <p:nvSpPr>
                <p:cNvPr id="352" name="Rectangle 19"/>
                <p:cNvSpPr/>
                <p:nvPr/>
              </p:nvSpPr>
              <p:spPr>
                <a:xfrm>
                  <a:off x="4267080" y="4419720"/>
                  <a:ext cx="838080" cy="3808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ill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20"/>
                <p:cNvSpPr/>
                <p:nvPr/>
              </p:nvSpPr>
              <p:spPr>
                <a:xfrm>
                  <a:off x="4267080" y="4800600"/>
                  <a:ext cx="838080" cy="3812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usan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Rectangle 21"/>
                <p:cNvSpPr/>
                <p:nvPr/>
              </p:nvSpPr>
              <p:spPr>
                <a:xfrm>
                  <a:off x="4267080" y="5181840"/>
                  <a:ext cx="838080" cy="3808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teven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Rectangle 22"/>
                <p:cNvSpPr/>
                <p:nvPr/>
              </p:nvSpPr>
              <p:spPr>
                <a:xfrm>
                  <a:off x="4267080" y="5562720"/>
                  <a:ext cx="838080" cy="3808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Jean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56" name="AutoShape 23"/>
              <p:cNvCxnSpPr>
                <a:stCxn id="343" idx="3"/>
                <a:endCxn id="352" idx="1"/>
              </p:cNvCxnSpPr>
              <p:nvPr/>
            </p:nvCxnSpPr>
            <p:spPr>
              <a:xfrm>
                <a:off x="3733560" y="4609800"/>
                <a:ext cx="533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7" name="AutoShape 24"/>
              <p:cNvCxnSpPr>
                <a:stCxn id="344" idx="3"/>
                <a:endCxn id="353" idx="1"/>
              </p:cNvCxnSpPr>
              <p:nvPr/>
            </p:nvCxnSpPr>
            <p:spPr>
              <a:xfrm>
                <a:off x="3733560" y="4990680"/>
                <a:ext cx="533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8" name="AutoShape 25"/>
              <p:cNvCxnSpPr>
                <a:stCxn id="345" idx="3"/>
                <a:endCxn id="354" idx="1"/>
              </p:cNvCxnSpPr>
              <p:nvPr/>
            </p:nvCxnSpPr>
            <p:spPr>
              <a:xfrm>
                <a:off x="3733560" y="5371920"/>
                <a:ext cx="533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9" name="AutoShape 26"/>
              <p:cNvCxnSpPr>
                <a:stCxn id="346" idx="3"/>
                <a:endCxn id="355" idx="1"/>
              </p:cNvCxnSpPr>
              <p:nvPr/>
            </p:nvCxnSpPr>
            <p:spPr>
              <a:xfrm>
                <a:off x="3733560" y="5752800"/>
                <a:ext cx="533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60" name="Text Box 30"/>
          <p:cNvSpPr/>
          <p:nvPr/>
        </p:nvSpPr>
        <p:spPr>
          <a:xfrm>
            <a:off x="1600200" y="4800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1"/>
          <p:cNvSpPr/>
          <p:nvPr/>
        </p:nvSpPr>
        <p:spPr>
          <a:xfrm>
            <a:off x="1600200" y="4419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2"/>
          <p:cNvSpPr/>
          <p:nvPr/>
        </p:nvSpPr>
        <p:spPr>
          <a:xfrm>
            <a:off x="1600200" y="5562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3"/>
          <p:cNvSpPr/>
          <p:nvPr/>
        </p:nvSpPr>
        <p:spPr>
          <a:xfrm>
            <a:off x="1600200" y="518148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s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96208560-A9AE-4E53-B19D-9F485A690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ing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s On Array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s have several methods, inclu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lement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can be used by using the array name and index as befo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names[0].toUpperCas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names[3].charA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EC75BA51-D76F-435D-9893-528C384C5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 variables are designed to hold only one value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 allow us to create a collection of like values that are index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ray can store any type of data but only one type of data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ray is a list of data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94B2AAE3-4CB4-46F6-8532-0C9619625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eld &amp;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have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d </a:t>
            </a:r>
            <a:r>
              <a:rPr b="0" lang="en-US" sz="2400" spc="-1" strike="noStrike">
                <a:solidFill>
                  <a:srgbClr val="00ff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objects hav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d </a:t>
            </a:r>
            <a:r>
              <a:rPr b="0" lang="en-US" sz="2400" spc="-1" strike="noStrike">
                <a:solidFill>
                  <a:srgbClr val="ff33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splay the length of each string held 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; i &lt; names.</a:t>
            </a:r>
            <a:r>
              <a:rPr b="1" lang="en-US" sz="2000" spc="-1" strike="noStrike">
                <a:solidFill>
                  <a:srgbClr val="00ff00"/>
                </a:solidFill>
                <a:latin typeface="Courier New"/>
              </a:rPr>
              <a:t>leng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names[i].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length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ray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 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rite a set of parentheses after its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rite the parentheses after the nam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050978B2-5DF6-4277-BD78-8483390B6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4749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are objects, we know that arrays can contai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[] accounts = new BankAccount[5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62800" y="3063960"/>
            <a:ext cx="41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ou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 holds the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0"/>
          <p:cNvSpPr/>
          <p:nvPr/>
        </p:nvSpPr>
        <p:spPr>
          <a:xfrm>
            <a:off x="1828800" y="3809880"/>
            <a:ext cx="9907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31"/>
          <p:cNvSpPr/>
          <p:nvPr/>
        </p:nvSpPr>
        <p:spPr>
          <a:xfrm>
            <a:off x="2971800" y="44197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32"/>
          <p:cNvSpPr/>
          <p:nvPr/>
        </p:nvSpPr>
        <p:spPr>
          <a:xfrm>
            <a:off x="2971800" y="48006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33"/>
          <p:cNvSpPr/>
          <p:nvPr/>
        </p:nvSpPr>
        <p:spPr>
          <a:xfrm>
            <a:off x="2971800" y="5181480"/>
            <a:ext cx="914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34"/>
          <p:cNvSpPr/>
          <p:nvPr/>
        </p:nvSpPr>
        <p:spPr>
          <a:xfrm>
            <a:off x="2971800" y="55627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5"/>
          <p:cNvSpPr/>
          <p:nvPr/>
        </p:nvSpPr>
        <p:spPr>
          <a:xfrm>
            <a:off x="1143000" y="48006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6"/>
          <p:cNvSpPr/>
          <p:nvPr/>
        </p:nvSpPr>
        <p:spPr>
          <a:xfrm>
            <a:off x="1143000" y="441972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7"/>
          <p:cNvSpPr/>
          <p:nvPr/>
        </p:nvSpPr>
        <p:spPr>
          <a:xfrm>
            <a:off x="990720" y="556272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8"/>
          <p:cNvSpPr/>
          <p:nvPr/>
        </p:nvSpPr>
        <p:spPr>
          <a:xfrm>
            <a:off x="1066680" y="51814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AutoShape 39"/>
          <p:cNvCxnSpPr>
            <a:stCxn id="374" idx="3"/>
            <a:endCxn id="375" idx="0"/>
          </p:cNvCxnSpPr>
          <p:nvPr/>
        </p:nvCxnSpPr>
        <p:spPr>
          <a:xfrm>
            <a:off x="2819160" y="4000680"/>
            <a:ext cx="61020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Rectangle 45"/>
          <p:cNvSpPr/>
          <p:nvPr/>
        </p:nvSpPr>
        <p:spPr>
          <a:xfrm>
            <a:off x="2971800" y="59436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6"/>
          <p:cNvSpPr/>
          <p:nvPr/>
        </p:nvSpPr>
        <p:spPr>
          <a:xfrm>
            <a:off x="914400" y="594360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7"/>
          <p:cNvSpPr/>
          <p:nvPr/>
        </p:nvSpPr>
        <p:spPr>
          <a:xfrm>
            <a:off x="4952880" y="35053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ray is an array of referenc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46F3D2EE-279C-4B7B-A0D6-3620A0CD6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4749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lement needs to be initial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accounts.length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i] = new BankAccou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ObjectArray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404280" y="304812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cou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 holds the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an BankAccount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1828800" y="3809880"/>
            <a:ext cx="9907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2971800" y="44197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971800" y="48006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2971800" y="5181480"/>
            <a:ext cx="914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971800" y="55627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AutoShape 14"/>
          <p:cNvCxnSpPr>
            <a:stCxn id="391" idx="3"/>
            <a:endCxn id="392" idx="0"/>
          </p:cNvCxnSpPr>
          <p:nvPr/>
        </p:nvCxnSpPr>
        <p:spPr>
          <a:xfrm>
            <a:off x="2819160" y="4000680"/>
            <a:ext cx="61020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7" name="Rectangle 40"/>
          <p:cNvSpPr/>
          <p:nvPr/>
        </p:nvSpPr>
        <p:spPr>
          <a:xfrm>
            <a:off x="2971800" y="59436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43"/>
          <p:cNvCxnSpPr>
            <a:stCxn id="397" idx="3"/>
          </p:cNvCxnSpPr>
          <p:nvPr/>
        </p:nvCxnSpPr>
        <p:spPr>
          <a:xfrm flipV="1">
            <a:off x="3886200" y="5858640"/>
            <a:ext cx="1829520" cy="27540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AutoShape 44"/>
          <p:cNvCxnSpPr>
            <a:stCxn id="395" idx="3"/>
          </p:cNvCxnSpPr>
          <p:nvPr/>
        </p:nvCxnSpPr>
        <p:spPr>
          <a:xfrm flipV="1">
            <a:off x="3886200" y="5196960"/>
            <a:ext cx="1829520" cy="556560"/>
          </a:xfrm>
          <a:prstGeom prst="curvedConnector5">
            <a:avLst>
              <a:gd name="adj1" fmla="val 49990"/>
              <a:gd name="adj2" fmla="val 49967"/>
              <a:gd name="adj3" fmla="val 499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AutoShape 45"/>
          <p:cNvCxnSpPr>
            <a:stCxn id="394" idx="3"/>
          </p:cNvCxnSpPr>
          <p:nvPr/>
        </p:nvCxnSpPr>
        <p:spPr>
          <a:xfrm flipV="1">
            <a:off x="3886200" y="4533120"/>
            <a:ext cx="1829520" cy="8391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1" name="AutoShape 46"/>
          <p:cNvCxnSpPr>
            <a:stCxn id="393" idx="3"/>
          </p:cNvCxnSpPr>
          <p:nvPr/>
        </p:nvCxnSpPr>
        <p:spPr>
          <a:xfrm flipV="1">
            <a:off x="3886200" y="3871080"/>
            <a:ext cx="1829520" cy="11199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AutoShape 47"/>
          <p:cNvCxnSpPr>
            <a:stCxn id="392" idx="3"/>
          </p:cNvCxnSpPr>
          <p:nvPr/>
        </p:nvCxnSpPr>
        <p:spPr>
          <a:xfrm flipV="1">
            <a:off x="3886200" y="3209760"/>
            <a:ext cx="1829520" cy="14007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Text Box 48"/>
          <p:cNvSpPr/>
          <p:nvPr/>
        </p:nvSpPr>
        <p:spPr>
          <a:xfrm>
            <a:off x="5715000" y="3124080"/>
            <a:ext cx="16002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0"/>
          <p:cNvSpPr/>
          <p:nvPr/>
        </p:nvSpPr>
        <p:spPr>
          <a:xfrm>
            <a:off x="6781680" y="3200400"/>
            <a:ext cx="45720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51"/>
          <p:cNvSpPr/>
          <p:nvPr/>
        </p:nvSpPr>
        <p:spPr>
          <a:xfrm>
            <a:off x="5715000" y="3733920"/>
            <a:ext cx="16002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52"/>
          <p:cNvSpPr/>
          <p:nvPr/>
        </p:nvSpPr>
        <p:spPr>
          <a:xfrm>
            <a:off x="5715000" y="4343400"/>
            <a:ext cx="16002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53"/>
          <p:cNvSpPr/>
          <p:nvPr/>
        </p:nvSpPr>
        <p:spPr>
          <a:xfrm>
            <a:off x="5715000" y="4952880"/>
            <a:ext cx="16002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4"/>
          <p:cNvSpPr/>
          <p:nvPr/>
        </p:nvSpPr>
        <p:spPr>
          <a:xfrm>
            <a:off x="5715000" y="5562720"/>
            <a:ext cx="16002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55"/>
          <p:cNvSpPr/>
          <p:nvPr/>
        </p:nvSpPr>
        <p:spPr>
          <a:xfrm>
            <a:off x="6781680" y="3809880"/>
            <a:ext cx="45720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6"/>
          <p:cNvSpPr/>
          <p:nvPr/>
        </p:nvSpPr>
        <p:spPr>
          <a:xfrm>
            <a:off x="6781680" y="4419720"/>
            <a:ext cx="45720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57"/>
          <p:cNvSpPr/>
          <p:nvPr/>
        </p:nvSpPr>
        <p:spPr>
          <a:xfrm>
            <a:off x="6781680" y="5029200"/>
            <a:ext cx="45720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8"/>
          <p:cNvSpPr/>
          <p:nvPr/>
        </p:nvSpPr>
        <p:spPr>
          <a:xfrm>
            <a:off x="6781680" y="5638680"/>
            <a:ext cx="457200" cy="276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9"/>
          <p:cNvSpPr/>
          <p:nvPr/>
        </p:nvSpPr>
        <p:spPr>
          <a:xfrm>
            <a:off x="1143000" y="48006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60"/>
          <p:cNvSpPr/>
          <p:nvPr/>
        </p:nvSpPr>
        <p:spPr>
          <a:xfrm>
            <a:off x="1219320" y="441972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61"/>
          <p:cNvSpPr/>
          <p:nvPr/>
        </p:nvSpPr>
        <p:spPr>
          <a:xfrm>
            <a:off x="1066680" y="5562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62"/>
          <p:cNvSpPr/>
          <p:nvPr/>
        </p:nvSpPr>
        <p:spPr>
          <a:xfrm>
            <a:off x="1143000" y="518148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63"/>
          <p:cNvSpPr/>
          <p:nvPr/>
        </p:nvSpPr>
        <p:spPr>
          <a:xfrm>
            <a:off x="990720" y="594360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ounts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656AC8A0-2D5E-44EB-8055-43E0CD32E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quential Search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arch algorithm is a method of locating a specific item in a larger collection of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quential search algorith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a loop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ially step through an arr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each element with the search valu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 is found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d of the array is encount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SearchArray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4B66F85C-027C-4353-B33B-993FC3283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20653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wo-dimensional array is an array of array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be thought of as having rows and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96720" y="3505320"/>
            <a:ext cx="6170760" cy="2450880"/>
            <a:chOff x="1296720" y="3505320"/>
            <a:chExt cx="6170760" cy="2450880"/>
          </a:xfrm>
        </p:grpSpPr>
        <p:sp>
          <p:nvSpPr>
            <p:cNvPr id="425" name="Rectangle 20"/>
            <p:cNvSpPr/>
            <p:nvPr/>
          </p:nvSpPr>
          <p:spPr>
            <a:xfrm>
              <a:off x="6114960" y="5438520"/>
              <a:ext cx="135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19"/>
            <p:cNvSpPr/>
            <p:nvPr/>
          </p:nvSpPr>
          <p:spPr>
            <a:xfrm>
              <a:off x="4762440" y="5438520"/>
              <a:ext cx="135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18"/>
            <p:cNvSpPr/>
            <p:nvPr/>
          </p:nvSpPr>
          <p:spPr>
            <a:xfrm>
              <a:off x="3409920" y="5438520"/>
              <a:ext cx="135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2057400" y="5438520"/>
              <a:ext cx="135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16"/>
            <p:cNvSpPr/>
            <p:nvPr/>
          </p:nvSpPr>
          <p:spPr>
            <a:xfrm>
              <a:off x="6114960" y="4921200"/>
              <a:ext cx="135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15"/>
            <p:cNvSpPr/>
            <p:nvPr/>
          </p:nvSpPr>
          <p:spPr>
            <a:xfrm>
              <a:off x="4762440" y="4921200"/>
              <a:ext cx="135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4"/>
            <p:cNvSpPr/>
            <p:nvPr/>
          </p:nvSpPr>
          <p:spPr>
            <a:xfrm>
              <a:off x="3409920" y="4921200"/>
              <a:ext cx="135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13"/>
            <p:cNvSpPr/>
            <p:nvPr/>
          </p:nvSpPr>
          <p:spPr>
            <a:xfrm>
              <a:off x="2057400" y="4921200"/>
              <a:ext cx="135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2"/>
            <p:cNvSpPr/>
            <p:nvPr/>
          </p:nvSpPr>
          <p:spPr>
            <a:xfrm>
              <a:off x="6114960" y="4403520"/>
              <a:ext cx="135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762440" y="4403520"/>
              <a:ext cx="135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0"/>
            <p:cNvSpPr/>
            <p:nvPr/>
          </p:nvSpPr>
          <p:spPr>
            <a:xfrm>
              <a:off x="3409920" y="4403520"/>
              <a:ext cx="135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9"/>
            <p:cNvSpPr/>
            <p:nvPr/>
          </p:nvSpPr>
          <p:spPr>
            <a:xfrm>
              <a:off x="2057400" y="4403520"/>
              <a:ext cx="135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8"/>
            <p:cNvSpPr/>
            <p:nvPr/>
          </p:nvSpPr>
          <p:spPr>
            <a:xfrm>
              <a:off x="6114960" y="3886200"/>
              <a:ext cx="135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7"/>
            <p:cNvSpPr/>
            <p:nvPr/>
          </p:nvSpPr>
          <p:spPr>
            <a:xfrm>
              <a:off x="4762440" y="3886200"/>
              <a:ext cx="135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6"/>
            <p:cNvSpPr/>
            <p:nvPr/>
          </p:nvSpPr>
          <p:spPr>
            <a:xfrm>
              <a:off x="3409920" y="3886200"/>
              <a:ext cx="135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5"/>
            <p:cNvSpPr/>
            <p:nvPr/>
          </p:nvSpPr>
          <p:spPr>
            <a:xfrm>
              <a:off x="2057400" y="3886200"/>
              <a:ext cx="135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21"/>
            <p:cNvSpPr/>
            <p:nvPr/>
          </p:nvSpPr>
          <p:spPr>
            <a:xfrm>
              <a:off x="2057400" y="3886200"/>
              <a:ext cx="5410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2"/>
            <p:cNvSpPr/>
            <p:nvPr/>
          </p:nvSpPr>
          <p:spPr>
            <a:xfrm>
              <a:off x="2057400" y="4403520"/>
              <a:ext cx="541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3"/>
            <p:cNvSpPr/>
            <p:nvPr/>
          </p:nvSpPr>
          <p:spPr>
            <a:xfrm>
              <a:off x="2057400" y="4921200"/>
              <a:ext cx="541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24"/>
            <p:cNvSpPr/>
            <p:nvPr/>
          </p:nvSpPr>
          <p:spPr>
            <a:xfrm>
              <a:off x="2057400" y="5438520"/>
              <a:ext cx="541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5"/>
            <p:cNvSpPr/>
            <p:nvPr/>
          </p:nvSpPr>
          <p:spPr>
            <a:xfrm>
              <a:off x="2057400" y="5956200"/>
              <a:ext cx="5410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26"/>
            <p:cNvSpPr/>
            <p:nvPr/>
          </p:nvSpPr>
          <p:spPr>
            <a:xfrm>
              <a:off x="2057400" y="3886200"/>
              <a:ext cx="0" cy="2069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>
              <a:off x="3409920" y="3886200"/>
              <a:ext cx="0" cy="20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28"/>
            <p:cNvSpPr/>
            <p:nvPr/>
          </p:nvSpPr>
          <p:spPr>
            <a:xfrm>
              <a:off x="4762440" y="3886200"/>
              <a:ext cx="0" cy="20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9"/>
            <p:cNvSpPr/>
            <p:nvPr/>
          </p:nvSpPr>
          <p:spPr>
            <a:xfrm>
              <a:off x="6114960" y="3886200"/>
              <a:ext cx="0" cy="20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30"/>
            <p:cNvSpPr/>
            <p:nvPr/>
          </p:nvSpPr>
          <p:spPr>
            <a:xfrm>
              <a:off x="7467480" y="3886200"/>
              <a:ext cx="0" cy="2069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33"/>
            <p:cNvSpPr/>
            <p:nvPr/>
          </p:nvSpPr>
          <p:spPr>
            <a:xfrm>
              <a:off x="1296720" y="396216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w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Text Box 34"/>
            <p:cNvSpPr/>
            <p:nvPr/>
          </p:nvSpPr>
          <p:spPr>
            <a:xfrm>
              <a:off x="3581640" y="350532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lum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Text Box 35"/>
            <p:cNvSpPr/>
            <p:nvPr/>
          </p:nvSpPr>
          <p:spPr>
            <a:xfrm>
              <a:off x="4953240" y="350532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lum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36"/>
            <p:cNvSpPr/>
            <p:nvPr/>
          </p:nvSpPr>
          <p:spPr>
            <a:xfrm>
              <a:off x="6324840" y="350532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lum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37"/>
            <p:cNvSpPr/>
            <p:nvPr/>
          </p:nvSpPr>
          <p:spPr>
            <a:xfrm>
              <a:off x="2210040" y="350532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lumn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Text Box 38"/>
            <p:cNvSpPr/>
            <p:nvPr/>
          </p:nvSpPr>
          <p:spPr>
            <a:xfrm>
              <a:off x="1296720" y="449568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w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Text Box 39"/>
            <p:cNvSpPr/>
            <p:nvPr/>
          </p:nvSpPr>
          <p:spPr>
            <a:xfrm>
              <a:off x="1296720" y="502920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w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40"/>
            <p:cNvSpPr/>
            <p:nvPr/>
          </p:nvSpPr>
          <p:spPr>
            <a:xfrm>
              <a:off x="1296720" y="548640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w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3E96B496-59D4-4A24-A34A-64E0E18DE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ing a two-dimensional array requires two sets of brackets and two size decla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one is for the number of 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cond one is for the number of colum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[][] scores = new double[3][4];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sets of brackets in the data type indicate that the scores variable will reference a two-dimensional arr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each size declarator is enclosed in its own set of brac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4"/>
          <p:cNvSpPr/>
          <p:nvPr/>
        </p:nvSpPr>
        <p:spPr>
          <a:xfrm rot="5400000">
            <a:off x="2328840" y="3429000"/>
            <a:ext cx="152640" cy="457200"/>
          </a:xfrm>
          <a:custGeom>
            <a:avLst/>
            <a:gdLst>
              <a:gd name="textAreaLeft" fmla="*/ 0 w 152640"/>
              <a:gd name="textAreaRight" fmla="*/ 5508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193040" y="3832200"/>
            <a:ext cx="24606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wo dimensional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5112000" y="3886200"/>
            <a:ext cx="6775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5949720" y="3886200"/>
            <a:ext cx="10447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0"/>
          <p:cNvSpPr/>
          <p:nvPr/>
        </p:nvSpPr>
        <p:spPr>
          <a:xfrm flipV="1">
            <a:off x="5486400" y="3580920"/>
            <a:ext cx="7632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1"/>
          <p:cNvSpPr/>
          <p:nvPr/>
        </p:nvSpPr>
        <p:spPr>
          <a:xfrm flipH="1" flipV="1">
            <a:off x="6019920" y="3580920"/>
            <a:ext cx="30456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6269935C-F222-486A-89E0-B19A2EFB1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ng Two-Dimensional Array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processing the data in a two-dimensional array, each element has two subscrip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or its row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for its colum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42AB38C0-D368-482E-AE9F-64E5F24CF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ng Two-Dimensional Array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5"/>
          <p:cNvSpPr/>
          <p:nvPr/>
        </p:nvSpPr>
        <p:spPr>
          <a:xfrm>
            <a:off x="72532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0]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56"/>
          <p:cNvSpPr/>
          <p:nvPr/>
        </p:nvSpPr>
        <p:spPr>
          <a:xfrm>
            <a:off x="58006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0]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57"/>
          <p:cNvSpPr/>
          <p:nvPr/>
        </p:nvSpPr>
        <p:spPr>
          <a:xfrm>
            <a:off x="43480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0]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58"/>
          <p:cNvSpPr/>
          <p:nvPr/>
        </p:nvSpPr>
        <p:spPr>
          <a:xfrm>
            <a:off x="28954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0]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69"/>
          <p:cNvSpPr/>
          <p:nvPr/>
        </p:nvSpPr>
        <p:spPr>
          <a:xfrm>
            <a:off x="2133720" y="365760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70"/>
          <p:cNvSpPr/>
          <p:nvPr/>
        </p:nvSpPr>
        <p:spPr>
          <a:xfrm>
            <a:off x="453276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71"/>
          <p:cNvSpPr/>
          <p:nvPr/>
        </p:nvSpPr>
        <p:spPr>
          <a:xfrm>
            <a:off x="600588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72"/>
          <p:cNvSpPr/>
          <p:nvPr/>
        </p:nvSpPr>
        <p:spPr>
          <a:xfrm>
            <a:off x="747900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73"/>
          <p:cNvSpPr/>
          <p:nvPr/>
        </p:nvSpPr>
        <p:spPr>
          <a:xfrm>
            <a:off x="305964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74"/>
          <p:cNvSpPr/>
          <p:nvPr/>
        </p:nvSpPr>
        <p:spPr>
          <a:xfrm>
            <a:off x="2135160" y="41148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75"/>
          <p:cNvSpPr/>
          <p:nvPr/>
        </p:nvSpPr>
        <p:spPr>
          <a:xfrm>
            <a:off x="2135160" y="46483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78"/>
          <p:cNvSpPr/>
          <p:nvPr/>
        </p:nvSpPr>
        <p:spPr>
          <a:xfrm>
            <a:off x="-153720" y="2441520"/>
            <a:ext cx="31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the address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array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79"/>
          <p:cNvSpPr/>
          <p:nvPr/>
        </p:nvSpPr>
        <p:spPr>
          <a:xfrm>
            <a:off x="685800" y="34290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81"/>
          <p:cNvSpPr/>
          <p:nvPr/>
        </p:nvSpPr>
        <p:spPr>
          <a:xfrm>
            <a:off x="160020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82"/>
          <p:cNvSpPr/>
          <p:nvPr/>
        </p:nvSpPr>
        <p:spPr>
          <a:xfrm>
            <a:off x="72532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1]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83"/>
          <p:cNvSpPr/>
          <p:nvPr/>
        </p:nvSpPr>
        <p:spPr>
          <a:xfrm>
            <a:off x="58006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1]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4"/>
          <p:cNvSpPr/>
          <p:nvPr/>
        </p:nvSpPr>
        <p:spPr>
          <a:xfrm>
            <a:off x="43480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1]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85"/>
          <p:cNvSpPr/>
          <p:nvPr/>
        </p:nvSpPr>
        <p:spPr>
          <a:xfrm>
            <a:off x="28954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1]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86"/>
          <p:cNvSpPr/>
          <p:nvPr/>
        </p:nvSpPr>
        <p:spPr>
          <a:xfrm>
            <a:off x="72532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2]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87"/>
          <p:cNvSpPr/>
          <p:nvPr/>
        </p:nvSpPr>
        <p:spPr>
          <a:xfrm>
            <a:off x="58006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2]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88"/>
          <p:cNvSpPr/>
          <p:nvPr/>
        </p:nvSpPr>
        <p:spPr>
          <a:xfrm>
            <a:off x="43480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2]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89"/>
          <p:cNvSpPr/>
          <p:nvPr/>
        </p:nvSpPr>
        <p:spPr>
          <a:xfrm>
            <a:off x="28954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s[2]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0EC52BCA-1A74-4B90-BA43-81839685E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ng Two-Dimensional Array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2971800" y="17524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-Regular"/>
              </a:rPr>
              <a:t>Accessing one of the elements in a two-dimensional array requires the use of both subscript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  <a:ea typeface="Arial"/>
              </a:rPr>
              <a:t>scores[2][1] = 9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72532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58006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43480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28954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133720" y="365760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453276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00588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1"/>
          <p:cNvSpPr/>
          <p:nvPr/>
        </p:nvSpPr>
        <p:spPr>
          <a:xfrm>
            <a:off x="747900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5964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3"/>
          <p:cNvSpPr/>
          <p:nvPr/>
        </p:nvSpPr>
        <p:spPr>
          <a:xfrm>
            <a:off x="2135160" y="41148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4"/>
          <p:cNvSpPr/>
          <p:nvPr/>
        </p:nvSpPr>
        <p:spPr>
          <a:xfrm>
            <a:off x="2135160" y="46483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7"/>
          <p:cNvSpPr/>
          <p:nvPr/>
        </p:nvSpPr>
        <p:spPr>
          <a:xfrm>
            <a:off x="685800" y="34290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8"/>
          <p:cNvSpPr/>
          <p:nvPr/>
        </p:nvSpPr>
        <p:spPr>
          <a:xfrm>
            <a:off x="160020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9"/>
          <p:cNvSpPr/>
          <p:nvPr/>
        </p:nvSpPr>
        <p:spPr>
          <a:xfrm>
            <a:off x="72532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20"/>
          <p:cNvSpPr/>
          <p:nvPr/>
        </p:nvSpPr>
        <p:spPr>
          <a:xfrm>
            <a:off x="58006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21"/>
          <p:cNvSpPr/>
          <p:nvPr/>
        </p:nvSpPr>
        <p:spPr>
          <a:xfrm>
            <a:off x="43480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22"/>
          <p:cNvSpPr/>
          <p:nvPr/>
        </p:nvSpPr>
        <p:spPr>
          <a:xfrm>
            <a:off x="28954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3"/>
          <p:cNvSpPr/>
          <p:nvPr/>
        </p:nvSpPr>
        <p:spPr>
          <a:xfrm>
            <a:off x="72532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24"/>
          <p:cNvSpPr/>
          <p:nvPr/>
        </p:nvSpPr>
        <p:spPr>
          <a:xfrm>
            <a:off x="58006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25"/>
          <p:cNvSpPr/>
          <p:nvPr/>
        </p:nvSpPr>
        <p:spPr>
          <a:xfrm>
            <a:off x="43480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6"/>
          <p:cNvSpPr/>
          <p:nvPr/>
        </p:nvSpPr>
        <p:spPr>
          <a:xfrm>
            <a:off x="28954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1"/>
          <p:cNvSpPr/>
          <p:nvPr/>
        </p:nvSpPr>
        <p:spPr>
          <a:xfrm>
            <a:off x="-153720" y="2441520"/>
            <a:ext cx="31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the address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array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500B58F4-AD94-4538-84C9-FEFBF87C6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ng Two-Dimensional Array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that process two-dimensional arrays can do so with nested l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ll the scores array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row = 0; row &lt; 3; row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col = 0; col &lt; 4; col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("Enter a score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ores[row][col] = keyboard.nextDoub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10"/>
          <p:cNvGrpSpPr/>
          <p:nvPr/>
        </p:nvGrpSpPr>
        <p:grpSpPr>
          <a:xfrm>
            <a:off x="4800240" y="2438280"/>
            <a:ext cx="3200760" cy="762120"/>
            <a:chOff x="4800240" y="2438280"/>
            <a:chExt cx="3200760" cy="762120"/>
          </a:xfrm>
        </p:grpSpPr>
        <p:sp>
          <p:nvSpPr>
            <p:cNvPr id="524" name="Text Box 4"/>
            <p:cNvSpPr/>
            <p:nvPr/>
          </p:nvSpPr>
          <p:spPr>
            <a:xfrm>
              <a:off x="5410080" y="2438280"/>
              <a:ext cx="2590920" cy="64260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</a:rPr>
                <a:t>Number of rows, not the largest subscr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5"/>
            <p:cNvSpPr/>
            <p:nvPr/>
          </p:nvSpPr>
          <p:spPr>
            <a:xfrm flipH="1">
              <a:off x="4800240" y="2819160"/>
              <a:ext cx="609480" cy="3812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Group 11"/>
          <p:cNvGrpSpPr/>
          <p:nvPr/>
        </p:nvGrpSpPr>
        <p:grpSpPr>
          <a:xfrm>
            <a:off x="5181480" y="3417840"/>
            <a:ext cx="3429000" cy="916920"/>
            <a:chOff x="5181480" y="3417840"/>
            <a:chExt cx="3429000" cy="916920"/>
          </a:xfrm>
        </p:grpSpPr>
        <p:sp>
          <p:nvSpPr>
            <p:cNvPr id="527" name="Text Box 6"/>
            <p:cNvSpPr/>
            <p:nvPr/>
          </p:nvSpPr>
          <p:spPr>
            <a:xfrm>
              <a:off x="6629400" y="3417840"/>
              <a:ext cx="1981080" cy="91692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</a:rPr>
                <a:t>Number of columns, not the largest subscr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 flipH="1">
              <a:off x="5181480" y="3570120"/>
              <a:ext cx="1447920" cy="3808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Group 12"/>
          <p:cNvGrpSpPr/>
          <p:nvPr/>
        </p:nvGrpSpPr>
        <p:grpSpPr>
          <a:xfrm>
            <a:off x="5409720" y="5292360"/>
            <a:ext cx="3124800" cy="947880"/>
            <a:chOff x="5409720" y="5292360"/>
            <a:chExt cx="3124800" cy="947880"/>
          </a:xfrm>
        </p:grpSpPr>
        <p:sp>
          <p:nvSpPr>
            <p:cNvPr id="530" name="Text Box 8"/>
            <p:cNvSpPr/>
            <p:nvPr/>
          </p:nvSpPr>
          <p:spPr>
            <a:xfrm>
              <a:off x="6019560" y="5597640"/>
              <a:ext cx="2514960" cy="64260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Courier New"/>
                </a:rPr>
                <a:t>keyboard</a:t>
              </a: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</a:rPr>
                <a:t> references a </a:t>
              </a:r>
              <a:r>
                <a:rPr b="0" lang="en-US" sz="1800" spc="-1" strike="noStrike">
                  <a:solidFill>
                    <a:srgbClr val="009999"/>
                  </a:solidFill>
                  <a:latin typeface="Courier New"/>
                </a:rPr>
                <a:t>Scanner</a:t>
              </a: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</a:rPr>
                <a:t> 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9"/>
            <p:cNvSpPr/>
            <p:nvPr/>
          </p:nvSpPr>
          <p:spPr>
            <a:xfrm flipH="1" flipV="1">
              <a:off x="5409720" y="5292360"/>
              <a:ext cx="609480" cy="685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B0D26420-A9C1-4DBF-9572-4FF282DD9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ray is an object so it needs an object referenc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Declare a reference to an array that will hold integers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number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xt step creates the array and assigns its address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ate a new array that will hold 6 integ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 = new int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2505960" y="5622840"/>
            <a:ext cx="433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</a:rPr>
              <a:t>Array element values are initialized to 0.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rray indexes always start at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81120" y="4937040"/>
            <a:ext cx="1031760" cy="34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635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651680" y="5286240"/>
            <a:ext cx="8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2612880" y="4937040"/>
            <a:ext cx="1032120" cy="34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635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2683440" y="5286240"/>
            <a:ext cx="8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4"/>
          <p:cNvSpPr/>
          <p:nvPr/>
        </p:nvSpPr>
        <p:spPr>
          <a:xfrm>
            <a:off x="3645000" y="4937040"/>
            <a:ext cx="1031760" cy="34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635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3715560" y="5286240"/>
            <a:ext cx="8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7"/>
          <p:cNvSpPr/>
          <p:nvPr/>
        </p:nvSpPr>
        <p:spPr>
          <a:xfrm>
            <a:off x="4676760" y="4937040"/>
            <a:ext cx="1031760" cy="34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635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8"/>
          <p:cNvSpPr/>
          <p:nvPr/>
        </p:nvSpPr>
        <p:spPr>
          <a:xfrm>
            <a:off x="4748760" y="5286240"/>
            <a:ext cx="8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5708520" y="4937040"/>
            <a:ext cx="1032120" cy="34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635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1"/>
          <p:cNvSpPr/>
          <p:nvPr/>
        </p:nvSpPr>
        <p:spPr>
          <a:xfrm>
            <a:off x="5780880" y="5286240"/>
            <a:ext cx="8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3"/>
          <p:cNvSpPr/>
          <p:nvPr/>
        </p:nvSpPr>
        <p:spPr>
          <a:xfrm>
            <a:off x="6740640" y="4937040"/>
            <a:ext cx="1031760" cy="34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635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4"/>
          <p:cNvSpPr/>
          <p:nvPr/>
        </p:nvSpPr>
        <p:spPr>
          <a:xfrm>
            <a:off x="6812640" y="5286240"/>
            <a:ext cx="8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005C2C93-C816-414B-BE2A-9107BA472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ng Two-Dimensional Array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int ou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row = 0; row &lt; 3; row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col = 0; col &lt; 4; col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cores[row][col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CorpSale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E76CC414-7073-47DB-92B8-6BF586511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itializing a Two-Dimensional A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ing a two-dimensional array requires enclosing each row’s initialization list in its own set of brac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[] numbers = {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, 2, 3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, 5, 6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, 8, 9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automatically creates the array and fills its elements with the initializa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0    {1, 2, 3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1    {4, 5, 6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2    {7, 8, 9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es an array with three rows and three colum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F2CAB45A-E761-4057-A16B-6CFD54DA3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itializing a Two-Dimensional A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58006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43480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2895480" y="36576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2133720" y="365760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453276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600588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2"/>
          <p:cNvSpPr/>
          <p:nvPr/>
        </p:nvSpPr>
        <p:spPr>
          <a:xfrm>
            <a:off x="3059640" y="32479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2135160" y="41148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2135160" y="46483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685800" y="34290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7"/>
          <p:cNvSpPr/>
          <p:nvPr/>
        </p:nvSpPr>
        <p:spPr>
          <a:xfrm>
            <a:off x="160020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9"/>
          <p:cNvSpPr/>
          <p:nvPr/>
        </p:nvSpPr>
        <p:spPr>
          <a:xfrm>
            <a:off x="58006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0"/>
          <p:cNvSpPr/>
          <p:nvPr/>
        </p:nvSpPr>
        <p:spPr>
          <a:xfrm>
            <a:off x="43480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21"/>
          <p:cNvSpPr/>
          <p:nvPr/>
        </p:nvSpPr>
        <p:spPr>
          <a:xfrm>
            <a:off x="2895480" y="41148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23"/>
          <p:cNvSpPr/>
          <p:nvPr/>
        </p:nvSpPr>
        <p:spPr>
          <a:xfrm>
            <a:off x="58006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24"/>
          <p:cNvSpPr/>
          <p:nvPr/>
        </p:nvSpPr>
        <p:spPr>
          <a:xfrm>
            <a:off x="43480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25"/>
          <p:cNvSpPr/>
          <p:nvPr/>
        </p:nvSpPr>
        <p:spPr>
          <a:xfrm>
            <a:off x="2895480" y="4572000"/>
            <a:ext cx="1452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30"/>
          <p:cNvSpPr/>
          <p:nvPr/>
        </p:nvSpPr>
        <p:spPr>
          <a:xfrm>
            <a:off x="227520" y="244476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s the address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D array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1"/>
          <p:cNvSpPr/>
          <p:nvPr/>
        </p:nvSpPr>
        <p:spPr>
          <a:xfrm>
            <a:off x="3125880" y="1523880"/>
            <a:ext cx="383832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[] numbers = {{1, 2, 3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4, 5, 6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7, 8, 9}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32"/>
          <p:cNvCxnSpPr>
            <a:stCxn id="558" idx="2"/>
            <a:endCxn id="544" idx="0"/>
          </p:cNvCxnSpPr>
          <p:nvPr/>
        </p:nvCxnSpPr>
        <p:spPr>
          <a:xfrm flipH="1" rot="16200000">
            <a:off x="4813200" y="3007800"/>
            <a:ext cx="471960" cy="8640"/>
          </a:xfrm>
          <a:prstGeom prst="bentConnector3">
            <a:avLst>
              <a:gd name="adj1" fmla="val 4977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8EFED6E4-0791-4BE2-8A89-25C09E59F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dimensional arrays are arrays of one-dimensional arr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ngth field of the array gives the number of rows in the arr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row has a length constant tells how many columns is in that 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row can have a different number of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173FB2D9-1B64-40E1-8967-B6C9D8398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ces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elds of the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[][] numbers = { { 1, 2, 3, 4 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5, 6, 7 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9, 10, 11, 12 }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nt row = 0; row &lt;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numbers.leng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row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nt col = 0; col &lt;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numbers[row].leng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col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numbers[row][col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Length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restigeElit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restigeElit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Group 23"/>
          <p:cNvGrpSpPr/>
          <p:nvPr/>
        </p:nvGrpSpPr>
        <p:grpSpPr>
          <a:xfrm>
            <a:off x="380520" y="2761920"/>
            <a:ext cx="7828560" cy="2270160"/>
            <a:chOff x="380520" y="2761920"/>
            <a:chExt cx="7828560" cy="2270160"/>
          </a:xfrm>
        </p:grpSpPr>
        <p:grpSp>
          <p:nvGrpSpPr>
            <p:cNvPr id="567" name="Group 12"/>
            <p:cNvGrpSpPr/>
            <p:nvPr/>
          </p:nvGrpSpPr>
          <p:grpSpPr>
            <a:xfrm>
              <a:off x="380520" y="2761920"/>
              <a:ext cx="5023440" cy="2111760"/>
              <a:chOff x="380520" y="2761920"/>
              <a:chExt cx="5023440" cy="2111760"/>
            </a:xfrm>
          </p:grpSpPr>
          <p:sp>
            <p:nvSpPr>
              <p:cNvPr id="568" name="Line 8"/>
              <p:cNvSpPr/>
              <p:nvPr/>
            </p:nvSpPr>
            <p:spPr>
              <a:xfrm flipH="1">
                <a:off x="380880" y="4873680"/>
                <a:ext cx="5493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Line 9"/>
              <p:cNvSpPr/>
              <p:nvPr/>
            </p:nvSpPr>
            <p:spPr>
              <a:xfrm flipV="1">
                <a:off x="380880" y="2761920"/>
                <a:ext cx="0" cy="211140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Line 10"/>
              <p:cNvSpPr/>
              <p:nvPr/>
            </p:nvSpPr>
            <p:spPr>
              <a:xfrm flipH="1">
                <a:off x="380520" y="2762280"/>
                <a:ext cx="50230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11"/>
              <p:cNvSpPr/>
              <p:nvPr/>
            </p:nvSpPr>
            <p:spPr>
              <a:xfrm>
                <a:off x="5403960" y="2762280"/>
                <a:ext cx="0" cy="2008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18"/>
            <p:cNvGrpSpPr/>
            <p:nvPr/>
          </p:nvGrpSpPr>
          <p:grpSpPr>
            <a:xfrm>
              <a:off x="6424200" y="3666960"/>
              <a:ext cx="549360" cy="904320"/>
              <a:chOff x="6424200" y="3666960"/>
              <a:chExt cx="549360" cy="904320"/>
            </a:xfrm>
          </p:grpSpPr>
          <p:sp>
            <p:nvSpPr>
              <p:cNvPr id="573" name="Line 13"/>
              <p:cNvSpPr/>
              <p:nvPr/>
            </p:nvSpPr>
            <p:spPr>
              <a:xfrm flipV="1">
                <a:off x="6973560" y="3968280"/>
                <a:ext cx="0" cy="6030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Line 15"/>
              <p:cNvSpPr/>
              <p:nvPr/>
            </p:nvSpPr>
            <p:spPr>
              <a:xfrm flipH="1">
                <a:off x="6424200" y="3968640"/>
                <a:ext cx="5490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Line 16"/>
              <p:cNvSpPr/>
              <p:nvPr/>
            </p:nvSpPr>
            <p:spPr>
              <a:xfrm flipV="1">
                <a:off x="6424560" y="3666960"/>
                <a:ext cx="0" cy="30132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Text Box 20"/>
            <p:cNvSpPr/>
            <p:nvPr/>
          </p:nvSpPr>
          <p:spPr>
            <a:xfrm>
              <a:off x="763560" y="4572360"/>
              <a:ext cx="74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PrestigeElite"/>
                </a:rPr>
                <a:t>Number of rows</a:t>
              </a:r>
              <a:r>
                <a:rPr b="0" lang="en-US" sz="2400" spc="-1" strike="noStrike">
                  <a:solidFill>
                    <a:srgbClr val="000000"/>
                  </a:solidFill>
                  <a:latin typeface="PrestigeElite"/>
                </a:rPr>
                <a:t>	</a:t>
              </a:r>
              <a:r>
                <a:rPr b="0" lang="en-US" sz="2400" spc="-1" strike="noStrike">
                  <a:solidFill>
                    <a:srgbClr val="333399"/>
                  </a:solidFill>
                  <a:latin typeface="PrestigeElite"/>
                </a:rPr>
                <a:t>Number of columns in this row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25"/>
          <p:cNvGrpSpPr/>
          <p:nvPr/>
        </p:nvGrpSpPr>
        <p:grpSpPr>
          <a:xfrm>
            <a:off x="1376280" y="2209320"/>
            <a:ext cx="7386840" cy="3686400"/>
            <a:chOff x="1376280" y="2209320"/>
            <a:chExt cx="7386840" cy="3686400"/>
          </a:xfrm>
        </p:grpSpPr>
        <p:grpSp>
          <p:nvGrpSpPr>
            <p:cNvPr id="578" name="Group 24"/>
            <p:cNvGrpSpPr/>
            <p:nvPr/>
          </p:nvGrpSpPr>
          <p:grpSpPr>
            <a:xfrm>
              <a:off x="5105520" y="2209320"/>
              <a:ext cx="3657600" cy="3505680"/>
              <a:chOff x="5105520" y="2209320"/>
              <a:chExt cx="3657600" cy="3505680"/>
            </a:xfrm>
          </p:grpSpPr>
          <p:sp>
            <p:nvSpPr>
              <p:cNvPr id="579" name="Line 4"/>
              <p:cNvSpPr/>
              <p:nvPr/>
            </p:nvSpPr>
            <p:spPr>
              <a:xfrm>
                <a:off x="7467480" y="5715000"/>
                <a:ext cx="1295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Line 5"/>
              <p:cNvSpPr/>
              <p:nvPr/>
            </p:nvSpPr>
            <p:spPr>
              <a:xfrm flipV="1">
                <a:off x="8763120" y="2209320"/>
                <a:ext cx="0" cy="35053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Line 6"/>
              <p:cNvSpPr/>
              <p:nvPr/>
            </p:nvSpPr>
            <p:spPr>
              <a:xfrm flipH="1">
                <a:off x="5105520" y="2209680"/>
                <a:ext cx="3657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Text Box 21"/>
            <p:cNvSpPr/>
            <p:nvPr/>
          </p:nvSpPr>
          <p:spPr>
            <a:xfrm>
              <a:off x="1376280" y="5375160"/>
              <a:ext cx="597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array can have variable length row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4E17F2F0-FF5A-4419-A52F-6FC4CAD0F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ing The Elements of a Two-Dimensional A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[] numbers = { { 1, 2, 3, 4 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5, 6, 7, 8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9, 10, 11, 12}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ot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al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row = 0; row &lt; numbers.length; row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col = 0; col &lt; numbers[row].length; col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al += numbers[row][co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The total is " + tot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F5BE0B24-F208-41AC-B208-18B336895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ing The Rows of a Two-Dimensional A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[] numbers = {{ 1, 2, 3, 4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5, 6, 7, 8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9, 10, 11, 12}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ot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r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 0;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 numbers.length;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al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</a:t>
            </a:r>
            <a:r>
              <a:rPr b="1" lang="en-US" sz="1800" spc="-1" strike="noStrike">
                <a:solidFill>
                  <a:srgbClr val="00ff00"/>
                </a:solidFill>
                <a:latin typeface="Courier New"/>
              </a:rPr>
              <a:t>co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0; </a:t>
            </a:r>
            <a:r>
              <a:rPr b="1" lang="en-US" sz="1800" spc="-1" strike="noStrike">
                <a:solidFill>
                  <a:srgbClr val="00ff00"/>
                </a:solidFill>
                <a:latin typeface="Courier New"/>
              </a:rPr>
              <a:t>co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 numbers[row].length; </a:t>
            </a:r>
            <a:r>
              <a:rPr b="1" lang="en-US" sz="1800" spc="-1" strike="noStrike">
                <a:solidFill>
                  <a:srgbClr val="00ff00"/>
                </a:solidFill>
                <a:latin typeface="Courier New"/>
              </a:rPr>
              <a:t>co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al += numbers[row][co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Total of row 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row + " is " + tot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0FE93CE7-6542-42EB-87FE-EA8B31360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ing The Columns of a Two-Dimensional A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[] numbers = {{1, 2, 3, 4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5, 6, 7, 8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9, 10, 11, 12}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o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</a:t>
            </a:r>
            <a:r>
              <a:rPr b="1" lang="en-US" sz="2000" spc="-1" strike="noStrike">
                <a:solidFill>
                  <a:srgbClr val="00ff00"/>
                </a:solidFill>
                <a:latin typeface="Courier New"/>
              </a:rPr>
              <a:t>co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; </a:t>
            </a:r>
            <a:r>
              <a:rPr b="1" lang="en-US" sz="2000" spc="-1" strike="noStrike">
                <a:solidFill>
                  <a:srgbClr val="00ff00"/>
                </a:solidFill>
                <a:latin typeface="Courier New"/>
              </a:rPr>
              <a:t>co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 numbers[0].length; </a:t>
            </a:r>
            <a:r>
              <a:rPr b="1" lang="en-US" sz="2000" spc="-1" strike="noStrike">
                <a:solidFill>
                  <a:srgbClr val="00ff00"/>
                </a:solidFill>
                <a:latin typeface="Courier New"/>
              </a:rPr>
              <a:t>co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;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 numbers.length;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 += numbers[row][co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otal of column 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col + " is " + tot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DC1582BC-0393-412F-8EDB-CC587496B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sing and Returning Two-Dimensional Array 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difference between passing a single or two-dimensional array as an argument to a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 must accept a two-dimensional array as a parame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Pass2Darray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E6C7E9AE-3E8F-4461-A875-0833E2E5C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gged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rows of a two-dimensional array are of different lengths, the array is known a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g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create a ragged array by creating a two-dimensional array with a specific number of rows, but no colum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[][] ragged = new int [4][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create the individual r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gged[0] = new int [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gged[1] = new int [4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gged[2] = new int [5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gged[3] = new int 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F19AD5AE-ECA1-40FF-8240-E2E35DCB1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possible to declare an array reference and create it in the same stateme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bers = new int[6];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may be of any typ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[] temperatures = new float[10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[] letters = new char[4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[] units = new long[5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[] sizes = new double[120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1992D719-2A31-468F-B5C9-570C89355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Than Two Dim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17524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does not limit the number of dimensions that an array may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three dimensions is hard to visualize, but can be useful in some programming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4" descr="threeDarray"/>
          <p:cNvPicPr/>
          <p:nvPr/>
        </p:nvPicPr>
        <p:blipFill>
          <a:blip r:embed="rId1"/>
          <a:srcRect l="0" t="1181" r="0" b="0"/>
          <a:stretch/>
        </p:blipFill>
        <p:spPr>
          <a:xfrm>
            <a:off x="1600200" y="3614760"/>
            <a:ext cx="54864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8FA94A41-0368-4A4E-AD9C-8E7E0FDA9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on S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election s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est value in the array is located and moved to element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next smallest value is located and moved to elemen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cess continues until all of the elements have been placed in their proper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SelectionSort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9177AEAF-7C78-40FF-B304-EC70DF45F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ary 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inary sea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an array sorted in ascending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with the element in the middle of the ar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at element is the desired value, the search is o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the value in the middle element is either greater or less than the desire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t is greater than the desired value, search in the first half of the ar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search the last half of the ar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as needed while adjusting start and end points of the sear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BinarySearch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2F08C45A-387C-4DAF-A168-A1601C6B8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and-Line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Java program can receive arguments from the operating system command-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has a header that looks like thi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ceiv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 as a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ray that is passed in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meter comes from the operating system command-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Hexagon 4"/>
          <p:cNvSpPr/>
          <p:nvPr/>
        </p:nvSpPr>
        <p:spPr>
          <a:xfrm>
            <a:off x="6858000" y="5334120"/>
            <a:ext cx="114300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and-Line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un the exampl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 CommandLine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How does this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s[0] is assigned "How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s[1] is assigned "doe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s[2] is assigned "thi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s[3] is assigned "work?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CommandLine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AA5A0AD0-437F-4508-95D7-C946E0DC1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-Length Argument 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type parameter – varar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VarArgsDemo1.java, VarargsDemo2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sum(int... numb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otal = 0; // Accu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Add all the values in the numbers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val : numb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 +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Return the to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ot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C6BBB8A6-90BF-41B9-BD41-6AF72FEB2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rrayList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an array,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s object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an array,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ally expands when a new item is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ally shrinks when items are re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54DEEEB5-1DDF-4611-AD86-098276CB2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3766FA40-E266-4857-A9E8-A00B6D2E6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5"/>
          <p:cNvSpPr/>
          <p:nvPr/>
        </p:nvSpPr>
        <p:spPr>
          <a:xfrm>
            <a:off x="380880" y="1676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nameList = new ArrayList&lt;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609480" y="28195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 wor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itten inside angled brackets &lt;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Straight Arrow Connector 8"/>
          <p:cNvCxnSpPr/>
          <p:nvPr/>
        </p:nvCxnSpPr>
        <p:spPr>
          <a:xfrm flipH="1" flipV="1">
            <a:off x="2361600" y="2057040"/>
            <a:ext cx="533880" cy="5342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28" name="Straight Arrow Connector 10"/>
          <p:cNvCxnSpPr/>
          <p:nvPr/>
        </p:nvCxnSpPr>
        <p:spPr>
          <a:xfrm flipV="1">
            <a:off x="6172200" y="1980360"/>
            <a:ext cx="457920" cy="6865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9" name="TextBox 11"/>
          <p:cNvSpPr/>
          <p:nvPr/>
        </p:nvSpPr>
        <p:spPr>
          <a:xfrm>
            <a:off x="609480" y="38862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pecifies that the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ol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12"/>
          <p:cNvSpPr/>
          <p:nvPr/>
        </p:nvSpPr>
        <p:spPr>
          <a:xfrm>
            <a:off x="609480" y="4952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try to store any other type of object in th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, an error will occ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opulat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List.add("Jame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List.add("Catherine"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the current size, call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List.size();  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// return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3145CBCC-2513-4EDE-B6DA-0065DAFAB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3677E86B-BA7D-4039-8289-0BE8C5221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Ar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ray size must be a non-negativ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may be a literal value, a constant, or variabl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 int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ARRAY_SIZE = 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numbers = new int[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ARRAY_SIZ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created, an array size is fixed and cannot be chan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cess item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List.get(1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ing over an ArrayLi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ndex = 0; index &lt; nameList.size(); index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nameList.get(index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&lt;Type&gt; currentElement : &lt;arrayListName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urrentEl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rrayListDemo1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72F963F1-CD46-4C63-A468-5D0D24824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urns a string representing all items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List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.toString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statement yiel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 James, Catherine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removes designated item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List.remove(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statement removes the second i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example: ArrayListDemo3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A584E77E-D8D0-40D7-A692-D5ABD67DD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th one argument adds new items to the end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sert items at a location of choice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th two argument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List.add(1, "Mary"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statement insert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"Mary" at index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place an existing item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List.set(1, "Becky"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statement replaces “Mary” with “Beck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ArrayListDemo5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552B78B0-5BCC-4DC9-88C0-001360CFA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a capacity, which is the number of items it can hold without increasing its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capacity of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10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signate a different capacity, use a parameterized constructor:</a:t>
            </a:r>
            <a:br>
              <a:rPr sz="2400"/>
            </a:b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1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885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d885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630D8B10-92D4-4B9A-A907-12785FADA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store any typ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DBECB5FD-A8E4-4C4C-9645-894E65139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4"/>
          <p:cNvSpPr/>
          <p:nvPr/>
        </p:nvSpPr>
        <p:spPr>
          <a:xfrm>
            <a:off x="838080" y="2819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BankAccount&gt; accountList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ArrayList&lt;BankAccount&gt;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0" name="Straight Arrow Connector 6"/>
          <p:cNvCxnSpPr/>
          <p:nvPr/>
        </p:nvCxnSpPr>
        <p:spPr>
          <a:xfrm flipH="1" flipV="1">
            <a:off x="2895120" y="3200040"/>
            <a:ext cx="457920" cy="91512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51" name="Straight Arrow Connector 8"/>
          <p:cNvCxnSpPr/>
          <p:nvPr/>
        </p:nvCxnSpPr>
        <p:spPr>
          <a:xfrm flipV="1">
            <a:off x="5105520" y="3428280"/>
            <a:ext cx="381600" cy="68652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52" name="TextBox 9"/>
          <p:cNvSpPr/>
          <p:nvPr/>
        </p:nvSpPr>
        <p:spPr>
          <a:xfrm>
            <a:off x="1447920" y="42670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reate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n hol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4920" y="990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reate an ArrayList to hold BankAccount obje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BankAccount&gt; list = new ArrayList&lt;BankAccount&gt;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dd three BankAccount objects to the ArrayLi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add(new BankAccount(1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add(new BankAccount(5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add(new BankAccount(1500.0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isplay each i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ndex = 0; index &lt; list.size(); index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ankAccount account = list.get(ind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ccount at index " + index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\nBalance: " + account.getBalanc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89451AF2-B256-482B-BD76-C18F8F0ED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Box 13"/>
          <p:cNvSpPr/>
          <p:nvPr/>
        </p:nvSpPr>
        <p:spPr>
          <a:xfrm>
            <a:off x="1371600" y="5867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: ArrayListDemo6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B69CBF9E-A033-475E-8241-2359D28B0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ng the Elements of an A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2927160"/>
            <a:ext cx="8294400" cy="32446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y is access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ferenc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bscript that identifies which element in the array to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3"/>
          <p:cNvSpPr/>
          <p:nvPr/>
        </p:nvSpPr>
        <p:spPr>
          <a:xfrm>
            <a:off x="583560" y="4952880"/>
            <a:ext cx="74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numbers[0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20;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//pronounced "numbers sub zer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46"/>
          <p:cNvGrpSpPr/>
          <p:nvPr/>
        </p:nvGrpSpPr>
        <p:grpSpPr>
          <a:xfrm>
            <a:off x="1143000" y="1676520"/>
            <a:ext cx="6862680" cy="718200"/>
            <a:chOff x="1143000" y="1676520"/>
            <a:chExt cx="6862680" cy="718200"/>
          </a:xfrm>
        </p:grpSpPr>
        <p:sp>
          <p:nvSpPr>
            <p:cNvPr id="130" name="Rectangle 6"/>
            <p:cNvSpPr/>
            <p:nvPr/>
          </p:nvSpPr>
          <p:spPr>
            <a:xfrm>
              <a:off x="1143000" y="1676520"/>
              <a:ext cx="1147680" cy="349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1143000" y="20574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umbers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286000" y="1676520"/>
              <a:ext cx="1147680" cy="349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29"/>
            <p:cNvSpPr/>
            <p:nvPr/>
          </p:nvSpPr>
          <p:spPr>
            <a:xfrm>
              <a:off x="2286000" y="20574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umbers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31"/>
            <p:cNvSpPr/>
            <p:nvPr/>
          </p:nvSpPr>
          <p:spPr>
            <a:xfrm>
              <a:off x="3429000" y="1676520"/>
              <a:ext cx="1147680" cy="349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32"/>
            <p:cNvSpPr/>
            <p:nvPr/>
          </p:nvSpPr>
          <p:spPr>
            <a:xfrm>
              <a:off x="3429000" y="20574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umbers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34"/>
            <p:cNvSpPr/>
            <p:nvPr/>
          </p:nvSpPr>
          <p:spPr>
            <a:xfrm>
              <a:off x="4572000" y="1676520"/>
              <a:ext cx="1147680" cy="349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35"/>
            <p:cNvSpPr/>
            <p:nvPr/>
          </p:nvSpPr>
          <p:spPr>
            <a:xfrm>
              <a:off x="4572000" y="20574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umbers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37"/>
            <p:cNvSpPr/>
            <p:nvPr/>
          </p:nvSpPr>
          <p:spPr>
            <a:xfrm>
              <a:off x="5715000" y="1676520"/>
              <a:ext cx="1147680" cy="349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38"/>
            <p:cNvSpPr/>
            <p:nvPr/>
          </p:nvSpPr>
          <p:spPr>
            <a:xfrm>
              <a:off x="5715000" y="20574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umbers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0"/>
            <p:cNvSpPr/>
            <p:nvPr/>
          </p:nvSpPr>
          <p:spPr>
            <a:xfrm>
              <a:off x="6858000" y="1676520"/>
              <a:ext cx="1147680" cy="349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41"/>
            <p:cNvSpPr/>
            <p:nvPr/>
          </p:nvSpPr>
          <p:spPr>
            <a:xfrm>
              <a:off x="6858000" y="20574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umbers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44"/>
            <p:cNvSpPr/>
            <p:nvPr/>
          </p:nvSpPr>
          <p:spPr>
            <a:xfrm>
              <a:off x="1447920" y="16765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463CCD05-EAA2-4A59-AB68-84D182353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ting and Output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elements can be treated as any other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simply accessed by the same name and a subscri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ArrayDemo1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ubscripts can be accessed using variables (such as for loop counte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ArrayDemo2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05:53:18Z</dcterms:created>
  <dc:creator>Tony Gaddis</dc:creator>
  <dc:description/>
  <cp:keywords/>
  <dc:language>en-US</dc:language>
  <cp:lastModifiedBy>ferreipb</cp:lastModifiedBy>
  <cp:lastPrinted>2009-04-22T19:24:48Z</cp:lastPrinted>
  <dcterms:modified xsi:type="dcterms:W3CDTF">2013-10-10T17:10:50Z</dcterms:modified>
  <cp:revision>112</cp:revision>
  <dc:subject>Arrays and the ArrayList Class </dc:subject>
  <dc:title>Chapter 8</dc:title>
</cp:coreProperties>
</file>