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A9B8-40DD-43B4-8C2D-8DBE1AF03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526C-A97A-453D-BAE8-598F48864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1B92-CBC9-4863-B554-1B3ED6133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857C-EE54-4979-9AEC-BA6B0EC3F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3FC7-C436-4649-875B-C470DDF82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B9E2-ED4B-4609-84C0-F52FF2F52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5AF9-FC60-4213-A14E-AC14985F1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210D-E2E3-444D-BA4F-318C95F0A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A2CC-ACDF-4CF1-B51C-9E92F9E85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6313-CB57-42D5-9021-8AE5888AB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B1B9-3A61-4518-889E-CDA388AB7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AF73-7F08-442A-B8D3-F5B1C97F9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F433-5FA2-421B-95CB-EE956FBEC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44A9-3A0F-4A89-A2A5-24DC590E5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FE23-24FE-4135-8A17-8BF2B3E40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948F-D69D-4E97-9B39-412C0BB09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0E89-4661-4F19-BACA-21BF0F3A3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28D9-46BD-44C3-9293-B1C8DD2B5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3102-F99C-435E-B5A4-F3A99033E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9991-C4A5-4CB8-B587-4B62D3D36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7246-71C7-41BD-83BC-26AECC695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B430-E036-419A-AACD-71B338C42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4DBC-9D5B-4FA8-B904-74C3D6A7C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62CF-4504-41D1-BF1E-3F9A6B4A8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386C-7D5E-40CB-9D5B-69CC4ADA9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36AF-A2B3-4407-80CA-F0AC60A18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3C3C-D570-479F-A429-EC6C61E9F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BF1E-08C2-4254-A6F0-4E4B650E0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C4BD-7289-4219-8C41-94BD666B8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3579-47C2-4ACD-AC38-A3B486623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0984-B3C7-4BCA-A791-A8BDC0284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9730-47D5-4B7C-BACB-4C0BDAE47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F8A5-3189-4DF7-BCE5-DAF074C0C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6864-B082-4C15-9E3F-F61A8792D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EFEE-E9DB-4140-8F00-E61FF53C8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7C4B-7C3B-4A29-99AC-67B1FBD08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33ED-5033-4A9A-8828-ECE6C1A77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5120-19FB-4B49-8477-4A27EE5E8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BD50-9EF3-493B-B6B9-086F06D08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52E6-49A9-46D8-BC81-8EEE12909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2701-3EAC-4003-AD2E-8814BED06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966C-0C84-4F64-BA06-166443362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5398-3420-4C2B-AC00-D9E905F45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23F8-753F-45B6-8AE2-246799993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9075-0088-428F-A02B-B98FE7F65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90DF-0EF1-4518-BBA6-AF3D32960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083D-98E3-43DD-9BE1-7771E8B54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6BAA-F8E8-456C-B884-F2CC09120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E2AF-D1D3-4700-89FE-5CAA021B4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AED8-5ABE-42EB-999C-842E37528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8EA6-8D64-422B-91E6-D2D371653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4F36-8471-41CA-B380-E0399596B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5F18-3BEE-4008-B177-F3B507432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8436-D620-401E-A653-6C9C29067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71BA-D911-401E-86CB-81DE4FD72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243C-12AB-47EA-9B0A-1A0F2022E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1DE7-3548-4E4A-8145-15484A740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19BA-4DBD-4C36-93D4-850364160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EF042-199B-4DA1-A3F3-C83DD24C1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12F4-B7BA-471D-97A4-FF6CDE64A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5621C-5B42-4B40-9105-13BD5CCD88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B1C8-E8AE-4A76-8442-EA89074E1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33FD9-8450-4AD0-A6A2-8FFAFBDF5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07090-E30A-4AE8-BA15-2285BA1F0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99579-92DB-45BE-A285-C899235AE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0436-744C-4CA0-BED6-0CB7FAC41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3E50D-6B72-4492-82D9-5BE829900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68A9-8934-4442-9644-0535CAFB9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 flipH="1">
            <a:off x="-2160" y="-9360"/>
            <a:ext cx="9140760" cy="2133360"/>
          </a:xfrm>
          <a:custGeom>
            <a:avLst/>
            <a:gdLst>
              <a:gd name="textAreaLeft" fmla="*/ 0 w 9140760"/>
              <a:gd name="textAreaRight" fmla="*/ 9140760 w 91407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885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037048B3-CC2B-4F71-BB2A-32C568D2F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0 Pearson Addison-Wesle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85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523880" y="62485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0 Pearson Addison-Wesley. All rights reserv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 flipH="1">
            <a:off x="0" y="1523880"/>
            <a:ext cx="9144000" cy="152640"/>
          </a:xfrm>
          <a:custGeom>
            <a:avLst/>
            <a:gdLst>
              <a:gd name="textAreaLeft" fmla="*/ 360 w 9144000"/>
              <a:gd name="textAreaRight" fmla="*/ 9144720 w 9144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d3d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6"/>
          <p:cNvGrpSpPr/>
          <p:nvPr/>
        </p:nvGrpSpPr>
        <p:grpSpPr>
          <a:xfrm>
            <a:off x="203040" y="5715000"/>
            <a:ext cx="1371600" cy="914400"/>
            <a:chOff x="203040" y="5715000"/>
            <a:chExt cx="1371600" cy="914400"/>
          </a:xfrm>
        </p:grpSpPr>
        <p:pic>
          <p:nvPicPr>
            <p:cNvPr id="45" name="Picture 4" descr="Pearson_CMYK"/>
            <p:cNvPicPr/>
            <p:nvPr/>
          </p:nvPicPr>
          <p:blipFill>
            <a:blip r:embed="rId2"/>
            <a:stretch/>
          </p:blipFill>
          <p:spPr>
            <a:xfrm>
              <a:off x="304920" y="6172200"/>
              <a:ext cx="11556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5"/>
            <p:cNvSpPr/>
            <p:nvPr/>
          </p:nvSpPr>
          <p:spPr>
            <a:xfrm>
              <a:off x="203040" y="5715000"/>
              <a:ext cx="1371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Addison Wesley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is an imprint o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HTML/BasicWebPage2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HTML/BasicWebPage3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HTML/BasicWebPage4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addisbooks.com/" TargetMode="External"/><Relationship Id="rId2" Type="http://schemas.openxmlformats.org/officeDocument/2006/relationships/hyperlink" Target="file:///HTML/LinkDemo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SimpleApplet/SimpleApplet.java" TargetMode="External"/><Relationship Id="rId2" Type="http://schemas.openxmlformats.org/officeDocument/2006/relationships/hyperlink" Target="file:///SimpleApplet/SimpleApplet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empConverter/TempConverter.java" TargetMode="External"/><Relationship Id="rId2" Type="http://schemas.openxmlformats.org/officeDocument/2006/relationships/hyperlink" Target="file:///TempConverter/TempConverter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AWTTempConverter/AWTTempConverter.java" TargetMode="External"/><Relationship Id="rId2" Type="http://schemas.openxmlformats.org/officeDocument/2006/relationships/hyperlink" Target="file:///AWTTempConverter/TempConverter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LineDemo/LineDemo.java" TargetMode="External"/><Relationship Id="rId2" Type="http://schemas.openxmlformats.org/officeDocument/2006/relationships/hyperlink" Target="file:///LineDemo/LineDemo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RectangleDemo/RectangleDemo.java" TargetMode="External"/><Relationship Id="rId2" Type="http://schemas.openxmlformats.org/officeDocument/2006/relationships/hyperlink" Target="file:///RectangleDemo/RectangleDemo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OvalDemo/OvalDemo.java" TargetMode="External"/><Relationship Id="rId2" Type="http://schemas.openxmlformats.org/officeDocument/2006/relationships/hyperlink" Target="file:///OvalDemo/OvalDemo.html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ArcDemo/ArcDemo.java" TargetMode="External"/><Relationship Id="rId2" Type="http://schemas.openxmlformats.org/officeDocument/2006/relationships/hyperlink" Target="file:///ArcDemo/ArcDemo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HTML/BasicWebPage1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304920" y="4572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pter 14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ets and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838080" y="198108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ing Out with Java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Control Structures through Objec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 Tony Gadd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DB4564C5-E7F5-4D11-B9B3-C3D834EA6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ument Structure Ta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he document head comes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&lt;body&gt;&lt;/body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cument bod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all of the tags and text that produce output in the brow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BasicWebPage2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610C3587-8016-41B5-A77B-7B82D65E0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xt Formatting Ta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many HTML tags that you can use to change the appearance of 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 there are six different header ta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h1&gt;&lt;/h1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roug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h6&gt;&lt;/h6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evel one header appears in boldface, and is much larger than regular 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evel two header also appears in boldface, but is smaller than a level one hea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attern continues with the other header ta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4A6340AC-3F59-4369-A99C-A735F30DC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xt Formatting Ta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tags allow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ig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tribute to be used to modify where the text shows on the web p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h1 align="center"&gt;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h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h1 align="left"&gt;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h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h1 align="right"&gt;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h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ld way of centering text is to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lt;center&gt;&lt;/center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g to center a line of 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display tex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boldfa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b&gt;&lt;/b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italic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i&gt;&lt;/i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BasicWebPage3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7C80F15A-9965-4B5D-B85A-8266AACD2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eaks in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lt;br /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g causes a line break to appear at the point in the text where it is insert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wsers usually ignore the newline characters that are created when you press the Enter ke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lt;p /&gt;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 causes a paragraph br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ragraph break typically inserts more space into the text than a line bre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34116BC6-19A8-4606-95B3-D4BBBA7E9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eaks in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&lt;hr /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g causes a horizontal rule to appear at the point in the text where it is inser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orizontal rule is a thin, horizontal line that is drawn across the web p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BasicWebPage4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7519FB23-3F97-4D44-9505-0699FD0BC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ML Li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k is some element in a Web page that can be clicked on by the u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g that is used to insert a link has the following general form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a href="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Address"&gt;Tex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x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appears between the opening and closing tags is the text that will be displayed in the web 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b resource that is located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displayed in the brow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0A4F2173-1F33-4867-B461-7EDC67447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ML Li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ddress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form resource locat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dress is enclosed in quotation ma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 href="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urier New"/>
                <a:hlinkClick r:id="rId1"/>
              </a:rPr>
              <a:t>http://www.gaddisbooks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&gt;Click here to go to the textbook's web site.&lt;/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LinkDemo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14E94E94-8254-4CEA-8562-D81AD9D38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Applets With S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ts are very similar to the GUI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displaying its own window, an applet appears in the browser’s wind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fferences between GUI application code and applet code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UI application class is derived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pplet class is derived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pp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Appl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lass is part of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avax.sw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ack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UI application class has a constructor that creates other components and sets up the GU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pplet class does not normally have a constru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ead, it has a method name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at performs the same operations as a construc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FF3916FD-3927-4BBB-932D-81EA13CDD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Applets With S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fferences are (continued)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methods are not called in an appl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DefaultClose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Vi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is needed to create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rowser creates an instance of the class automatic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impleApplet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SimpleApplet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DCDF0FB3-3565-460B-96CB-7E1D0DD99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nning an App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5233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cess of running an applet is different from that of running an ap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un an applet, create an HTML document with 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g, which has the following general form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pp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e="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Filename.class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width="width_value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height="height_value"</a:t>
            </a:r>
            <a:r>
              <a:rPr b="1" i="1" lang="en-US" sz="2000" spc="-1" strike="noStrike">
                <a:solidFill>
                  <a:srgbClr val="ff3300"/>
                </a:solidFill>
                <a:latin typeface="Courier New"/>
              </a:rPr>
              <a:t>&gt;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885e3"/>
              </a:buClr>
              <a:buFont typeface="Mini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nion-Regular"/>
              </a:rPr>
              <a:t>Don’t forget the closing angle bra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885e3"/>
              </a:buClr>
              <a:buFont typeface="Mini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nion-Regular"/>
              </a:rPr>
              <a:t>Attributes should be enclosed in quo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4"/>
          <p:cNvSpPr/>
          <p:nvPr/>
        </p:nvSpPr>
        <p:spPr>
          <a:xfrm>
            <a:off x="4495680" y="4343400"/>
            <a:ext cx="2806920" cy="685800"/>
          </a:xfrm>
          <a:custGeom>
            <a:avLst/>
            <a:gdLst>
              <a:gd name="textAreaLeft" fmla="*/ 0 w 2806920"/>
              <a:gd name="textAreaRight" fmla="*/ 2807280 w 28069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3072" h="584">
                <a:moveTo>
                  <a:pt x="2696" y="584"/>
                </a:moveTo>
                <a:cubicBezTo>
                  <a:pt x="2884" y="440"/>
                  <a:pt x="3072" y="296"/>
                  <a:pt x="2696" y="200"/>
                </a:cubicBezTo>
                <a:cubicBezTo>
                  <a:pt x="2320" y="104"/>
                  <a:pt x="880" y="16"/>
                  <a:pt x="440" y="8"/>
                </a:cubicBezTo>
                <a:cubicBezTo>
                  <a:pt x="0" y="0"/>
                  <a:pt x="28" y="76"/>
                  <a:pt x="56" y="15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5"/>
          <p:cNvSpPr/>
          <p:nvPr/>
        </p:nvSpPr>
        <p:spPr>
          <a:xfrm>
            <a:off x="4495680" y="3581280"/>
            <a:ext cx="4267440" cy="1905120"/>
          </a:xfrm>
          <a:custGeom>
            <a:avLst/>
            <a:gdLst>
              <a:gd name="textAreaLeft" fmla="*/ 0 w 4267440"/>
              <a:gd name="textAreaRight" fmla="*/ 4267800 w 426744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2648" h="1504">
                <a:moveTo>
                  <a:pt x="1728" y="1504"/>
                </a:moveTo>
                <a:cubicBezTo>
                  <a:pt x="2188" y="1240"/>
                  <a:pt x="2648" y="976"/>
                  <a:pt x="2496" y="736"/>
                </a:cubicBezTo>
                <a:cubicBezTo>
                  <a:pt x="2344" y="496"/>
                  <a:pt x="1232" y="128"/>
                  <a:pt x="816" y="64"/>
                </a:cubicBezTo>
                <a:cubicBezTo>
                  <a:pt x="400" y="0"/>
                  <a:pt x="136" y="304"/>
                  <a:pt x="0" y="35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EC0CDCA9-CB84-47C9-A344-306617352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14 discusses the following main top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to Ap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rief Introduction to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Applets with S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WT for Por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Sh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ing Mouse and Key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ing A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115C89CC-780B-4C04-A717-1A0DB7499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nning an App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lename.cla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compiled bytecode of the applet, no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optionally specify a path along with the file n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specify only the file name, it is assumed that the file is in the same directory as the 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row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 specified byte code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it in an area that is the size specified by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dth_valu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ight_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F7910DC2-E0D9-45E7-BF7E-8E8AA2E1E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appletvie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etviewer</a:t>
            </a:r>
            <a:r>
              <a:rPr b="0" lang="en-US" sz="2400" spc="-1" strike="noStrike">
                <a:solidFill>
                  <a:srgbClr val="000000"/>
                </a:solidFill>
                <a:latin typeface="Minion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loads and executes an applet without the need for a Web brow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unning the program, specify the name of an HTML document as a command line argumen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ppletviewer SimpleApplet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ommand executes any applet referenced by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g in the fi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mpleApplet.htm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document has more than on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g, it will execute each applet in a separate wind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0644BD91-329D-421A-B6BC-843005519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et Event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s in applets are handled with event listeners exactly as they are in GUI appl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TempConverter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TempConverter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C79B433D-765C-458E-85E1-3D0959E68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AWT  for Port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WT is the original library that has been part of Java since its earliest ver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ng is an improved library that was introduced with Java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browsers do not directly support the Swing classes in appl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browsers require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lug-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un swing apple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lug-in is automatically installed on a computer when the Java SDK is insta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81BB8C91-73C3-4F52-8627-CB6700945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AWT  for Port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people running applets might not have the required plug-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WT classes can be used instead of the Swing classes for the components in the appl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WT component clas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corresponding AWT class for each of the Swing classes covered so f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s of the AWT classes names do not start with the letter 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AWTTempConverter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TempConverter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C53D0076-509A-4C77-A6CC-564B698A6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s have an associate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that may be used to draw lines and sha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allows drawing of lines and graphical shapes such as rectangles, ovals, and ar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 or panels can become a canvas for your draw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Hexagon 4"/>
          <p:cNvSpPr/>
          <p:nvPr/>
        </p:nvSpPr>
        <p:spPr>
          <a:xfrm>
            <a:off x="6095880" y="457200"/>
            <a:ext cx="1067040" cy="91440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6FC1576E-BCD3-4B02-98C8-D0CCE9EAA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Y Coordin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cation of each pixel in a component is identified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te and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ordinates are usually written in the for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ike Cartesian coordinate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pper-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ner of a drawing are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0, 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 coordinates increase from left to r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 coordinates increase from top to bott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CB5419DA-12BB-40C1-A128-EE0EB56C8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omponent has an internal object that is derived from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, which is part o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.aw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object has numerous methods for drawing graphical shapes on the surface of the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0FEC80FD-0B40-45AA-ADF3-F87AA00D8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Color(Color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Sets the drawing color for this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Color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Returns the current drawing color for this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Line(int x1, int y1, int x2, int y2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Draws a line on the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Rect(int x, int y, int width, int height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Draws the outline of a rectangle on the 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lOval(int x, int y, int width, int height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Draws a filled ov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String(String str, int x, int y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Draws the string passed in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the current fo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174FB068-5077-456B-BADC-35C626016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call these methods, you must get a reference to a component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way to do this is to overrid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ublic void paint(Graphics 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is responsible for displaying, or “painting,” a component on the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333D0C12-0C24-42C4-B917-811B7569E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 to Appl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types of programs you can create with Ja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ic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stand-alone program that runs on your compu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e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Java programs that are usually part of a Web s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user opens the Web site with a Java-enabled browser, the applet is executed inside the browser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B6165D28-D96A-4D35-BF9D-8CD1AAC8A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is automatically c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component is first displaye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time the component needs to be redispl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thod’s argument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, which is automatically passed by the calling compo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riding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, allows drawing of graphics o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arg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LineDemo.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LineDemo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2C69B75D-2714-4541-B311-40847A419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ta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tangles can be drawn or fill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Rect(10, 10, 50, 5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Rect(10, 10, 50, 5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R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R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 four integers as parame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Rect(int x, int y, int width, int he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ectangleDemo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RectangleDemo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9DDE5CCD-4260-44EA-8DF5-890294495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als and Bounding Recta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94400" cy="19908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als are created by drawing the oval inside of a “bounding rectangl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rectangle is invisible to the viewer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Oval(x, y, width, heigh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Group 12"/>
          <p:cNvGrpSpPr/>
          <p:nvPr/>
        </p:nvGrpSpPr>
        <p:grpSpPr>
          <a:xfrm>
            <a:off x="2820600" y="3505320"/>
            <a:ext cx="5756760" cy="2590200"/>
            <a:chOff x="2820600" y="3505320"/>
            <a:chExt cx="5756760" cy="2590200"/>
          </a:xfrm>
        </p:grpSpPr>
        <p:sp>
          <p:nvSpPr>
            <p:cNvPr id="192" name="Rectangle 4"/>
            <p:cNvSpPr/>
            <p:nvPr/>
          </p:nvSpPr>
          <p:spPr>
            <a:xfrm>
              <a:off x="3962520" y="4038480"/>
              <a:ext cx="3581280" cy="205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5"/>
            <p:cNvSpPr/>
            <p:nvPr/>
          </p:nvSpPr>
          <p:spPr>
            <a:xfrm>
              <a:off x="3962520" y="4038480"/>
              <a:ext cx="3581280" cy="205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6"/>
            <p:cNvSpPr/>
            <p:nvPr/>
          </p:nvSpPr>
          <p:spPr>
            <a:xfrm>
              <a:off x="2820600" y="419076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x,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 flipV="1">
              <a:off x="3581280" y="4038120"/>
              <a:ext cx="381240" cy="456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8"/>
            <p:cNvSpPr/>
            <p:nvPr/>
          </p:nvSpPr>
          <p:spPr>
            <a:xfrm>
              <a:off x="3962520" y="3885840"/>
              <a:ext cx="358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5410800" y="350532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id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10"/>
            <p:cNvSpPr/>
            <p:nvPr/>
          </p:nvSpPr>
          <p:spPr>
            <a:xfrm flipV="1">
              <a:off x="7696080" y="4038480"/>
              <a:ext cx="0" cy="2057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11"/>
            <p:cNvSpPr/>
            <p:nvPr/>
          </p:nvSpPr>
          <p:spPr>
            <a:xfrm>
              <a:off x="7773480" y="480024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e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Text Box 13"/>
          <p:cNvSpPr/>
          <p:nvPr/>
        </p:nvSpPr>
        <p:spPr>
          <a:xfrm>
            <a:off x="198360" y="3962520"/>
            <a:ext cx="261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OvalDemo.java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OvalDemo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878CFF7D-8081-477B-81A2-1224F98EA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3812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s are drawn from the 90 degree position counterclockwise and can be filled or unfi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Arc(0, 20, 120, 120, 0, 9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Arc(0, 20, 120, 120, 0, 9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Ar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Ar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 six integers as parame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Arc(int x, int y, int width, int height, int start, int e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ArcDemo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ArcDemo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5" descr="Figure 14-21"/>
          <p:cNvPicPr/>
          <p:nvPr/>
        </p:nvPicPr>
        <p:blipFill>
          <a:blip r:embed="rId3"/>
          <a:stretch/>
        </p:blipFill>
        <p:spPr>
          <a:xfrm>
            <a:off x="5715000" y="4572000"/>
            <a:ext cx="303516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FE4C9A97-2E2C-4C89-8A6C-C9EA1BA7D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yg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gons are drawn using arrays of integers representing x, y coord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xCoords={60,100,140,140,100,60,20,20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yCoords={20,20,60,100,140,140,100,60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6" descr="Figure 14-23"/>
          <p:cNvPicPr/>
          <p:nvPr/>
        </p:nvPicPr>
        <p:blipFill>
          <a:blip r:embed="rId1"/>
          <a:stretch/>
        </p:blipFill>
        <p:spPr>
          <a:xfrm>
            <a:off x="1219320" y="3352680"/>
            <a:ext cx="64008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16918B80-5DE4-4B3E-B9B3-3F6F7C7C4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yg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llPolyg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rawPolyg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e the arrays as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gonDemo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gonDemo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93B15661-327F-4B70-A49A-AF20F7CDD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repai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o not call a component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utomatically called when the component must be redisplay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force the application or applet to call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pa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pa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clears the surface of the component and then call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66DE8358-DB80-4B92-8129-0F3F588A7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ing on Pan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raw on a panel, get a reference to the panel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and use that object’s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sulting graphics are drawn only on the pan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ting a reference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onent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is similar to previous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overriding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, override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rue for all Swing components excep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pp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46FC1C01-86F9-4674-8171-7B49B95B5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ing on Pan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serves the same purpose as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t is called, the component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is passed as an argume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paintComponent(Graphics 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overriding this method, first call the base class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er.paintComponent(g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B47E2010-2F80-466B-80A1-CD025E24B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ing on Pan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is you can call any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’s methods to draw on the compon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icsWindow.jav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Panel.jav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icsWindow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CCCA2BED-CDD5-4A2C-889E-9033A02B0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 to Appl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ppears to the user that the applet is part of the Web s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ets are stored on a Web server along with the site’s Web p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ets associated with a viewed web page are transmitted to the user’s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the applets are transmitted, the user’s system executes the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ets can be used to extend the capabilities of a Web 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ED36C680-BEDB-436D-A0F8-140601013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ling Mouse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use generates two types of ev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use events and mouse motion ev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component derived from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mpon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can handle events generated by the mo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handle mouse events you cre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use listen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and/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use motion listen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38391588-220C-4D92-A403-26531F6C6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ling Mouse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ouse listener class can respond to any of the follow ev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use button is 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use button is rele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use button is clicked on (pressed, then released without moving the mo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use cursor enters a component’s screen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use cursor exits a component’s screen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ouse listener class must implemen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796071FB-F59A-4115-9D26-D0B11B580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use Listener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ousePressed(MouseEvent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led if the mouse button is pressed over the compon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ouseClicked(MouseEvent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led if the mouse is pressed and released over the component without moving the mou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ouseReleased(MouseEvent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led when the mouse button is relea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ouseEntered(MouseEvent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led when the mouse cursor enters the screen area of the component.</a:t>
            </a:r>
            <a:r>
              <a:rPr b="0" lang="en-US" sz="1800" spc="-1" strike="noStrike">
                <a:solidFill>
                  <a:srgbClr val="000000"/>
                </a:solidFill>
                <a:latin typeface="OfficinaSerif-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ouseExited(MouseEvent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method is called when the mouse cursor leaves the screen area of the compon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4D0A6DD2-491D-4AD1-8E6E-6508ED3B6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use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contains data about the mouse ev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wo common method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retur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es of the mouse cursor when the event occ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 mouse listener class is created, it can be registered with a component 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2F06DDB0-ED33-49CC-8A18-A378477E0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use Motion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ppropriate methods in the mouse listener class are automatically called when their corresponding mouse events occ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ouse motion listener class can respond to the following ev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use is drag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use mo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ouse motion listener class must implemen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rface and it’s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F310F6E1-E3F5-47B0-9308-E3BEAA3A2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use Motion Listener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ouseDragged(MouseEvent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when a dragging operation begins over the 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usePress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ethod is always called just before this metho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ouseMoved(MouseEvent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when the mouse cursor is over the component and it is move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useEvents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useEvent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B900EE94-4CEF-4167-A868-24E9ADA78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Adapter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use listener class must implemen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methods required by the interfaces they imp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y of the methods are omitted, a compiler error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useAdap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useMotionAdap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es provide empty implementations of the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DrawBoxes.java, DrawBoxes.html, DrawBoxes2.java, DrawBoxes2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1E37E322-7B4E-4141-8BE4-6890947CE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s automatically generate action events at regular time interv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useful when you want a program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an operation at certain times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an amount of time has pas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s are created 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eneral format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’s constructo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r(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delay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tionListener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liste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AF56C2D7-0148-40D7-9705-9097951F2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del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 is the amount of time between action events in millisec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h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listen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 is a reference to an action listener to be register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cause no action listener to be regist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can register an action listener after the object’s cre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4E80AA78-812B-4A96-B623-512C40390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bject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addActionListener (ActionListener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isters the object referenced by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listener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an action liste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getDelay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s the current time delay in millisecon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isRunning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s true if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bject is run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etDelay(int de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s the time delay in millisecon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tar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rts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t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ps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39CB8580-02E0-4C72-B8CC-0BEB5AC9F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 to Appl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pages are normally written in Hypertext Markup Language (HTM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ML is static content; whereas, applets are dynam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let does not have to be on a web server in order to be execu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can be stored on the local compu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18808864-5A17-4056-9FAC-DF030B417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bject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pplication can use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to automatically execute code at regular time interv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cingBall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cingBall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E6FC94B3-1A02-4FD2-A889-1E199C1AE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ying Au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grams can play audio that is stored in a variety sound file for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aif or .aiff (Macintosh Audio F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au (Sun Audio F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mid or .rmi (MIDI F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wav (Windows Wave F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way to play an audio file is to 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version of this method i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play(URL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baseLocation, String file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AF9CD91B-901D-42C6-8368-ACAEB7E53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ying Au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gument passed to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baseLocatio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that specifies the location of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gument passed to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fileNam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nd name of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und that is recorded in the file is played on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Document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Code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s can get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for the first arg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9AC9A91D-352A-43DF-BAAF-4B0611B2C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ying Au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DocumentB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containing the location of the HTML file that invoked the appl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lay(getDocumentBase(), "mysound.wav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deB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containing the location of the applet’s .class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lay(getCodeBase(), "mysound.wav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sound file specified by the arguments to the play method cannot be found, no sound will be pl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4EBDABD1-9125-455F-AF9E-BDA9A2DA2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an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AudioCli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’s play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 a sound fi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s it one time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s it for garbage coll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need to load a sound file to be played multiple times, use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udioCl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udioCl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is an object that implement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uidoCl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4900718A-5EB5-4B13-8059-CEF8A49B1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an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AudioCli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udioCl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face specifies the following three metho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plays a sound one tim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repeatedly plays a sou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 causes a sound to stop play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AudioCl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can be used to create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udioCl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udioClip getAudioClip(URL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baseLoca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ring fileName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thod return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udioCl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that can be used to play the soun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AudioDemo2.java, AudioDemo2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30E3E76F-4DC4-46DE-AA3D-32238A845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ying Audio in an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94400" cy="9586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ing audio in from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lightly different than playing audio from an apple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685800" y="2368440"/>
            <a:ext cx="8077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Create a file object for the step.wav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 file = new File("step.wav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Get a URI object for the audio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I uri = file.toURI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Get a URL for the audio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 url = uri.toUR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Get an AudioClip object for the 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file using the Applet class's sta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newAudioClip meth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und = Applet.newAudioClip(ur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5943600" y="35812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AudioFrame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F5C60047-8994-4664-9FC5-052472AE8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et Limi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ets run on the user’s system, not the ser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ecurity purposes, applets can no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the local computer file syste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 any other program on the user’s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 operating system proced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ieve information about the user or their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network connections with any system except the server from which the applet was transmit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 anonymou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n applet displays a window, it will automatically have a message such as “Warning: Applet Window” displayed in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F53E8E8B-22BF-4198-A54B-CDE8FA9EE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 to 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text Markup Language (HTML) is the language that Web pages are written 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ypertex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contain a link to other content on the web page, or another web p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rkup Languag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“mark up” a text file by inserting special instru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instructions tell the browser how to format the text and create any hypertext lin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ke a web page, create a text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contains HTML instruction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g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xt that should be displayed on the Web page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has a .html file exten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BB3B9056-012B-4038-934D-73560E61F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 to 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document is called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TML docu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gs instruct the brow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at the tex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to place imag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o do when the user clicks on a link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HTML tags have an opening tag and a closing tag.</a:t>
            </a:r>
            <a:r>
              <a:rPr b="0" lang="en-US" sz="2800" spc="-1" strike="noStrike">
                <a:solidFill>
                  <a:srgbClr val="000000"/>
                </a:solidFill>
                <a:latin typeface="Minion-Regul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ag_name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xt&lt;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ag_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gs are enclosed in angle brackets (&lt; &gt;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losing tag is preceded by a forward slash (/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5"/>
          <p:cNvSpPr/>
          <p:nvPr/>
        </p:nvSpPr>
        <p:spPr>
          <a:xfrm>
            <a:off x="4267080" y="4267080"/>
            <a:ext cx="3810240" cy="121932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632" h="736">
                <a:moveTo>
                  <a:pt x="2544" y="736"/>
                </a:moveTo>
                <a:cubicBezTo>
                  <a:pt x="2588" y="480"/>
                  <a:pt x="2632" y="224"/>
                  <a:pt x="2208" y="112"/>
                </a:cubicBezTo>
                <a:cubicBezTo>
                  <a:pt x="1784" y="0"/>
                  <a:pt x="892" y="32"/>
                  <a:pt x="0" y="6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-</a:t>
            </a:r>
            <a:fld id="{FF96D38D-AF8C-479E-8072-926781A74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ument Structure Ta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&lt;html&gt;&lt;/html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g marks the beginning and ending of an HTML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ag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&lt;head&gt;&lt;/head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rk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cument he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 section containing information about the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ocument head contains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&lt;title&gt; &lt;/title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g, which is contains the title of the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BasicWebPage1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04:42:30Z</dcterms:created>
  <dc:creator>mlong</dc:creator>
  <dc:description/>
  <dc:language>en-US</dc:language>
  <cp:lastModifiedBy>ferreipb</cp:lastModifiedBy>
  <cp:lastPrinted>2009-04-22T19:24:48Z</cp:lastPrinted>
  <dcterms:modified xsi:type="dcterms:W3CDTF">2013-12-04T00:24:53Z</dcterms:modified>
  <cp:revision>59</cp:revision>
  <dc:subject/>
  <dc:title>Starting Out With Java Chapter </dc:title>
</cp:coreProperties>
</file>