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F5EC-026E-4609-856B-46EE15CDF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5DC9-2F5B-4D6D-BCF0-A3D34618E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C762-2CFE-496F-A95E-E44FD7E7E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FA90-B3E9-4564-80DD-7DA7C7429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A380-39BC-4761-933B-AACA1143D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FE94-D0AC-4EB3-BB0C-1D36AD45A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76B8-AE9A-4E29-9FEB-89FD5FF67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1977-09A7-4CCD-A1CB-7EF3732BC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C799-F29D-4D90-BC59-B94BFF448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96E6-E13F-4066-8263-D0D5C8432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0AD2-D2E3-4B0C-ABBF-02AEB41B7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F1A3-CE5A-429E-845E-21E0723E7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5107-8C77-4935-8D8E-3B87CC7AB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5DB7-9901-470D-A911-8BA677240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7B73-1545-45D7-B0DC-A6BA2334B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E3B0-BE13-404A-89A0-15B869E53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0AB7-3BFB-47AA-98EE-26BF08855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4598-5DEB-49A6-8A28-40E02A0E0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8169-8C9E-4507-B16B-D4115809E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D83C-5F7A-4C6E-A386-BDA9837D4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3C99-DA29-4D5E-AEF1-8828D8657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842C-C4FB-4CCC-9586-072DFA1D9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8F96-31B4-4C8F-A722-4CFE7987F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CC5B-9A8B-4DF1-84E9-253E4AEAF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F20D-F980-4AF7-BFBC-F53758237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566F-83F4-4308-8CAB-2E4A0DC42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77E8-068A-4C01-9B24-1FB628FC8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7452-86DB-424D-B048-B11E66B5C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EB1A-2BDD-4151-937B-8D29D4AD3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A2F7-0680-4780-BB2F-A15A4E972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8CD1-AE3F-4FE6-885D-CBBC4B76E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C517-1AAF-4BFC-BB23-0E421AC83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0582-E542-49FC-98AD-835DFE3E8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77D2-9EBF-4E67-9351-203485623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9B6D-235F-41BA-A5E4-7F3999E8A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9589-EB29-486B-B86A-50A4B6AC3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2DA8-3466-42E1-8466-53F6D378D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5B3B-7BA5-4964-A048-2081C409A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F8E0-ECBF-4BFC-BD38-C4DF4BC44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23B6-AA14-40E1-90A9-710DA2F76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38CC-FAB2-4221-9249-3EE45109A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1DD1-E9BD-4F73-B5B9-7C6D01943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354B-B33B-4D88-B065-AD86116CD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8024-4FEA-4712-A735-327632306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3831-ACF5-4B1A-8E2D-BA11275D1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8F16-441F-45FA-B055-AD62A69FD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B59D-D7AF-42B8-B0F6-43AA984FE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B712-0E9B-4002-8FD9-DF648505A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974D-9FC8-4BB7-A683-1AE840F6B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D5E7-974B-4DF8-A52E-0F345FEBF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0DF8-1636-4122-B92F-D764573B2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E27C-A78F-467D-B9EC-D8BBA227B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6E78-4C44-44F5-B02E-7DE4B6869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F26D-2025-4959-9729-0032A4496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2FD7-EBF3-4AEA-8C3F-741440D96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62C1-3E1C-4BB0-A4E5-033D52E5B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57C8-9537-49F7-8601-C991661E8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AE9F-9FE3-445F-AB86-DAE294752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5B0A-8E7C-45BE-954D-DAAB95A9B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0471-2E71-4618-A4DC-CB412A812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5871-C667-4FE6-B984-F7165B00F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C59E-BDCE-41DF-B020-BCB741A76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6D23-45AD-4D10-845F-F6F687C52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5E3D-9C55-4C86-94EC-EE7A142DB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9C5E-30F7-4F33-BF5B-9531A1DD7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D77E-F6D6-4523-8450-71C3E1926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4F7E-EB90-4D8D-8A9D-10BF01A4C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9F29-46D4-40E5-A10F-77B59617F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BE7A4823-CEFF-43A8-B013-1609BBD71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c3c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4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i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885e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6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irst Look at Class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38080" y="19810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1B8D1E1-8D6F-4C48-BD1F-307297BB8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veryday Example of an Object—An Alarm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are used to change a field’s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larm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alarm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alarm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 current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 current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 current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nd al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962520" y="2133720"/>
            <a:ext cx="609480" cy="838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V="1">
            <a:off x="3962520" y="2971800"/>
            <a:ext cx="609480" cy="838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876920" y="24382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ublic methods are accessed by users outside the objec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8"/>
          <p:cNvSpPr/>
          <p:nvPr/>
        </p:nvSpPr>
        <p:spPr>
          <a:xfrm flipV="1">
            <a:off x="5867280" y="4952520"/>
            <a:ext cx="381240" cy="7621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 flipH="1" flipV="1">
            <a:off x="5943240" y="4114800"/>
            <a:ext cx="304920" cy="838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477120" y="419112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ivate methods are part of the object’s internal design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9174BD9-E041-45EA-B8F8-0AE836276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er determines the fields and methods needed, and then creates 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pecify the fields and methods that a particular type of object may h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is a “blueprint” that objects may be created fr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is not an object, but it can be a description of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 created from a class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7EE2362-8DAB-44E7-A5A2-921C16B6A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1066680" y="2133720"/>
            <a:ext cx="3475080" cy="2057400"/>
            <a:chOff x="1066680" y="2133720"/>
            <a:chExt cx="3475080" cy="2057400"/>
          </a:xfrm>
        </p:grpSpPr>
        <p:sp>
          <p:nvSpPr>
            <p:cNvPr id="204" name="Rectangle 4"/>
            <p:cNvSpPr/>
            <p:nvPr/>
          </p:nvSpPr>
          <p:spPr>
            <a:xfrm>
              <a:off x="1981080" y="3276720"/>
              <a:ext cx="1676520" cy="9144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ct class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5"/>
            <p:cNvSpPr/>
            <p:nvPr/>
          </p:nvSpPr>
          <p:spPr>
            <a:xfrm>
              <a:off x="1066680" y="2133720"/>
              <a:ext cx="347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nse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defines the fields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methods that will exist in all objects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at are an instances of the Insect class.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6"/>
          <p:cNvGrpSpPr/>
          <p:nvPr/>
        </p:nvGrpSpPr>
        <p:grpSpPr>
          <a:xfrm>
            <a:off x="3657600" y="1295280"/>
            <a:ext cx="4231800" cy="2438640"/>
            <a:chOff x="3657600" y="1295280"/>
            <a:chExt cx="4231800" cy="2438640"/>
          </a:xfrm>
        </p:grpSpPr>
        <p:sp>
          <p:nvSpPr>
            <p:cNvPr id="207" name="Rectangle 7"/>
            <p:cNvSpPr/>
            <p:nvPr/>
          </p:nvSpPr>
          <p:spPr>
            <a:xfrm>
              <a:off x="5867280" y="1295280"/>
              <a:ext cx="16765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usefly object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8"/>
            <p:cNvSpPr/>
            <p:nvPr/>
          </p:nvSpPr>
          <p:spPr>
            <a:xfrm flipV="1">
              <a:off x="3657600" y="1752480"/>
              <a:ext cx="220968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5494320" y="2286000"/>
              <a:ext cx="239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housefly object is an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ce of the Insect class.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10"/>
          <p:cNvGrpSpPr/>
          <p:nvPr/>
        </p:nvGrpSpPr>
        <p:grpSpPr>
          <a:xfrm>
            <a:off x="3657600" y="3809880"/>
            <a:ext cx="4231800" cy="1981440"/>
            <a:chOff x="3657600" y="3809880"/>
            <a:chExt cx="4231800" cy="1981440"/>
          </a:xfrm>
        </p:grpSpPr>
        <p:sp>
          <p:nvSpPr>
            <p:cNvPr id="211" name="Rectangle 11"/>
            <p:cNvSpPr/>
            <p:nvPr/>
          </p:nvSpPr>
          <p:spPr>
            <a:xfrm>
              <a:off x="5867280" y="4876920"/>
              <a:ext cx="16765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squito object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>
              <a:off x="3657600" y="3809880"/>
              <a:ext cx="2209680" cy="152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5494320" y="4038480"/>
              <a:ext cx="239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mosquito object is an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ce of the Insect class.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8802670-7504-4AEE-B915-B0FC23222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7701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chapter 2, we learned that a reference variable contains the address of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String cityName =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"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Charleston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943600" y="4495680"/>
            <a:ext cx="243828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t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828800" y="4876920"/>
            <a:ext cx="2666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to the obje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06360" y="49370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cityNam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4495680" y="5105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5450040" y="3657600"/>
            <a:ext cx="34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he object that contains th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haracter string “Charlesto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D492566-1C5E-4441-8A40-3F6E936F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returns and integer value that is equal to the length of the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nt stringLength = cityName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objects normally have methods that perform useful operations on their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 variables can only store data and have no metho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34E0180-36E8-4D75-B209-376CA7B5D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 and In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bjects can be created from a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bject is independent of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String person = "Jenny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"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String pet = "Fido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String favoriteColor = "Blue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8963E90-3698-435A-82EF-CF7B3215A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 and In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791320" y="1981080"/>
            <a:ext cx="17524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nny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95480" y="21337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677960" y="2154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pers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4267080" y="2438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791320" y="3352680"/>
            <a:ext cx="17524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d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2895480" y="35053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059200" y="3525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p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2"/>
          <p:cNvSpPr/>
          <p:nvPr/>
        </p:nvSpPr>
        <p:spPr>
          <a:xfrm>
            <a:off x="426708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5791320" y="4724280"/>
            <a:ext cx="17524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2895480" y="48769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535320" y="48974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favoriteCol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"/>
          <p:cNvSpPr/>
          <p:nvPr/>
        </p:nvSpPr>
        <p:spPr>
          <a:xfrm>
            <a:off x="4267080" y="5181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EB6AAFB-AF15-40F5-85B8-25C6AFDA9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 and In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stanc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contains differen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stances are all share the same de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stance has all of the attributes and methods that were defined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are defined to represent a single concept or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E9B3F99-F952-4E84-8B4B-D7C257907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a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will have the following fiel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length field will hold the rectangle’s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The width field will hold the rectangle’s wid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B0462C6-D53C-4E76-AE62-4D711C3CB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a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will also have the following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store a value in an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store a value in an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return the value in an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return the value in an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return the area of the rectangle, which is the result of the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ltiplied by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232ADB9-8F23-4E36-B134-2212159F9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6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and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Fields an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Methods and 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 of Instance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 and Import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43D0617-43A5-44DB-A8BC-2B39FF175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ed Modeling Language (UML) provides a set of standard diagrams for graphically depicting object-oriented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876920" y="3505320"/>
            <a:ext cx="281916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4876920" y="4191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4876920" y="49528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838080" y="38098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6858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lass name goes he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76212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elds are listed he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762120" y="51055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ethods are listed he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1"/>
          <p:cNvSpPr/>
          <p:nvPr/>
        </p:nvSpPr>
        <p:spPr>
          <a:xfrm>
            <a:off x="3809880" y="388620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3"/>
          <p:cNvSpPr/>
          <p:nvPr/>
        </p:nvSpPr>
        <p:spPr>
          <a:xfrm>
            <a:off x="3809880" y="46483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3809880" y="53341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FD4CC27-6080-4BE7-8404-52FBE930E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 Diagram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666880" y="1828800"/>
            <a:ext cx="37339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66688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2666880" y="25909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2743200" y="26668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widt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743200" y="3657600"/>
            <a:ext cx="175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Length() setWidth() getLength() getWidth() getArea(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2666880" y="3581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6BFF564-1CE2-4B78-917E-D9E41A0B5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the Code for the Class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ublic class Rect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vate double length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DA842A4-D6BB-4EC3-B6C8-25CF2B630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 Spec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ccess specifier is a Java keyword that indicates how a field or method can be acc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 specifier is applied to a class member, the member can be accessed by code inside the class or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 specifier is applied to a class member, the member cannot be accessed by code outside the class.  The member can be accessed only by methods that are members of the sam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FF7F9AA-14B8-40AC-8E1D-163214921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der for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40381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ublic void setLength (double l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52280" y="23623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ccess specifi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>
            <a:off x="1066680" y="3352680"/>
            <a:ext cx="0" cy="6098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828800" y="16765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turn Typ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2514600" y="2666880"/>
            <a:ext cx="0" cy="1219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914400" y="5105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arameter variable declar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3733920" y="228600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ethod Na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>
            <a:off x="4267080" y="3276720"/>
            <a:ext cx="0" cy="609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 flipV="1">
            <a:off x="7238880" y="4723920"/>
            <a:ext cx="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6095880" y="4648320"/>
            <a:ext cx="23623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5029200" y="541008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5410080" y="1676520"/>
            <a:ext cx="3200400" cy="2288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ice the word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oes not appear in the method header designed to work on an instance of a class (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nstance method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5D62649-D085-4EEA-8C88-1443CD126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and Demonstrating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3540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etLength method stores a value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ngth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param len The value to store in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Length(double l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ngth = le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533520" y="5029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 Rectangle.java, LengthDemo.ja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715761A-FA54-42AC-A8A5-3B6D5FECF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ctangle box = new Rectangle 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276720" y="3352680"/>
            <a:ext cx="1143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ddr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934320" y="3124080"/>
            <a:ext cx="6858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.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934320" y="3733920"/>
            <a:ext cx="6858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.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571500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ngth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571500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idth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5562720" y="2971800"/>
            <a:ext cx="22096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5"/>
          <p:cNvSpPr/>
          <p:nvPr/>
        </p:nvSpPr>
        <p:spPr>
          <a:xfrm>
            <a:off x="4419720" y="365760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838080" y="2666880"/>
            <a:ext cx="213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holds the address of the Rectangle objec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02920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F220289-3206-41EE-BA31-7585DC6DC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ing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42520" y="1968120"/>
            <a:ext cx="5612040" cy="6634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x.setLength(10.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276720" y="3352680"/>
            <a:ext cx="1143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ddr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6858000" y="312408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.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6858000" y="373392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.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71500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ngth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571500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idth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5562720" y="2971800"/>
            <a:ext cx="22096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0"/>
          <p:cNvSpPr/>
          <p:nvPr/>
        </p:nvSpPr>
        <p:spPr>
          <a:xfrm>
            <a:off x="4419720" y="365760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838080" y="25146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holds the addres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502920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1371600" y="495288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is the state of the box object after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method executes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5A0919B-C5BD-4D31-8A97-9627B4DCF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etL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getLength method returns a Rect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's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return The value in the length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Length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ly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 can be cre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 Rectangle.java, LengthWidthDem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E4DA0AE-E83F-4997-8309-73036AB6E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and Demonstrating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etAre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getArea method returns a Rect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's ar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return The product of length times wid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Are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length * wid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 Rectangle.java, RectangleDem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2A83426-9A61-43FB-A014-CF45A8A13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-oriented programming is centered on creating objects rather than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a melding of data and procedures that manipulate tha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 an object are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 in an object are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1C6E6A7-FC1D-4E51-BD29-BC10ED54F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or and Mutator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e concept of data hiding, fields in a class are priv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s that retrieve the data of field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ss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s that modify the data of field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ta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ield that the programmer wishes to be viewed by other classes needs an ac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ield that the programmer wishes to be modified by other classes needs a mut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1430AEB-D2D2-422D-ACDA-CFADA05C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ors and Mut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ple, the accessors and mutator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ets the valu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ublic void setLength(double len)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ets the valu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ublic void setLength(double w)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turns the valu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ublic double getLength()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–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turns the valu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ublic double getWidth()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names for these method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6B44EE6-9633-4BB1-BAB2-73452C8A9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l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ata is the result of a calc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area of a rect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ould be impractical to use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hat requires the calculation of various factors has the potential to bec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void stale data, it is best to calculate the value of that data within a method rather than store it in a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CF3DB3F-91A9-4E52-A3D3-889752A98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l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us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public double getAre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return length * wid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ynamically calculates the value of the rectangle’s area when the method is ca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any change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 will not leave the area of the rectangle st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DF8DD81-33F9-44FF-804A-69F3DB2D9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 Data Type and Parameter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7701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L diagrams are language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L diagrams use an independent notation to show return types, access modifier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3657600" y="3505320"/>
            <a:ext cx="3352320" cy="2666520"/>
            <a:chOff x="3657600" y="3505320"/>
            <a:chExt cx="3352320" cy="2666520"/>
          </a:xfrm>
        </p:grpSpPr>
        <p:sp>
          <p:nvSpPr>
            <p:cNvPr id="343" name="Rectangle 5"/>
            <p:cNvSpPr/>
            <p:nvPr/>
          </p:nvSpPr>
          <p:spPr>
            <a:xfrm>
              <a:off x="3657600" y="350532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3657600" y="439416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-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dth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7"/>
            <p:cNvSpPr/>
            <p:nvPr/>
          </p:nvSpPr>
          <p:spPr>
            <a:xfrm>
              <a:off x="3657600" y="528300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etWidth(w : double) : void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Text Box 8"/>
          <p:cNvSpPr/>
          <p:nvPr/>
        </p:nvSpPr>
        <p:spPr>
          <a:xfrm>
            <a:off x="914400" y="3809880"/>
            <a:ext cx="2057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cess modifiers are denoted a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ubli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riv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10"/>
          <p:cNvCxnSpPr>
            <a:stCxn id="346" idx="2"/>
          </p:cNvCxnSpPr>
          <p:nvPr/>
        </p:nvCxnSpPr>
        <p:spPr>
          <a:xfrm flipH="1" rot="16200000">
            <a:off x="2497320" y="4566960"/>
            <a:ext cx="606960" cy="171504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8" name="AutoShape 12"/>
          <p:cNvCxnSpPr>
            <a:stCxn id="346" idx="3"/>
          </p:cNvCxnSpPr>
          <p:nvPr/>
        </p:nvCxnSpPr>
        <p:spPr>
          <a:xfrm>
            <a:off x="2971440" y="4465800"/>
            <a:ext cx="686520" cy="37368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C22BD2B-E363-48E5-8463-47ED98640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 Data Type and Parameter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7701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L diagrams are language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L diagrams use an independent notation to show return types, access modifiers, et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2743200" y="3429000"/>
            <a:ext cx="3352320" cy="2666520"/>
            <a:chOff x="2743200" y="3429000"/>
            <a:chExt cx="3352320" cy="2666520"/>
          </a:xfrm>
        </p:grpSpPr>
        <p:sp>
          <p:nvSpPr>
            <p:cNvPr id="353" name="Rectangle 9"/>
            <p:cNvSpPr/>
            <p:nvPr/>
          </p:nvSpPr>
          <p:spPr>
            <a:xfrm>
              <a:off x="2743200" y="342900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10"/>
            <p:cNvSpPr/>
            <p:nvPr/>
          </p:nvSpPr>
          <p:spPr>
            <a:xfrm>
              <a:off x="2743200" y="431784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width 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11"/>
            <p:cNvSpPr/>
            <p:nvPr/>
          </p:nvSpPr>
          <p:spPr>
            <a:xfrm>
              <a:off x="2743200" y="520668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Width(w : double) : void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Text Box 12"/>
          <p:cNvSpPr/>
          <p:nvPr/>
        </p:nvSpPr>
        <p:spPr>
          <a:xfrm>
            <a:off x="6429240" y="3276720"/>
            <a:ext cx="271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Variable types are placed after the variable name, separated by a colon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3"/>
          <p:cNvCxnSpPr>
            <a:stCxn id="356" idx="2"/>
            <a:endCxn id="354" idx="3"/>
          </p:cNvCxnSpPr>
          <p:nvPr/>
        </p:nvCxnSpPr>
        <p:spPr>
          <a:xfrm rot="5400000">
            <a:off x="6853320" y="3829320"/>
            <a:ext cx="175320" cy="169164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9359710-F1C7-4C28-ADAC-BE51628B9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 Data Type and Parameter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7701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L diagrams are language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L diagrams use an independent notation to show return types, access modifier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8"/>
          <p:cNvGrpSpPr/>
          <p:nvPr/>
        </p:nvGrpSpPr>
        <p:grpSpPr>
          <a:xfrm>
            <a:off x="2743200" y="3429000"/>
            <a:ext cx="3352320" cy="2666520"/>
            <a:chOff x="2743200" y="3429000"/>
            <a:chExt cx="3352320" cy="2666520"/>
          </a:xfrm>
        </p:grpSpPr>
        <p:sp>
          <p:nvSpPr>
            <p:cNvPr id="362" name="Rectangle 9"/>
            <p:cNvSpPr/>
            <p:nvPr/>
          </p:nvSpPr>
          <p:spPr>
            <a:xfrm>
              <a:off x="2743200" y="342900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3200" y="431784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width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2743200" y="520668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Width(w : double) 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: void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Text Box 12"/>
          <p:cNvSpPr/>
          <p:nvPr/>
        </p:nvSpPr>
        <p:spPr>
          <a:xfrm>
            <a:off x="6172200" y="335268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ethod return types are placed after the method declaration name, separated by a colon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AutoShape 13"/>
          <p:cNvCxnSpPr>
            <a:stCxn id="365" idx="2"/>
            <a:endCxn id="364" idx="3"/>
          </p:cNvCxnSpPr>
          <p:nvPr/>
        </p:nvCxnSpPr>
        <p:spPr>
          <a:xfrm rot="5400000">
            <a:off x="6344640" y="4414680"/>
            <a:ext cx="988200" cy="148680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4F4D258-8C3A-4FD1-BDED-EADEF32C1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 Data Type and Parameter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17701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L diagrams are language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L diagrams use an independent notation to show return types, access modifier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2743200" y="3429000"/>
            <a:ext cx="3352320" cy="2666520"/>
            <a:chOff x="2743200" y="3429000"/>
            <a:chExt cx="3352320" cy="2666520"/>
          </a:xfrm>
        </p:grpSpPr>
        <p:sp>
          <p:nvSpPr>
            <p:cNvPr id="371" name="Rectangle 5"/>
            <p:cNvSpPr/>
            <p:nvPr/>
          </p:nvSpPr>
          <p:spPr>
            <a:xfrm>
              <a:off x="2743200" y="342900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2743200" y="431784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width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2743200" y="5206680"/>
              <a:ext cx="335232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Width(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w : doubl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: void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Text Box 8"/>
          <p:cNvSpPr/>
          <p:nvPr/>
        </p:nvSpPr>
        <p:spPr>
          <a:xfrm>
            <a:off x="152280" y="335268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ethod parameters are shown inside the parentheses using the same notation as variables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AutoShape 9"/>
          <p:cNvCxnSpPr/>
          <p:nvPr/>
        </p:nvCxnSpPr>
        <p:spPr>
          <a:xfrm flipH="1" rot="16200000">
            <a:off x="2642400" y="3757320"/>
            <a:ext cx="467280" cy="3010680"/>
          </a:xfrm>
          <a:prstGeom prst="bentConnector3">
            <a:avLst>
              <a:gd name="adj1" fmla="val 4996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BA97D64-7918-4915-8971-85450DA68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the UML Diagram t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728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all of this information together, a Java class file can be built easily using the UML dia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ML diagram parts match the Java class file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4191120" y="4267080"/>
            <a:ext cx="2590560" cy="1600200"/>
            <a:chOff x="4191120" y="4267080"/>
            <a:chExt cx="2590560" cy="1600200"/>
          </a:xfrm>
        </p:grpSpPr>
        <p:sp>
          <p:nvSpPr>
            <p:cNvPr id="380" name="Rectangle 4"/>
            <p:cNvSpPr/>
            <p:nvPr/>
          </p:nvSpPr>
          <p:spPr>
            <a:xfrm>
              <a:off x="4191120" y="4267080"/>
              <a:ext cx="2590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ClassName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5"/>
            <p:cNvSpPr/>
            <p:nvPr/>
          </p:nvSpPr>
          <p:spPr>
            <a:xfrm>
              <a:off x="4191120" y="4800600"/>
              <a:ext cx="2590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Field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4191120" y="5334120"/>
              <a:ext cx="2590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ethod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11"/>
          <p:cNvSpPr/>
          <p:nvPr/>
        </p:nvSpPr>
        <p:spPr>
          <a:xfrm>
            <a:off x="1828800" y="4191120"/>
            <a:ext cx="14180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lass head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{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Field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ethod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}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7DFA702-C82C-4775-A30E-22AE35015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the UML Diagram t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7"/>
          <p:cNvGrpSpPr/>
          <p:nvPr/>
        </p:nvGrpSpPr>
        <p:grpSpPr>
          <a:xfrm>
            <a:off x="304920" y="2971800"/>
            <a:ext cx="3352680" cy="3276720"/>
            <a:chOff x="304920" y="2971800"/>
            <a:chExt cx="3352680" cy="3276720"/>
          </a:xfrm>
        </p:grpSpPr>
        <p:sp>
          <p:nvSpPr>
            <p:cNvPr id="387" name="Rectangle 4"/>
            <p:cNvSpPr/>
            <p:nvPr/>
          </p:nvSpPr>
          <p:spPr>
            <a:xfrm>
              <a:off x="304920" y="2971800"/>
              <a:ext cx="33526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"/>
            <p:cNvSpPr/>
            <p:nvPr/>
          </p:nvSpPr>
          <p:spPr>
            <a:xfrm>
              <a:off x="304920" y="3581280"/>
              <a:ext cx="3352680" cy="78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dth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ngth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6"/>
            <p:cNvSpPr/>
            <p:nvPr/>
          </p:nvSpPr>
          <p:spPr>
            <a:xfrm>
              <a:off x="304920" y="4343400"/>
              <a:ext cx="3352680" cy="1905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Width(w : double) : void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Length(len : double): void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Width()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Length()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Area()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Text Box 8"/>
          <p:cNvSpPr/>
          <p:nvPr/>
        </p:nvSpPr>
        <p:spPr>
          <a:xfrm>
            <a:off x="4191120" y="1295280"/>
            <a:ext cx="48006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tang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double length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Width(double w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Length(double le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Width(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return 0.0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Length(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return 0.0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Area(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return 0.0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152280" y="1430280"/>
            <a:ext cx="398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e structure of the class can be compiled and tested without having bodies for the methods.  Just be sure to put in dummy return values for methods that have a return type other than void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AF94625-0994-4600-869D-0A24E43F6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3124080" y="1295280"/>
            <a:ext cx="2819160" cy="4876920"/>
            <a:chOff x="3124080" y="1295280"/>
            <a:chExt cx="2819160" cy="4876920"/>
          </a:xfrm>
        </p:grpSpPr>
        <p:sp>
          <p:nvSpPr>
            <p:cNvPr id="103" name="Rectangle 4"/>
            <p:cNvSpPr/>
            <p:nvPr/>
          </p:nvSpPr>
          <p:spPr>
            <a:xfrm>
              <a:off x="3124080" y="1295280"/>
              <a:ext cx="28191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3124080" y="1828800"/>
              <a:ext cx="281916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(Fields)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3124080" y="2286000"/>
              <a:ext cx="2819160" cy="38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hod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at Operate on the Data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7"/>
            <p:cNvGrpSpPr/>
            <p:nvPr/>
          </p:nvGrpSpPr>
          <p:grpSpPr>
            <a:xfrm>
              <a:off x="3656880" y="3352680"/>
              <a:ext cx="1820520" cy="2056320"/>
              <a:chOff x="3656880" y="3352680"/>
              <a:chExt cx="1820520" cy="2056320"/>
            </a:xfrm>
          </p:grpSpPr>
          <p:grpSp>
            <p:nvGrpSpPr>
              <p:cNvPr id="107" name="Group 8"/>
              <p:cNvGrpSpPr/>
              <p:nvPr/>
            </p:nvGrpSpPr>
            <p:grpSpPr>
              <a:xfrm>
                <a:off x="3656880" y="3352680"/>
                <a:ext cx="449280" cy="560160"/>
                <a:chOff x="3656880" y="3352680"/>
                <a:chExt cx="449280" cy="560160"/>
              </a:xfrm>
            </p:grpSpPr>
            <p:sp>
              <p:nvSpPr>
                <p:cNvPr id="108" name="AutoShape 9"/>
                <p:cNvSpPr/>
                <p:nvPr/>
              </p:nvSpPr>
              <p:spPr>
                <a:xfrm>
                  <a:off x="3657240" y="335268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AutoShape 10"/>
                <p:cNvSpPr/>
                <p:nvPr/>
              </p:nvSpPr>
              <p:spPr>
                <a:xfrm flipH="1" flipV="1">
                  <a:off x="3656520" y="346428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11"/>
              <p:cNvGrpSpPr/>
              <p:nvPr/>
            </p:nvGrpSpPr>
            <p:grpSpPr>
              <a:xfrm>
                <a:off x="4342320" y="3352680"/>
                <a:ext cx="449280" cy="560160"/>
                <a:chOff x="4342320" y="3352680"/>
                <a:chExt cx="449280" cy="560160"/>
              </a:xfrm>
            </p:grpSpPr>
            <p:sp>
              <p:nvSpPr>
                <p:cNvPr id="111" name="AutoShape 12"/>
                <p:cNvSpPr/>
                <p:nvPr/>
              </p:nvSpPr>
              <p:spPr>
                <a:xfrm>
                  <a:off x="4342680" y="335268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AutoShape 13"/>
                <p:cNvSpPr/>
                <p:nvPr/>
              </p:nvSpPr>
              <p:spPr>
                <a:xfrm flipH="1" flipV="1">
                  <a:off x="4341960" y="346428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14"/>
              <p:cNvGrpSpPr/>
              <p:nvPr/>
            </p:nvGrpSpPr>
            <p:grpSpPr>
              <a:xfrm>
                <a:off x="5028840" y="3352680"/>
                <a:ext cx="448560" cy="560160"/>
                <a:chOff x="5028840" y="3352680"/>
                <a:chExt cx="448560" cy="560160"/>
              </a:xfrm>
            </p:grpSpPr>
            <p:sp>
              <p:nvSpPr>
                <p:cNvPr id="114" name="AutoShape 15"/>
                <p:cNvSpPr/>
                <p:nvPr/>
              </p:nvSpPr>
              <p:spPr>
                <a:xfrm>
                  <a:off x="5028840" y="3352680"/>
                  <a:ext cx="44856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16"/>
                <p:cNvSpPr/>
                <p:nvPr/>
              </p:nvSpPr>
              <p:spPr>
                <a:xfrm flipH="1" flipV="1">
                  <a:off x="5028840" y="3464280"/>
                  <a:ext cx="44856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17"/>
              <p:cNvGrpSpPr/>
              <p:nvPr/>
            </p:nvGrpSpPr>
            <p:grpSpPr>
              <a:xfrm>
                <a:off x="5028840" y="4848840"/>
                <a:ext cx="448560" cy="560160"/>
                <a:chOff x="5028840" y="4848840"/>
                <a:chExt cx="448560" cy="560160"/>
              </a:xfrm>
            </p:grpSpPr>
            <p:sp>
              <p:nvSpPr>
                <p:cNvPr id="117" name="AutoShape 18"/>
                <p:cNvSpPr/>
                <p:nvPr/>
              </p:nvSpPr>
              <p:spPr>
                <a:xfrm>
                  <a:off x="5028840" y="4848840"/>
                  <a:ext cx="44856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AutoShape 19"/>
                <p:cNvSpPr/>
                <p:nvPr/>
              </p:nvSpPr>
              <p:spPr>
                <a:xfrm flipH="1" flipV="1">
                  <a:off x="5028840" y="4960440"/>
                  <a:ext cx="44856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20"/>
              <p:cNvGrpSpPr/>
              <p:nvPr/>
            </p:nvGrpSpPr>
            <p:grpSpPr>
              <a:xfrm>
                <a:off x="3656880" y="4100760"/>
                <a:ext cx="449280" cy="560160"/>
                <a:chOff x="3656880" y="4100760"/>
                <a:chExt cx="449280" cy="560160"/>
              </a:xfrm>
            </p:grpSpPr>
            <p:sp>
              <p:nvSpPr>
                <p:cNvPr id="120" name="AutoShape 21"/>
                <p:cNvSpPr/>
                <p:nvPr/>
              </p:nvSpPr>
              <p:spPr>
                <a:xfrm>
                  <a:off x="3657240" y="410076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AutoShape 22"/>
                <p:cNvSpPr/>
                <p:nvPr/>
              </p:nvSpPr>
              <p:spPr>
                <a:xfrm flipH="1" flipV="1">
                  <a:off x="3656520" y="421236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23"/>
              <p:cNvGrpSpPr/>
              <p:nvPr/>
            </p:nvGrpSpPr>
            <p:grpSpPr>
              <a:xfrm>
                <a:off x="4342320" y="4100760"/>
                <a:ext cx="449280" cy="560160"/>
                <a:chOff x="4342320" y="4100760"/>
                <a:chExt cx="449280" cy="560160"/>
              </a:xfrm>
            </p:grpSpPr>
            <p:sp>
              <p:nvSpPr>
                <p:cNvPr id="123" name="AutoShape 24"/>
                <p:cNvSpPr/>
                <p:nvPr/>
              </p:nvSpPr>
              <p:spPr>
                <a:xfrm>
                  <a:off x="4342680" y="410076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25"/>
                <p:cNvSpPr/>
                <p:nvPr/>
              </p:nvSpPr>
              <p:spPr>
                <a:xfrm flipH="1" flipV="1">
                  <a:off x="4341960" y="421236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6"/>
              <p:cNvGrpSpPr/>
              <p:nvPr/>
            </p:nvGrpSpPr>
            <p:grpSpPr>
              <a:xfrm>
                <a:off x="5028840" y="4100760"/>
                <a:ext cx="448560" cy="560160"/>
                <a:chOff x="5028840" y="4100760"/>
                <a:chExt cx="448560" cy="560160"/>
              </a:xfrm>
            </p:grpSpPr>
            <p:sp>
              <p:nvSpPr>
                <p:cNvPr id="126" name="AutoShape 27"/>
                <p:cNvSpPr/>
                <p:nvPr/>
              </p:nvSpPr>
              <p:spPr>
                <a:xfrm>
                  <a:off x="5028840" y="4100760"/>
                  <a:ext cx="44856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28"/>
                <p:cNvSpPr/>
                <p:nvPr/>
              </p:nvSpPr>
              <p:spPr>
                <a:xfrm flipH="1" flipV="1">
                  <a:off x="5028840" y="4212360"/>
                  <a:ext cx="44856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9"/>
              <p:cNvGrpSpPr/>
              <p:nvPr/>
            </p:nvGrpSpPr>
            <p:grpSpPr>
              <a:xfrm>
                <a:off x="3656880" y="4848840"/>
                <a:ext cx="449280" cy="560160"/>
                <a:chOff x="3656880" y="4848840"/>
                <a:chExt cx="449280" cy="560160"/>
              </a:xfrm>
            </p:grpSpPr>
            <p:sp>
              <p:nvSpPr>
                <p:cNvPr id="129" name="AutoShape 30"/>
                <p:cNvSpPr/>
                <p:nvPr/>
              </p:nvSpPr>
              <p:spPr>
                <a:xfrm>
                  <a:off x="3657240" y="484884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utoShape 31"/>
                <p:cNvSpPr/>
                <p:nvPr/>
              </p:nvSpPr>
              <p:spPr>
                <a:xfrm flipH="1" flipV="1">
                  <a:off x="3656520" y="496044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32"/>
              <p:cNvGrpSpPr/>
              <p:nvPr/>
            </p:nvGrpSpPr>
            <p:grpSpPr>
              <a:xfrm>
                <a:off x="4342320" y="4848840"/>
                <a:ext cx="449280" cy="560160"/>
                <a:chOff x="4342320" y="4848840"/>
                <a:chExt cx="449280" cy="560160"/>
              </a:xfrm>
            </p:grpSpPr>
            <p:sp>
              <p:nvSpPr>
                <p:cNvPr id="132" name="AutoShape 33"/>
                <p:cNvSpPr/>
                <p:nvPr/>
              </p:nvSpPr>
              <p:spPr>
                <a:xfrm>
                  <a:off x="4342680" y="484884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AutoShape 34"/>
                <p:cNvSpPr/>
                <p:nvPr/>
              </p:nvSpPr>
              <p:spPr>
                <a:xfrm flipH="1" flipV="1">
                  <a:off x="4341960" y="496044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Line 35"/>
            <p:cNvSpPr/>
            <p:nvPr/>
          </p:nvSpPr>
          <p:spPr>
            <a:xfrm flipV="1">
              <a:off x="3885840" y="2361600"/>
              <a:ext cx="0" cy="838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 flipV="1">
              <a:off x="4571640" y="2361600"/>
              <a:ext cx="0" cy="838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37"/>
            <p:cNvSpPr/>
            <p:nvPr/>
          </p:nvSpPr>
          <p:spPr>
            <a:xfrm flipV="1">
              <a:off x="5257440" y="2361600"/>
              <a:ext cx="0" cy="838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20EA94B-B2F8-4079-A021-A4A20FB94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the UML Diagram t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4191120" y="1235160"/>
            <a:ext cx="48006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tang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double length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Width(double w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width = w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Length(double le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length = len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Width(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return width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Length(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return length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Area(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return length * width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304920" y="2971800"/>
            <a:ext cx="3352680" cy="3276720"/>
            <a:chOff x="304920" y="2971800"/>
            <a:chExt cx="3352680" cy="3276720"/>
          </a:xfrm>
        </p:grpSpPr>
        <p:sp>
          <p:nvSpPr>
            <p:cNvPr id="396" name="Rectangle 5"/>
            <p:cNvSpPr/>
            <p:nvPr/>
          </p:nvSpPr>
          <p:spPr>
            <a:xfrm>
              <a:off x="304920" y="2971800"/>
              <a:ext cx="33526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6"/>
            <p:cNvSpPr/>
            <p:nvPr/>
          </p:nvSpPr>
          <p:spPr>
            <a:xfrm>
              <a:off x="304920" y="3581280"/>
              <a:ext cx="3352680" cy="78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dth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ngth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7"/>
            <p:cNvSpPr/>
            <p:nvPr/>
          </p:nvSpPr>
          <p:spPr>
            <a:xfrm>
              <a:off x="304920" y="4343400"/>
              <a:ext cx="3352680" cy="1905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Width(w : double) : void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Length(len : double): void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Width()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Length()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Area()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Text Box 8"/>
          <p:cNvSpPr/>
          <p:nvPr/>
        </p:nvSpPr>
        <p:spPr>
          <a:xfrm>
            <a:off x="152280" y="1523880"/>
            <a:ext cx="39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Once the class structure has been tested, the method bodies can be written and tested.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5F98D18-48E5-4E7F-BEF1-AD6D7DC28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 Layout Con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yout of a source code file can vary by employer or instru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 layout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 listed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listed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ors and mutators are typically grou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ools that can help in formatting layout to specific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D3FA685-96E4-422E-A368-55BBEA63D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nce Fields a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and methods that are declared as previously shown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ance fiel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ance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created from a class each have their own copy of instance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 methods are methods that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lared with a special keyword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944B382-A35D-420C-B765-87D50DAA3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nce Fields a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 fields and instance methods require an object to be created in order to b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RoomAreas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each room represented in this example can have different dim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tangle kitchen = new Rectang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tangle bedroom = new Rectang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tangle den = new Rectang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0F107D5-00F0-4558-9863-4194FB26C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s of Three Different Rectangle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3276720" y="3352680"/>
            <a:ext cx="1143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ddr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3"/>
          <p:cNvSpPr/>
          <p:nvPr/>
        </p:nvSpPr>
        <p:spPr>
          <a:xfrm>
            <a:off x="6858000" y="312408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5.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6858000" y="373392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2.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571500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ngth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71500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idth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5562720" y="2971800"/>
            <a:ext cx="22096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8"/>
          <p:cNvSpPr/>
          <p:nvPr/>
        </p:nvSpPr>
        <p:spPr>
          <a:xfrm>
            <a:off x="4419720" y="365760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33"/>
          <p:cNvSpPr/>
          <p:nvPr/>
        </p:nvSpPr>
        <p:spPr>
          <a:xfrm>
            <a:off x="3276720" y="1905120"/>
            <a:ext cx="1143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ddr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4"/>
          <p:cNvSpPr/>
          <p:nvPr/>
        </p:nvSpPr>
        <p:spPr>
          <a:xfrm>
            <a:off x="6858000" y="167652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.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5"/>
          <p:cNvSpPr/>
          <p:nvPr/>
        </p:nvSpPr>
        <p:spPr>
          <a:xfrm>
            <a:off x="6858000" y="228600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4.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571500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ngth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7"/>
          <p:cNvSpPr/>
          <p:nvPr/>
        </p:nvSpPr>
        <p:spPr>
          <a:xfrm>
            <a:off x="571500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idth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38"/>
          <p:cNvSpPr/>
          <p:nvPr/>
        </p:nvSpPr>
        <p:spPr>
          <a:xfrm>
            <a:off x="5562720" y="1523880"/>
            <a:ext cx="22096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39"/>
          <p:cNvSpPr/>
          <p:nvPr/>
        </p:nvSpPr>
        <p:spPr>
          <a:xfrm>
            <a:off x="4419720" y="220968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0"/>
          <p:cNvSpPr/>
          <p:nvPr/>
        </p:nvSpPr>
        <p:spPr>
          <a:xfrm>
            <a:off x="3276720" y="4876920"/>
            <a:ext cx="1143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ddr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1"/>
          <p:cNvSpPr/>
          <p:nvPr/>
        </p:nvSpPr>
        <p:spPr>
          <a:xfrm>
            <a:off x="6858000" y="464832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0.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6858000" y="5257800"/>
            <a:ext cx="762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0.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3"/>
          <p:cNvSpPr/>
          <p:nvPr/>
        </p:nvSpPr>
        <p:spPr>
          <a:xfrm>
            <a:off x="571500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ngth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4"/>
          <p:cNvSpPr/>
          <p:nvPr/>
        </p:nvSpPr>
        <p:spPr>
          <a:xfrm>
            <a:off x="5715000" y="52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idth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45"/>
          <p:cNvSpPr/>
          <p:nvPr/>
        </p:nvSpPr>
        <p:spPr>
          <a:xfrm>
            <a:off x="5562720" y="4495680"/>
            <a:ext cx="22096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6"/>
          <p:cNvSpPr/>
          <p:nvPr/>
        </p:nvSpPr>
        <p:spPr>
          <a:xfrm>
            <a:off x="4419720" y="518148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47"/>
          <p:cNvSpPr/>
          <p:nvPr/>
        </p:nvSpPr>
        <p:spPr>
          <a:xfrm>
            <a:off x="533520" y="1676520"/>
            <a:ext cx="259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itc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holds the address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55"/>
          <p:cNvSpPr/>
          <p:nvPr/>
        </p:nvSpPr>
        <p:spPr>
          <a:xfrm>
            <a:off x="533520" y="3124080"/>
            <a:ext cx="259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dro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holds the address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56"/>
          <p:cNvSpPr/>
          <p:nvPr/>
        </p:nvSpPr>
        <p:spPr>
          <a:xfrm>
            <a:off x="533520" y="457200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holds the address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4357B7D-8FB4-4EAD-8DE3-6761FB129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can have special method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structor is a method tha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utomatical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when an object is cre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re used to perform operations at the time an object is cre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typically initialize instance fields and perform other object initialization tas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210179C-5480-41E8-9280-2BF4E107A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have a few special properties that set them apart from normal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have the same name as th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have no return type (not ev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may not return any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re typically publ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434C36F-2FE9-41E8-9CBD-23BFAAB28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or for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param len The length of the rectang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param w The width of the rectang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Rectangle(double len, double 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 = le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dth = 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 Rectangle.java, ConstructorDem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12BC026-BB02-46F4-B89C-71581641A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ors in U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UML, the most common way constructors are defined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5"/>
          <p:cNvGrpSpPr/>
          <p:nvPr/>
        </p:nvGrpSpPr>
        <p:grpSpPr>
          <a:xfrm>
            <a:off x="1143000" y="2590920"/>
            <a:ext cx="3962160" cy="3276000"/>
            <a:chOff x="1143000" y="2590920"/>
            <a:chExt cx="3962160" cy="3276000"/>
          </a:xfrm>
        </p:grpSpPr>
        <p:sp>
          <p:nvSpPr>
            <p:cNvPr id="448" name="Rectangle 6"/>
            <p:cNvSpPr/>
            <p:nvPr/>
          </p:nvSpPr>
          <p:spPr>
            <a:xfrm>
              <a:off x="1143000" y="2590920"/>
              <a:ext cx="3962160" cy="609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7"/>
            <p:cNvSpPr/>
            <p:nvPr/>
          </p:nvSpPr>
          <p:spPr>
            <a:xfrm>
              <a:off x="1143000" y="3200040"/>
              <a:ext cx="3962160" cy="787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dth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ngth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8"/>
            <p:cNvSpPr/>
            <p:nvPr/>
          </p:nvSpPr>
          <p:spPr>
            <a:xfrm>
              <a:off x="1143000" y="3962160"/>
              <a:ext cx="396216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+Rectangle(len:double, w:double)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Width(w : double) : void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setLength(len : double): void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Width()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Length()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getArea() : doubl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Group 14"/>
          <p:cNvGrpSpPr/>
          <p:nvPr/>
        </p:nvGrpSpPr>
        <p:grpSpPr>
          <a:xfrm>
            <a:off x="5181480" y="2514600"/>
            <a:ext cx="3110040" cy="1676520"/>
            <a:chOff x="5181480" y="2514600"/>
            <a:chExt cx="3110040" cy="1676520"/>
          </a:xfrm>
        </p:grpSpPr>
        <p:sp>
          <p:nvSpPr>
            <p:cNvPr id="452" name="Text Box 9"/>
            <p:cNvSpPr/>
            <p:nvPr/>
          </p:nvSpPr>
          <p:spPr>
            <a:xfrm>
              <a:off x="5948280" y="2514600"/>
              <a:ext cx="2343240" cy="119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Notice there is no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return type listed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or constructors.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2"/>
            <p:cNvSpPr/>
            <p:nvPr/>
          </p:nvSpPr>
          <p:spPr>
            <a:xfrm flipH="1">
              <a:off x="5181480" y="4191120"/>
              <a:ext cx="19051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13"/>
            <p:cNvSpPr/>
            <p:nvPr/>
          </p:nvSpPr>
          <p:spPr>
            <a:xfrm>
              <a:off x="7086600" y="3733920"/>
              <a:ext cx="0" cy="457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3881B21-9019-4EF9-81F3-AAC2926F0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nitialized Local Reference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variables can be declared without being initial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 bo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tatement does not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, so it is an uninitialized local reference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cal reference variable must reference an object before it can be used, otherwise a compiler error will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 = new Rectangle(7.0, 14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now referenc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of length 7.0 and width 14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6B94B19-3FAD-4E8E-9889-9F57F17CE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-oriented programming combines data and behavior vi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hi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ability of an object to hide data from other objects in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an object’s methods should be able to directly manipulate it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objects are allowed manipulate an object’s data via the object’s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E1BA31B-2016-4B06-88F0-2F5262D1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fault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object is created, its constructor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do not write a constructor, Java provides one when the class is compiled.  The constructor that Java provides is known a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ault constru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ets all of the object’s numeric fields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ets all of the object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ets all of the object’s reference variables to the special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90003D2-F977-4004-9EAF-17E3471FF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fault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ault constructor is a constructor with no parameters, used to initialize an object in a default configu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hat Java provides a default constructor is when you do not wri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or for 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 First version of Rectangle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constructor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ided by Java if a constructor is already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 Rectangle.java with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2339434-31F9-4253-A689-80AC49199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Your Own No-Arg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structor that does not accept arguments is known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-arg constru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ault constructor (provided by Java) is a no-arg co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write our own no-arg construc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Rectang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ngth =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dth =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1FEB57C-7DDD-455B-8D58-E52D37032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onstructors accepts a string literal as an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tring literal is used to initializ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nstanc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 = new String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chael Lo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7D86042-A48D-4422-B539-0F0F0963F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 Con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reates a new reference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points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that represents the name “Michael Lo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y are used so often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can be created with a shorth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name = "Michael Long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1E2AA7E-6313-467E-A3D9-55E443FE7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loading Methods and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r more methods in a class may have the same name as long as their parameter lists are differe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occurs, it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verloa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is also applies to constru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overloading is important because sometimes you need several different ways to perform the same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5D64586-159E-4172-89E4-1EF6BC0D2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loaded Method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 add(int num1, int num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sum = num1 + num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ring add (String str1, String st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combined = str1 + st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combin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768805F-4632-4EB0-9A4D-705065845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 Signature and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hod signature consists of the method’s name and the data types of the method’s parameters, in the order that they appear.  The return type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t of the signatu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int, 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tring, String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of matching a method call with the correct method is kn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compiler uses the method signature to determine which version of the overloaded method to bind the call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4343400" y="28512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</a:rPr>
              <a:t>Signatures of the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add</a:t>
            </a:r>
            <a:r>
              <a:rPr b="0" i="1" lang="en-US" sz="2400" spc="-1" strike="noStrike">
                <a:solidFill>
                  <a:srgbClr val="009999"/>
                </a:solidFill>
                <a:latin typeface="Times New Roman"/>
              </a:rPr>
              <a:t> methods of previous slid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5"/>
          <p:cNvSpPr/>
          <p:nvPr/>
        </p:nvSpPr>
        <p:spPr>
          <a:xfrm flipV="1">
            <a:off x="2895480" y="3352680"/>
            <a:ext cx="16765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 flipV="1">
            <a:off x="3733920" y="3352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C185357-1E2F-4BD8-A601-8C1B0CDD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 Constructor Overl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286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were to add the no-arg constructor we wrote previously to ou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n addition to the original constructor we wrote, what would happen when we execute the following call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box1 = new Rectang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box2 = new Rectangle(5.0, 1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0A5E76C-099C-4F44-BF73-9CAF57974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 Constructor Overl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were to add the no-arg constructor we wrote previously to ou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n addition to the original constructor we wrote, what would happen when we execute the following call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box1 = new Rectang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box2 = new Rectangle(5.0, 10.0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first call would use the no-arg constructor and 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box1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would have a length of 1.0 and width of 1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second call would use the original constructor and 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box2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would have a length of 5.0 and a width of 10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711C686-0B86-4244-BC89-073C83F6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3436920" y="1295280"/>
            <a:ext cx="2819520" cy="4876920"/>
            <a:chOff x="3436920" y="1295280"/>
            <a:chExt cx="2819520" cy="4876920"/>
          </a:xfrm>
        </p:grpSpPr>
        <p:sp>
          <p:nvSpPr>
            <p:cNvPr id="143" name="Rectangle 4"/>
            <p:cNvSpPr/>
            <p:nvPr/>
          </p:nvSpPr>
          <p:spPr>
            <a:xfrm>
              <a:off x="3436920" y="1295280"/>
              <a:ext cx="28195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3436920" y="1752480"/>
              <a:ext cx="28195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(Fields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ically private to this object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3436920" y="2286000"/>
              <a:ext cx="2819520" cy="38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hods Tha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te on the Data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Group 7"/>
            <p:cNvGrpSpPr/>
            <p:nvPr/>
          </p:nvGrpSpPr>
          <p:grpSpPr>
            <a:xfrm>
              <a:off x="3970080" y="3352680"/>
              <a:ext cx="1820520" cy="2056320"/>
              <a:chOff x="3970080" y="3352680"/>
              <a:chExt cx="1820520" cy="2056320"/>
            </a:xfrm>
          </p:grpSpPr>
          <p:grpSp>
            <p:nvGrpSpPr>
              <p:cNvPr id="147" name="Group 8"/>
              <p:cNvGrpSpPr/>
              <p:nvPr/>
            </p:nvGrpSpPr>
            <p:grpSpPr>
              <a:xfrm>
                <a:off x="3970080" y="3352680"/>
                <a:ext cx="449280" cy="560160"/>
                <a:chOff x="3970080" y="3352680"/>
                <a:chExt cx="449280" cy="560160"/>
              </a:xfrm>
            </p:grpSpPr>
            <p:sp>
              <p:nvSpPr>
                <p:cNvPr id="148" name="AutoShape 9"/>
                <p:cNvSpPr/>
                <p:nvPr/>
              </p:nvSpPr>
              <p:spPr>
                <a:xfrm>
                  <a:off x="3970440" y="335268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AutoShape 10"/>
                <p:cNvSpPr/>
                <p:nvPr/>
              </p:nvSpPr>
              <p:spPr>
                <a:xfrm flipH="1" flipV="1">
                  <a:off x="3969720" y="346428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11"/>
              <p:cNvGrpSpPr/>
              <p:nvPr/>
            </p:nvGrpSpPr>
            <p:grpSpPr>
              <a:xfrm>
                <a:off x="4655520" y="3352680"/>
                <a:ext cx="449280" cy="560160"/>
                <a:chOff x="4655520" y="3352680"/>
                <a:chExt cx="449280" cy="560160"/>
              </a:xfrm>
            </p:grpSpPr>
            <p:sp>
              <p:nvSpPr>
                <p:cNvPr id="151" name="AutoShape 12"/>
                <p:cNvSpPr/>
                <p:nvPr/>
              </p:nvSpPr>
              <p:spPr>
                <a:xfrm>
                  <a:off x="4655880" y="335268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AutoShape 13"/>
                <p:cNvSpPr/>
                <p:nvPr/>
              </p:nvSpPr>
              <p:spPr>
                <a:xfrm flipH="1" flipV="1">
                  <a:off x="4655160" y="346428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14"/>
              <p:cNvGrpSpPr/>
              <p:nvPr/>
            </p:nvGrpSpPr>
            <p:grpSpPr>
              <a:xfrm>
                <a:off x="5342040" y="3352680"/>
                <a:ext cx="448560" cy="560160"/>
                <a:chOff x="5342040" y="3352680"/>
                <a:chExt cx="448560" cy="560160"/>
              </a:xfrm>
            </p:grpSpPr>
            <p:sp>
              <p:nvSpPr>
                <p:cNvPr id="154" name="AutoShape 15"/>
                <p:cNvSpPr/>
                <p:nvPr/>
              </p:nvSpPr>
              <p:spPr>
                <a:xfrm>
                  <a:off x="5342040" y="3352680"/>
                  <a:ext cx="44856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AutoShape 16"/>
                <p:cNvSpPr/>
                <p:nvPr/>
              </p:nvSpPr>
              <p:spPr>
                <a:xfrm flipH="1" flipV="1">
                  <a:off x="5342040" y="3464280"/>
                  <a:ext cx="44856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Group 17"/>
              <p:cNvGrpSpPr/>
              <p:nvPr/>
            </p:nvGrpSpPr>
            <p:grpSpPr>
              <a:xfrm>
                <a:off x="5342040" y="4848840"/>
                <a:ext cx="448560" cy="560160"/>
                <a:chOff x="5342040" y="4848840"/>
                <a:chExt cx="448560" cy="560160"/>
              </a:xfrm>
            </p:grpSpPr>
            <p:sp>
              <p:nvSpPr>
                <p:cNvPr id="157" name="AutoShape 18"/>
                <p:cNvSpPr/>
                <p:nvPr/>
              </p:nvSpPr>
              <p:spPr>
                <a:xfrm>
                  <a:off x="5342040" y="4848840"/>
                  <a:ext cx="44856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AutoShape 19"/>
                <p:cNvSpPr/>
                <p:nvPr/>
              </p:nvSpPr>
              <p:spPr>
                <a:xfrm flipH="1" flipV="1">
                  <a:off x="5342040" y="4960440"/>
                  <a:ext cx="44856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Group 20"/>
              <p:cNvGrpSpPr/>
              <p:nvPr/>
            </p:nvGrpSpPr>
            <p:grpSpPr>
              <a:xfrm>
                <a:off x="3970080" y="4100760"/>
                <a:ext cx="449280" cy="560160"/>
                <a:chOff x="3970080" y="4100760"/>
                <a:chExt cx="449280" cy="560160"/>
              </a:xfrm>
            </p:grpSpPr>
            <p:sp>
              <p:nvSpPr>
                <p:cNvPr id="160" name="AutoShape 21"/>
                <p:cNvSpPr/>
                <p:nvPr/>
              </p:nvSpPr>
              <p:spPr>
                <a:xfrm>
                  <a:off x="3970440" y="410076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AutoShape 22"/>
                <p:cNvSpPr/>
                <p:nvPr/>
              </p:nvSpPr>
              <p:spPr>
                <a:xfrm flipH="1" flipV="1">
                  <a:off x="3969720" y="421236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23"/>
              <p:cNvGrpSpPr/>
              <p:nvPr/>
            </p:nvGrpSpPr>
            <p:grpSpPr>
              <a:xfrm>
                <a:off x="4655520" y="4100760"/>
                <a:ext cx="449280" cy="560160"/>
                <a:chOff x="4655520" y="4100760"/>
                <a:chExt cx="449280" cy="560160"/>
              </a:xfrm>
            </p:grpSpPr>
            <p:sp>
              <p:nvSpPr>
                <p:cNvPr id="163" name="AutoShape 24"/>
                <p:cNvSpPr/>
                <p:nvPr/>
              </p:nvSpPr>
              <p:spPr>
                <a:xfrm>
                  <a:off x="4655880" y="410076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AutoShape 25"/>
                <p:cNvSpPr/>
                <p:nvPr/>
              </p:nvSpPr>
              <p:spPr>
                <a:xfrm flipH="1" flipV="1">
                  <a:off x="4655160" y="421236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26"/>
              <p:cNvGrpSpPr/>
              <p:nvPr/>
            </p:nvGrpSpPr>
            <p:grpSpPr>
              <a:xfrm>
                <a:off x="5342040" y="4100760"/>
                <a:ext cx="448560" cy="560160"/>
                <a:chOff x="5342040" y="4100760"/>
                <a:chExt cx="448560" cy="560160"/>
              </a:xfrm>
            </p:grpSpPr>
            <p:sp>
              <p:nvSpPr>
                <p:cNvPr id="166" name="AutoShape 27"/>
                <p:cNvSpPr/>
                <p:nvPr/>
              </p:nvSpPr>
              <p:spPr>
                <a:xfrm>
                  <a:off x="5342040" y="4100760"/>
                  <a:ext cx="44856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AutoShape 28"/>
                <p:cNvSpPr/>
                <p:nvPr/>
              </p:nvSpPr>
              <p:spPr>
                <a:xfrm flipH="1" flipV="1">
                  <a:off x="5342040" y="4212360"/>
                  <a:ext cx="44856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29"/>
              <p:cNvGrpSpPr/>
              <p:nvPr/>
            </p:nvGrpSpPr>
            <p:grpSpPr>
              <a:xfrm>
                <a:off x="3970080" y="4848840"/>
                <a:ext cx="449280" cy="560160"/>
                <a:chOff x="3970080" y="4848840"/>
                <a:chExt cx="449280" cy="560160"/>
              </a:xfrm>
            </p:grpSpPr>
            <p:sp>
              <p:nvSpPr>
                <p:cNvPr id="169" name="AutoShape 30"/>
                <p:cNvSpPr/>
                <p:nvPr/>
              </p:nvSpPr>
              <p:spPr>
                <a:xfrm>
                  <a:off x="3970440" y="484884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AutoShape 31"/>
                <p:cNvSpPr/>
                <p:nvPr/>
              </p:nvSpPr>
              <p:spPr>
                <a:xfrm flipH="1" flipV="1">
                  <a:off x="3969720" y="496044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32"/>
              <p:cNvGrpSpPr/>
              <p:nvPr/>
            </p:nvGrpSpPr>
            <p:grpSpPr>
              <a:xfrm>
                <a:off x="4655520" y="4848840"/>
                <a:ext cx="449280" cy="560160"/>
                <a:chOff x="4655520" y="4848840"/>
                <a:chExt cx="449280" cy="560160"/>
              </a:xfrm>
            </p:grpSpPr>
            <p:sp>
              <p:nvSpPr>
                <p:cNvPr id="172" name="AutoShape 33"/>
                <p:cNvSpPr/>
                <p:nvPr/>
              </p:nvSpPr>
              <p:spPr>
                <a:xfrm>
                  <a:off x="4655880" y="484884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AutoShape 34"/>
                <p:cNvSpPr/>
                <p:nvPr/>
              </p:nvSpPr>
              <p:spPr>
                <a:xfrm flipH="1" flipV="1">
                  <a:off x="4655160" y="496044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Line 35"/>
            <p:cNvSpPr/>
            <p:nvPr/>
          </p:nvSpPr>
          <p:spPr>
            <a:xfrm flipV="1">
              <a:off x="4199040" y="2362320"/>
              <a:ext cx="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6"/>
            <p:cNvSpPr/>
            <p:nvPr/>
          </p:nvSpPr>
          <p:spPr>
            <a:xfrm flipV="1">
              <a:off x="4884840" y="2362320"/>
              <a:ext cx="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7"/>
            <p:cNvSpPr/>
            <p:nvPr/>
          </p:nvSpPr>
          <p:spPr>
            <a:xfrm flipV="1">
              <a:off x="5570640" y="2362320"/>
              <a:ext cx="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47"/>
          <p:cNvSpPr/>
          <p:nvPr/>
        </p:nvSpPr>
        <p:spPr>
          <a:xfrm>
            <a:off x="1066680" y="3429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Outside the Obje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48"/>
          <p:cNvSpPr/>
          <p:nvPr/>
        </p:nvSpPr>
        <p:spPr>
          <a:xfrm>
            <a:off x="2819520" y="380988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49"/>
          <p:cNvSpPr/>
          <p:nvPr/>
        </p:nvSpPr>
        <p:spPr>
          <a:xfrm>
            <a:off x="2819520" y="426708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90742A7-7431-4EB7-9894-11DCDAB2D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533520" y="137160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Account.java AccountTest.ja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4191120" y="1447920"/>
            <a:ext cx="4647960" cy="464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2"/>
          <p:cNvSpPr/>
          <p:nvPr/>
        </p:nvSpPr>
        <p:spPr>
          <a:xfrm>
            <a:off x="4191120" y="1523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3"/>
          <p:cNvSpPr/>
          <p:nvPr/>
        </p:nvSpPr>
        <p:spPr>
          <a:xfrm>
            <a:off x="4191120" y="19051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4267080" y="19051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balance:dou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5"/>
          <p:cNvSpPr/>
          <p:nvPr/>
        </p:nvSpPr>
        <p:spPr>
          <a:xfrm>
            <a:off x="4191120" y="22860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4191120" y="2438280"/>
            <a:ext cx="46479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BankAccount(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BankAccount(startBalance:doubl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BankAccount(strString):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deposit(amount:double):voi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deposit(str:String):voi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withdraw(amount:double):voi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withdraw(str:String):voi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setBalance(b:double):voi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setBalance(str:String):voi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getBalance():dou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8"/>
          <p:cNvSpPr/>
          <p:nvPr/>
        </p:nvSpPr>
        <p:spPr>
          <a:xfrm>
            <a:off x="528120" y="281952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oaded Constructor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210240" y="3673440"/>
            <a:ext cx="34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pos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0"/>
          <p:cNvSpPr/>
          <p:nvPr/>
        </p:nvSpPr>
        <p:spPr>
          <a:xfrm>
            <a:off x="147960" y="4419720"/>
            <a:ext cx="35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1"/>
          <p:cNvSpPr/>
          <p:nvPr/>
        </p:nvSpPr>
        <p:spPr>
          <a:xfrm>
            <a:off x="-4320" y="518148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22"/>
          <p:cNvSpPr/>
          <p:nvPr/>
        </p:nvSpPr>
        <p:spPr>
          <a:xfrm flipV="1">
            <a:off x="3809880" y="52578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3"/>
          <p:cNvSpPr/>
          <p:nvPr/>
        </p:nvSpPr>
        <p:spPr>
          <a:xfrm>
            <a:off x="3809880" y="53341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24"/>
          <p:cNvSpPr/>
          <p:nvPr/>
        </p:nvSpPr>
        <p:spPr>
          <a:xfrm flipV="1">
            <a:off x="3733920" y="44956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25"/>
          <p:cNvSpPr/>
          <p:nvPr/>
        </p:nvSpPr>
        <p:spPr>
          <a:xfrm>
            <a:off x="3733920" y="46483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26"/>
          <p:cNvSpPr/>
          <p:nvPr/>
        </p:nvSpPr>
        <p:spPr>
          <a:xfrm flipV="1">
            <a:off x="3657600" y="37335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27"/>
          <p:cNvSpPr/>
          <p:nvPr/>
        </p:nvSpPr>
        <p:spPr>
          <a:xfrm>
            <a:off x="3657600" y="3886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8"/>
          <p:cNvSpPr/>
          <p:nvPr/>
        </p:nvSpPr>
        <p:spPr>
          <a:xfrm flipV="1">
            <a:off x="3200400" y="26665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9"/>
          <p:cNvSpPr/>
          <p:nvPr/>
        </p:nvSpPr>
        <p:spPr>
          <a:xfrm flipV="1">
            <a:off x="3200400" y="297180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30"/>
          <p:cNvSpPr/>
          <p:nvPr/>
        </p:nvSpPr>
        <p:spPr>
          <a:xfrm>
            <a:off x="3200400" y="30481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56B78C0-FD47-4F50-AF9A-4C8FBF3B0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ope of Instanc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declared as instance fields in a class can be accessed by any instance method in the same class as th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 instance field is declared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ess specifier, it can also be accessed by code outside the class, as long as an instance of the class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1DCBBD1-6C38-48B1-8B84-5676DABD2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d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ameter variable is, in effect, a local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a method, variable names must be u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hod may have a local variable with the same name as an instanc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al variable wi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value of the instanc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owing is discouraged and local variable names should not be the same as instance field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C9999BE-0504-427C-A81B-F2315747D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s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in the Java API are organized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ck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and Wildca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imports name a specifi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Scann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dcard imports name a package, followed by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ckage is automatically made available to any Jav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3B5A402-4A26-41FB-A568-4544DAB61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Java Standard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6" descr=""/>
          <p:cNvPicPr/>
          <p:nvPr/>
        </p:nvPicPr>
        <p:blipFill>
          <a:blip r:embed="rId1"/>
          <a:stretch/>
        </p:blipFill>
        <p:spPr>
          <a:xfrm>
            <a:off x="228600" y="1657440"/>
            <a:ext cx="8686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685FBAD-6B11-4D5B-93EC-680DAA5E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Desig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Classes and Their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th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written description of the problem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all nouns, each is a potent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 list to include only classes relevant to the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a class is responsible for kn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a class is responsible for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 list to include only classes relevant to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68B79BC-C1D0-4064-AD83-CE7475D35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Desig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Classes and Their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294760" cy="29494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gs a class is responsible for kn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gs a class is responsible for d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list to include only classes relevant to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0A81F04-A8E2-412A-8812-F4BFD8663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H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hiding is important for several rea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tects the data from accidental corruption by outside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ides the details of how an object works, so the programmer can concentrate on us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lows the maintainer of the object to have the ability to modify the internal functioning of the object without “breaking” someone else's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9D6980F-E6C9-4046-80C3-1F96EF2AC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Re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-Oriented Programming (OOP) has encouraged object reusabilit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software object contains data and methods that represents a specific concept or servi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object is not a stand-alone progra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s can be used by programs that need the object’s servi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use of code promotes the rapid development of larger software projec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833D791-363A-4229-8D6C-2D572683E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veryday Example of an Object—An Alarm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 define the state that the alarm is currently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rent second (a value in the range of 0-5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rent minute (a value in the range of 0-5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rent hour (a value in the range of 1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the alarm is set for (a valid hour and min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the alarm is on or off (“on” or “off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8:40:41Z</dcterms:created>
  <dc:creator>Tony Gaddis</dc:creator>
  <dc:description/>
  <cp:keywords/>
  <dc:language>en-US</dc:language>
  <cp:lastModifiedBy>usellst</cp:lastModifiedBy>
  <cp:lastPrinted>2009-04-22T19:24:48Z</cp:lastPrinted>
  <dcterms:modified xsi:type="dcterms:W3CDTF">2009-03-24T19:44:13Z</dcterms:modified>
  <cp:revision>83</cp:revision>
  <dc:subject>A First Look at Classes</dc:subject>
  <dc:title>Chapter 6</dc:title>
</cp:coreProperties>
</file>