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746-2CC6-47FF-A3CF-FCF39040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668-C739-45FD-A3E2-002FD0E2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0DE-DEB5-4C32-A9D2-589685753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30FE-085D-4EB6-99B5-AF24A94F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28F3-46D9-4A2B-A1F1-02339CDB5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7C90-9054-4BCE-BEFF-5A736A77F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978-CAE0-409C-9499-30B8F6FB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0C48-67C6-4A2E-BB0E-BE9104CAB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428-6AB9-4D34-8FCF-4D9C2967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E537-CB86-41C9-A337-B74430D1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C67-5471-40ED-A3D8-01847BB8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AA7-BE30-404F-A5C8-26D5707CC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19B-7880-4116-8809-FC28012B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BB17-7B19-431B-B29D-95C1B377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2205-3EA0-40B4-8513-C0405403E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4416-D5E0-4D16-9E30-CC6D6840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0E81-15D8-464A-A1D7-78062605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A388-0076-4EAB-B611-F216FADE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50EC-3C28-4A8A-BF16-CB030ED2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7E81-9EEC-4916-A94F-6FCB07089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6BB5-282A-4774-8E38-0E2D057F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E291-DC0C-4EDF-9979-E0A98793F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9E0F-1F16-4189-B5E5-FEBB8A69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7EA-FCBB-4D1C-A12D-B28C353E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122B-AF9F-459D-88CC-47B4C422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589-AD7B-478D-9491-1C8CC4C7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78A6-30CA-451F-BA12-F5DB72B81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EE94-3B08-43F0-9814-124D8D946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F0B-C2E2-4BCF-AB59-1F5F18FB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28A6-EB51-4D1E-81F7-B3D7C54E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730C-5915-4DD1-B4E9-1CF2230F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E4E-AD55-4FB5-9BAF-195AD834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3577-6B0B-4B57-B639-01122F0B7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24DC-9F94-4EF1-85C3-2B1B139A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CC21-6E4A-484A-818B-0C495CF8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F58-2EAD-412D-A047-C183875B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ED5-9648-40DC-BB0B-D840DF96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FF0-F040-427B-86A3-90F05A59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633B-45C8-42CA-9A75-0D0BD384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94DD-E914-4822-93E0-7810EB03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80F-AA4C-4121-B373-54E32C8F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9A7-2088-4773-8334-2D611AB65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FB27-7F5C-483B-9225-211C815C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72B-1059-4C85-8944-B6C0EB581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9F1-C9EB-4C14-A4E7-BE407A3A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1B69-758D-4ED5-BD97-355416D84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E0C-9636-4783-A4BE-C11C123CB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70A-CD88-4A1C-BEEB-3E6132BF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326B-734C-40EC-A4D1-6807DECB9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8B49-83BC-4AD2-A6E4-CC125F8E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166E-D855-4BF7-84E9-C8D104913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F03-0868-4654-883B-3D4B09DB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4D67-8D47-4E62-BC3F-096EBB249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22D6-F8B3-4C23-A3EF-A99451E7F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CA11-E56F-4CF9-B40C-FACFED790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048A-ECA4-486A-B61B-C29221C9F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9C7C-89DD-43FA-8671-F8DB17774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9DAF-B800-4C35-A53D-CE8BCD295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D7A0-8B3A-4077-A1CC-D08D196B1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A2C7-07BA-4086-89EF-42AADDBDD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EF6C-95D6-46FD-81A1-9086A8BA7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A077-603D-49A6-B63F-54D6E9A4A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E281-377E-4EE7-BA3F-A69C5ECB8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8550-C28E-4035-86CF-8F1065808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2160" y="-9360"/>
            <a:ext cx="9140760" cy="2133360"/>
          </a:xfrm>
          <a:custGeom>
            <a:avLst/>
            <a:gdLst>
              <a:gd name="textAreaLeft" fmla="*/ 0 w 9140760"/>
              <a:gd name="textAreaRight" fmla="*/ 9140760 w 9140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85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C2378AE4-7C17-4F06-894D-5F5BA9F0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324480"/>
            <a:ext cx="5562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85e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485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0 Pearson Addison-Wesley.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1523880"/>
            <a:ext cx="9144000" cy="152640"/>
          </a:xfrm>
          <a:custGeom>
            <a:avLst/>
            <a:gdLst>
              <a:gd name="textAreaLeft" fmla="*/ 360 w 9144000"/>
              <a:gd name="textAreaRight" fmla="*/ 9144720 w 9144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3c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203040" y="5715000"/>
            <a:ext cx="1371600" cy="914400"/>
            <a:chOff x="203040" y="5715000"/>
            <a:chExt cx="1371600" cy="914400"/>
          </a:xfrm>
        </p:grpSpPr>
        <p:pic>
          <p:nvPicPr>
            <p:cNvPr id="45" name="Picture 4" descr="Pearson_CMYK"/>
            <p:cNvPicPr/>
            <p:nvPr/>
          </p:nvPicPr>
          <p:blipFill>
            <a:blip r:embed="rId2"/>
            <a:stretch/>
          </p:blipFill>
          <p:spPr>
            <a:xfrm>
              <a:off x="304920" y="6172200"/>
              <a:ext cx="1155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203040" y="5715000"/>
              <a:ext cx="137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Addison Wesley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is an imprint o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828800" y="2057400"/>
            <a:ext cx="5486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ing Out with Java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ontrol Structures through Objec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ny Gad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885e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885e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85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 to Computers and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628BAE6-BF9A-4B91-897A-808373AA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fig01_02"/>
          <p:cNvPicPr/>
          <p:nvPr/>
        </p:nvPicPr>
        <p:blipFill>
          <a:blip r:embed="rId1"/>
          <a:stretch/>
        </p:blipFill>
        <p:spPr>
          <a:xfrm>
            <a:off x="1143000" y="1523880"/>
            <a:ext cx="64771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F00C45A-CAB0-428F-AA9F-C3908255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84000" y="32767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400440" y="3276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838080" y="1676520"/>
            <a:ext cx="7619760" cy="4419360"/>
            <a:chOff x="838080" y="1676520"/>
            <a:chExt cx="7619760" cy="4419360"/>
          </a:xfrm>
        </p:grpSpPr>
        <p:grpSp>
          <p:nvGrpSpPr>
            <p:cNvPr id="128" name="Group 17"/>
            <p:cNvGrpSpPr/>
            <p:nvPr/>
          </p:nvGrpSpPr>
          <p:grpSpPr>
            <a:xfrm>
              <a:off x="838080" y="1752480"/>
              <a:ext cx="7619760" cy="4343400"/>
              <a:chOff x="838080" y="1752480"/>
              <a:chExt cx="7619760" cy="43434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3210120" y="1752480"/>
                <a:ext cx="2947320" cy="4343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6"/>
              <p:cNvSpPr/>
              <p:nvPr/>
            </p:nvSpPr>
            <p:spPr>
              <a:xfrm>
                <a:off x="3569760" y="2102400"/>
                <a:ext cx="2228040" cy="16812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rithmetic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ogic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Un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8"/>
              <p:cNvSpPr/>
              <p:nvPr/>
            </p:nvSpPr>
            <p:spPr>
              <a:xfrm>
                <a:off x="3569760" y="4064040"/>
                <a:ext cx="2228040" cy="16812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Un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838080" y="3924000"/>
                <a:ext cx="23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3"/>
              <p:cNvSpPr/>
              <p:nvPr/>
            </p:nvSpPr>
            <p:spPr>
              <a:xfrm>
                <a:off x="6157800" y="3924000"/>
                <a:ext cx="23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 Box 16"/>
            <p:cNvSpPr/>
            <p:nvPr/>
          </p:nvSpPr>
          <p:spPr>
            <a:xfrm>
              <a:off x="4267080" y="167652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EAB9A4F-E804-4139-B618-A2AD1667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PU performs the fetch, decode, execute cycle in order to process program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1981080" y="2895480"/>
            <a:ext cx="7162920" cy="1295640"/>
            <a:chOff x="1981080" y="2895480"/>
            <a:chExt cx="7162920" cy="1295640"/>
          </a:xfrm>
        </p:grpSpPr>
        <p:sp>
          <p:nvSpPr>
            <p:cNvPr id="139" name="Rectangle 4"/>
            <p:cNvSpPr/>
            <p:nvPr/>
          </p:nvSpPr>
          <p:spPr>
            <a:xfrm>
              <a:off x="1981080" y="3124080"/>
              <a:ext cx="129564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3429000" y="2895480"/>
              <a:ext cx="5715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The CPU’s control unit fetches, from main memory,</a:t>
              </a:r>
              <a:br>
                <a:rPr sz="1600"/>
              </a:b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the next instruction in the sequence of program instru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7"/>
          <p:cNvGrpSpPr/>
          <p:nvPr/>
        </p:nvGrpSpPr>
        <p:grpSpPr>
          <a:xfrm>
            <a:off x="2819520" y="3657600"/>
            <a:ext cx="6324480" cy="1905120"/>
            <a:chOff x="2819520" y="3657600"/>
            <a:chExt cx="6324480" cy="1905120"/>
          </a:xfrm>
        </p:grpSpPr>
        <p:sp>
          <p:nvSpPr>
            <p:cNvPr id="142" name="Line 5"/>
            <p:cNvSpPr/>
            <p:nvPr/>
          </p:nvSpPr>
          <p:spPr>
            <a:xfrm>
              <a:off x="3276720" y="3740040"/>
              <a:ext cx="7617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2819520" y="4495680"/>
              <a:ext cx="12952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4419720" y="3657600"/>
              <a:ext cx="472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 instruction is encoded in the form of a number. The control unit decodes the instruction and generates an electronic sign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9"/>
          <p:cNvGrpSpPr/>
          <p:nvPr/>
        </p:nvGrpSpPr>
        <p:grpSpPr>
          <a:xfrm>
            <a:off x="1066680" y="3733920"/>
            <a:ext cx="7864560" cy="1981800"/>
            <a:chOff x="1066680" y="3733920"/>
            <a:chExt cx="7864560" cy="1981800"/>
          </a:xfrm>
        </p:grpSpPr>
        <p:sp>
          <p:nvSpPr>
            <p:cNvPr id="146" name="Rectangle 7"/>
            <p:cNvSpPr/>
            <p:nvPr/>
          </p:nvSpPr>
          <p:spPr>
            <a:xfrm>
              <a:off x="1066680" y="4495680"/>
              <a:ext cx="129564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8"/>
            <p:cNvSpPr/>
            <p:nvPr/>
          </p:nvSpPr>
          <p:spPr>
            <a:xfrm flipH="1">
              <a:off x="23623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V="1">
              <a:off x="1219320" y="3733920"/>
              <a:ext cx="7617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4267080" y="4648320"/>
              <a:ext cx="466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The signal is routed to the appropriate component of the computer (such as the ALU, a disk drive, or some other device). The signal causes the component to perform an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158DE37-7C41-4451-9AD3-F33E36BD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-access memory (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 conta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runn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used by thos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 is divided into unit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yte consists of eigh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y be either on or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C74AF9C-2522-42A2-B582-4699BB7C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t is either on or 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s form a pattern that represents a character or a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yte  in memory is assigned a unique number known a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eans that when the computer is turned off, the contents of RAM are er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3"/>
          <p:cNvGrpSpPr/>
          <p:nvPr/>
        </p:nvGrpSpPr>
        <p:grpSpPr>
          <a:xfrm>
            <a:off x="5410080" y="1066680"/>
            <a:ext cx="3210120" cy="1892880"/>
            <a:chOff x="5410080" y="1066680"/>
            <a:chExt cx="3210120" cy="1892880"/>
          </a:xfrm>
        </p:grpSpPr>
        <p:pic>
          <p:nvPicPr>
            <p:cNvPr id="157" name="Picture 6" descr="fig01_07"/>
            <p:cNvPicPr/>
            <p:nvPr/>
          </p:nvPicPr>
          <p:blipFill>
            <a:blip r:embed="rId1"/>
            <a:stretch/>
          </p:blipFill>
          <p:spPr>
            <a:xfrm>
              <a:off x="5410080" y="1355040"/>
              <a:ext cx="321012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5"/>
            <p:cNvSpPr/>
            <p:nvPr/>
          </p:nvSpPr>
          <p:spPr>
            <a:xfrm>
              <a:off x="594540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Box 6"/>
            <p:cNvSpPr/>
            <p:nvPr/>
          </p:nvSpPr>
          <p:spPr>
            <a:xfrm>
              <a:off x="701244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Box 7"/>
            <p:cNvSpPr/>
            <p:nvPr/>
          </p:nvSpPr>
          <p:spPr>
            <a:xfrm>
              <a:off x="743616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Box 8"/>
            <p:cNvSpPr/>
            <p:nvPr/>
          </p:nvSpPr>
          <p:spPr>
            <a:xfrm>
              <a:off x="815580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Box 9"/>
            <p:cNvSpPr/>
            <p:nvPr/>
          </p:nvSpPr>
          <p:spPr>
            <a:xfrm>
              <a:off x="5564520" y="25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Box 10"/>
            <p:cNvSpPr/>
            <p:nvPr/>
          </p:nvSpPr>
          <p:spPr>
            <a:xfrm>
              <a:off x="6331320" y="2579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Box 11"/>
            <p:cNvSpPr/>
            <p:nvPr/>
          </p:nvSpPr>
          <p:spPr>
            <a:xfrm>
              <a:off x="6712560" y="2579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Box 12"/>
            <p:cNvSpPr/>
            <p:nvPr/>
          </p:nvSpPr>
          <p:spPr>
            <a:xfrm>
              <a:off x="7855560" y="2579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EE439B8-1CCF-4F8D-8041-F4B1CA0F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1"/>
          <p:cNvGrpSpPr/>
          <p:nvPr/>
        </p:nvGrpSpPr>
        <p:grpSpPr>
          <a:xfrm>
            <a:off x="3505320" y="2743200"/>
            <a:ext cx="5257440" cy="459720"/>
            <a:chOff x="3505320" y="2743200"/>
            <a:chExt cx="5257440" cy="459720"/>
          </a:xfrm>
        </p:grpSpPr>
        <p:sp>
          <p:nvSpPr>
            <p:cNvPr id="169" name="Text Box 48"/>
            <p:cNvSpPr/>
            <p:nvPr/>
          </p:nvSpPr>
          <p:spPr>
            <a:xfrm>
              <a:off x="4035960" y="2743200"/>
              <a:ext cx="472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section of memory is called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y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60"/>
            <p:cNvSpPr/>
            <p:nvPr/>
          </p:nvSpPr>
          <p:spPr>
            <a:xfrm>
              <a:off x="3505320" y="2819520"/>
              <a:ext cx="457200" cy="304560"/>
            </a:xfrm>
            <a:prstGeom prst="leftArrow">
              <a:avLst>
                <a:gd name="adj1" fmla="val 50000"/>
                <a:gd name="adj2" fmla="val 375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73"/>
          <p:cNvGrpSpPr/>
          <p:nvPr/>
        </p:nvGrpSpPr>
        <p:grpSpPr>
          <a:xfrm>
            <a:off x="3581280" y="4343400"/>
            <a:ext cx="5273640" cy="1523880"/>
            <a:chOff x="3581280" y="4343400"/>
            <a:chExt cx="5273640" cy="1523880"/>
          </a:xfrm>
        </p:grpSpPr>
        <p:sp>
          <p:nvSpPr>
            <p:cNvPr id="172" name="AutoShape 64"/>
            <p:cNvSpPr/>
            <p:nvPr/>
          </p:nvSpPr>
          <p:spPr>
            <a:xfrm>
              <a:off x="3581280" y="4343400"/>
              <a:ext cx="685800" cy="15238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5"/>
            <p:cNvSpPr/>
            <p:nvPr/>
          </p:nvSpPr>
          <p:spPr>
            <a:xfrm>
              <a:off x="4495680" y="4724280"/>
              <a:ext cx="435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section of two or four bytes is often called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611280" y="1371600"/>
            <a:ext cx="7932960" cy="4498200"/>
            <a:chOff x="611280" y="1371600"/>
            <a:chExt cx="7932960" cy="4498200"/>
          </a:xfrm>
        </p:grpSpPr>
        <p:sp>
          <p:nvSpPr>
            <p:cNvPr id="175" name="Text Box 67"/>
            <p:cNvSpPr/>
            <p:nvPr/>
          </p:nvSpPr>
          <p:spPr>
            <a:xfrm>
              <a:off x="985680" y="1371600"/>
              <a:ext cx="75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 memory can be visualized as a column or row of ce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69"/>
            <p:cNvSpPr/>
            <p:nvPr/>
          </p:nvSpPr>
          <p:spPr>
            <a:xfrm>
              <a:off x="2286000" y="19051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94"/>
            <p:cNvGrpSpPr/>
            <p:nvPr/>
          </p:nvGrpSpPr>
          <p:grpSpPr>
            <a:xfrm>
              <a:off x="611280" y="2743200"/>
              <a:ext cx="2817720" cy="3126600"/>
              <a:chOff x="611280" y="2743200"/>
              <a:chExt cx="2817720" cy="312660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1600200" y="281952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11"/>
              <p:cNvSpPr/>
              <p:nvPr/>
            </p:nvSpPr>
            <p:spPr>
              <a:xfrm>
                <a:off x="1600200" y="3581280"/>
                <a:ext cx="182880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12"/>
              <p:cNvSpPr/>
              <p:nvPr/>
            </p:nvSpPr>
            <p:spPr>
              <a:xfrm>
                <a:off x="1600200" y="396252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13"/>
              <p:cNvSpPr/>
              <p:nvPr/>
            </p:nvSpPr>
            <p:spPr>
              <a:xfrm>
                <a:off x="1600200" y="434340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4"/>
              <p:cNvSpPr/>
              <p:nvPr/>
            </p:nvSpPr>
            <p:spPr>
              <a:xfrm>
                <a:off x="1600200" y="4724280"/>
                <a:ext cx="182880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5"/>
              <p:cNvSpPr/>
              <p:nvPr/>
            </p:nvSpPr>
            <p:spPr>
              <a:xfrm>
                <a:off x="1600200" y="510552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6"/>
              <p:cNvSpPr/>
              <p:nvPr/>
            </p:nvSpPr>
            <p:spPr>
              <a:xfrm>
                <a:off x="1600200" y="548640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22"/>
              <p:cNvSpPr/>
              <p:nvPr/>
            </p:nvSpPr>
            <p:spPr>
              <a:xfrm>
                <a:off x="611280" y="27432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23"/>
              <p:cNvSpPr/>
              <p:nvPr/>
            </p:nvSpPr>
            <p:spPr>
              <a:xfrm>
                <a:off x="611280" y="3124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26"/>
              <p:cNvSpPr/>
              <p:nvPr/>
            </p:nvSpPr>
            <p:spPr>
              <a:xfrm>
                <a:off x="611280" y="38862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 Box 27"/>
              <p:cNvSpPr/>
              <p:nvPr/>
            </p:nvSpPr>
            <p:spPr>
              <a:xfrm>
                <a:off x="611280" y="35053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28"/>
              <p:cNvSpPr/>
              <p:nvPr/>
            </p:nvSpPr>
            <p:spPr>
              <a:xfrm>
                <a:off x="611280" y="4267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29"/>
              <p:cNvSpPr/>
              <p:nvPr/>
            </p:nvSpPr>
            <p:spPr>
              <a:xfrm>
                <a:off x="611280" y="46483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30"/>
              <p:cNvSpPr/>
              <p:nvPr/>
            </p:nvSpPr>
            <p:spPr>
              <a:xfrm>
                <a:off x="611280" y="502920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31"/>
              <p:cNvSpPr/>
              <p:nvPr/>
            </p:nvSpPr>
            <p:spPr>
              <a:xfrm>
                <a:off x="611280" y="5410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x0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93"/>
              <p:cNvSpPr/>
              <p:nvPr/>
            </p:nvSpPr>
            <p:spPr>
              <a:xfrm>
                <a:off x="1600200" y="3200400"/>
                <a:ext cx="1828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Group 96"/>
          <p:cNvGrpSpPr/>
          <p:nvPr/>
        </p:nvGrpSpPr>
        <p:grpSpPr>
          <a:xfrm>
            <a:off x="1600200" y="3124080"/>
            <a:ext cx="5976360" cy="459720"/>
            <a:chOff x="1600200" y="3124080"/>
            <a:chExt cx="5976360" cy="459720"/>
          </a:xfrm>
        </p:grpSpPr>
        <p:grpSp>
          <p:nvGrpSpPr>
            <p:cNvPr id="195" name="Group 72"/>
            <p:cNvGrpSpPr/>
            <p:nvPr/>
          </p:nvGrpSpPr>
          <p:grpSpPr>
            <a:xfrm>
              <a:off x="3505320" y="3124080"/>
              <a:ext cx="4071240" cy="459720"/>
              <a:chOff x="3505320" y="3124080"/>
              <a:chExt cx="4071240" cy="459720"/>
            </a:xfrm>
          </p:grpSpPr>
          <p:sp>
            <p:nvSpPr>
              <p:cNvPr id="196" name="AutoShape 61"/>
              <p:cNvSpPr/>
              <p:nvPr/>
            </p:nvSpPr>
            <p:spPr>
              <a:xfrm>
                <a:off x="3505320" y="3235320"/>
                <a:ext cx="457200" cy="304920"/>
              </a:xfrm>
              <a:prstGeom prst="leftArrow">
                <a:avLst>
                  <a:gd name="adj1" fmla="val 50000"/>
                  <a:gd name="adj2" fmla="val 3748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62"/>
              <p:cNvSpPr/>
              <p:nvPr/>
            </p:nvSpPr>
            <p:spPr>
              <a:xfrm>
                <a:off x="4021560" y="3124080"/>
                <a:ext cx="355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byte is made up of 8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i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92"/>
            <p:cNvGrpSpPr/>
            <p:nvPr/>
          </p:nvGrpSpPr>
          <p:grpSpPr>
            <a:xfrm>
              <a:off x="1600200" y="3200400"/>
              <a:ext cx="1828800" cy="380880"/>
              <a:chOff x="1600200" y="3200400"/>
              <a:chExt cx="1828800" cy="380880"/>
            </a:xfrm>
          </p:grpSpPr>
          <p:sp>
            <p:nvSpPr>
              <p:cNvPr id="199" name="Rectangle 76"/>
              <p:cNvSpPr/>
              <p:nvPr/>
            </p:nvSpPr>
            <p:spPr>
              <a:xfrm>
                <a:off x="16002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77"/>
              <p:cNvSpPr/>
              <p:nvPr/>
            </p:nvSpPr>
            <p:spPr>
              <a:xfrm>
                <a:off x="18288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78"/>
              <p:cNvSpPr/>
              <p:nvPr/>
            </p:nvSpPr>
            <p:spPr>
              <a:xfrm>
                <a:off x="20574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79"/>
              <p:cNvSpPr/>
              <p:nvPr/>
            </p:nvSpPr>
            <p:spPr>
              <a:xfrm>
                <a:off x="22860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80"/>
              <p:cNvSpPr/>
              <p:nvPr/>
            </p:nvSpPr>
            <p:spPr>
              <a:xfrm>
                <a:off x="25146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81"/>
              <p:cNvSpPr/>
              <p:nvPr/>
            </p:nvSpPr>
            <p:spPr>
              <a:xfrm>
                <a:off x="27432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82"/>
              <p:cNvSpPr/>
              <p:nvPr/>
            </p:nvSpPr>
            <p:spPr>
              <a:xfrm>
                <a:off x="29718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83"/>
              <p:cNvSpPr/>
              <p:nvPr/>
            </p:nvSpPr>
            <p:spPr>
              <a:xfrm>
                <a:off x="3200400" y="3200400"/>
                <a:ext cx="2286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59F08F46-415C-44E8-8060-1C7625ACA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torage devices are capable of storing information for longer periods of tim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n-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econdary Storage de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18360" y="3657600"/>
            <a:ext cx="28353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ppy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RW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043160" y="3657600"/>
            <a:ext cx="37040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D RAM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Flash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C5B23E02-27ED-418A-B647-08D36FDA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any data the computer collects from the outsid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data comes from devices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put de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A8EE860-E21D-4EBC-8334-A9249004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is any data the computer sends to the outsid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data is displayed on device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output de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vices such as disk drives perform input and output and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/O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put/outp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4FF687F-1759-4D88-B069-86FCA4D2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refers to the programs that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classifications of 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BAE039F4-63E2-4FA8-A95F-8A366920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 discusses the following main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s: Hardware an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Program Made O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C4F8C690-C15D-45C1-B9B5-C0A46661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erating system has two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the system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user with a means of interaction with the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can be either single tasking or multi-tas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545ABCED-16C2-424C-82FF-8B4D2392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tasking operating system is capable of running only one program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ultitasking operating system is capable of running multiple programs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45620DB-F4B3-4EA1-8A37-F93402A4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 can also be categorized as single user or multi-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user operating system allows only one user to operate the computer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user systems allow several users to run programs and operate the computer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CAE35078-A7BE-4B7A-AEBB-D76888F3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Us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80880" y="1498680"/>
            <a:ext cx="3048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/98/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152280" y="4495680"/>
            <a:ext cx="8763120" cy="1711440"/>
            <a:chOff x="152280" y="4495680"/>
            <a:chExt cx="8763120" cy="1711440"/>
          </a:xfrm>
        </p:grpSpPr>
        <p:pic>
          <p:nvPicPr>
            <p:cNvPr id="234" name="Picture 19" descr="computers"/>
            <p:cNvPicPr/>
            <p:nvPr/>
          </p:nvPicPr>
          <p:blipFill>
            <a:blip r:embed="rId1"/>
            <a:stretch/>
          </p:blipFill>
          <p:spPr>
            <a:xfrm>
              <a:off x="1522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0" descr="computers"/>
            <p:cNvPicPr/>
            <p:nvPr/>
          </p:nvPicPr>
          <p:blipFill>
            <a:blip r:embed="rId2"/>
            <a:stretch/>
          </p:blipFill>
          <p:spPr>
            <a:xfrm>
              <a:off x="457200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1" descr="computers"/>
            <p:cNvPicPr/>
            <p:nvPr/>
          </p:nvPicPr>
          <p:blipFill>
            <a:blip r:embed="rId3"/>
            <a:stretch/>
          </p:blipFill>
          <p:spPr>
            <a:xfrm>
              <a:off x="2362320" y="4495680"/>
              <a:ext cx="213336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2" descr="computers"/>
            <p:cNvPicPr/>
            <p:nvPr/>
          </p:nvPicPr>
          <p:blipFill>
            <a:blip r:embed="rId4"/>
            <a:stretch/>
          </p:blipFill>
          <p:spPr>
            <a:xfrm>
              <a:off x="67816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F48B152-0944-4624-AD15-99189B77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Us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80880" y="1498680"/>
            <a:ext cx="3276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/2000/XP/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/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18"/>
          <p:cNvGrpSpPr/>
          <p:nvPr/>
        </p:nvGrpSpPr>
        <p:grpSpPr>
          <a:xfrm>
            <a:off x="152280" y="4495680"/>
            <a:ext cx="8763120" cy="1711440"/>
            <a:chOff x="152280" y="4495680"/>
            <a:chExt cx="8763120" cy="1711440"/>
          </a:xfrm>
        </p:grpSpPr>
        <p:pic>
          <p:nvPicPr>
            <p:cNvPr id="242" name="Picture 3" descr="computers"/>
            <p:cNvPicPr/>
            <p:nvPr/>
          </p:nvPicPr>
          <p:blipFill>
            <a:blip r:embed="rId1"/>
            <a:stretch/>
          </p:blipFill>
          <p:spPr>
            <a:xfrm>
              <a:off x="1522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computers"/>
            <p:cNvPicPr/>
            <p:nvPr/>
          </p:nvPicPr>
          <p:blipFill>
            <a:blip r:embed="rId2"/>
            <a:stretch/>
          </p:blipFill>
          <p:spPr>
            <a:xfrm>
              <a:off x="457200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8" descr="computers"/>
            <p:cNvPicPr/>
            <p:nvPr/>
          </p:nvPicPr>
          <p:blipFill>
            <a:blip r:embed="rId3"/>
            <a:stretch/>
          </p:blipFill>
          <p:spPr>
            <a:xfrm>
              <a:off x="2362320" y="4495680"/>
              <a:ext cx="213336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9" descr="computers"/>
            <p:cNvPicPr/>
            <p:nvPr/>
          </p:nvPicPr>
          <p:blipFill>
            <a:blip r:embed="rId4"/>
            <a:stretch/>
          </p:blipFill>
          <p:spPr>
            <a:xfrm>
              <a:off x="6781680" y="4495680"/>
              <a:ext cx="2133720" cy="17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19"/>
          <p:cNvGrpSpPr/>
          <p:nvPr/>
        </p:nvGrpSpPr>
        <p:grpSpPr>
          <a:xfrm>
            <a:off x="1219320" y="1447920"/>
            <a:ext cx="6629400" cy="3047760"/>
            <a:chOff x="1219320" y="1447920"/>
            <a:chExt cx="6629400" cy="3047760"/>
          </a:xfrm>
        </p:grpSpPr>
        <p:graphicFrame>
          <p:nvGraphicFramePr>
            <p:cNvPr id="247" name="Object 10"/>
            <p:cNvGraphicFramePr/>
            <p:nvPr/>
          </p:nvGraphicFramePr>
          <p:xfrm>
            <a:off x="3962520" y="1447920"/>
            <a:ext cx="103320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8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62520" y="1447920"/>
                      <a:ext cx="103320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Line 11"/>
            <p:cNvSpPr/>
            <p:nvPr/>
          </p:nvSpPr>
          <p:spPr>
            <a:xfrm flipV="1">
              <a:off x="12193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>
              <a:off x="1219320" y="4038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3"/>
            <p:cNvSpPr/>
            <p:nvPr/>
          </p:nvSpPr>
          <p:spPr>
            <a:xfrm flipV="1">
              <a:off x="34290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4"/>
            <p:cNvSpPr/>
            <p:nvPr/>
          </p:nvSpPr>
          <p:spPr>
            <a:xfrm flipV="1">
              <a:off x="57150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 flipV="1">
              <a:off x="78487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 flipV="1">
              <a:off x="449568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2CC01B9-F5E0-4B68-83EC-31AE6FDAB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Softwa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softw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programs that make the computer useful to the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oftware provides a more specialized type of environment for the user to work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application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B790203A-89F5-4554-89ED-C6A87D10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is a set of instructions a computer follows in order to perform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ing language is a special language used to write computer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program is a set of instructions that enable the computer to solve a problem or perform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ely, these instructions form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1E443CB-9BD4-404A-AA62-79C0F06F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gorithm is a set of well defined steps to completing a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eps in an algorithm are performed sequenti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needs the algorithm to be writte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anguage is writte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nary numbering system (base 2) only has two digits (0 and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9DBB08B-09DE-4ACD-8848-3A820BD3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nary numbers are encoded as a machin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PU has its own machin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ola 68000 series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 x86 series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 Alpha processo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machine language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10100000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D1BD41C1-B6ED-43CC-AA4E-E888BE31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istant past, programmers wrote programs in machin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rs developed higher level programming languages to make thing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of these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er made things easier but was also processor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024210A-5D0D-4EC7-921D-BCF5F8C9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- Green Team started by Sun Micr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7 Handheld controller for multiple entertainment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a need for a programming language that would run on various de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(first named Oak) was developed for thi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4854F70-7566-4C9B-84D7-F901B629D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programming languages followed that were not processor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on programming langu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762120" y="342900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762120" y="403848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2971800" y="403848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2971800" y="342900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5410080" y="411480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762120" y="464832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5410080" y="541008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5410080" y="480060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3048120" y="533412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3048120" y="472428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5410080" y="342900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762120" y="5257800"/>
            <a:ext cx="1828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DFF628C-D36C-404A-BD2E-9D82C23B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angu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me concepts that are common to virtually all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ncep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-defined 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syntactic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CF44E2F-E0DE-4402-BA62-8BDC3EFA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5560" y="1895040"/>
            <a:ext cx="8213400" cy="35384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messag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Worl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messag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7BAA3FC-AFAF-488E-8CDB-A7C9546FA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s in the sample program a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s are lower case (Java is a case sensitive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s cannot be used as a programmer-defined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447920" y="2279520"/>
            <a:ext cx="2203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5151600" y="2305080"/>
            <a:ext cx="1936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88EF696B-801F-47E1-B117-EB4B51A8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colons are used to end Java statements; however, not all lines of a Java program end a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learning Java is to learn where to properly use the punc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653EDA0-17B8-4526-B518-8437E2DA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vs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ces between lines and statements when discussing source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ssag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one Java statement written using two lines.  Do you see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tement is a complete Java instruction that causes the computer to perform an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B730730-603C-4327-BABE-1FFC6442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a Java program is stored 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 represent a location 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in Java are sometimes called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created by the programmer who assigns it a programmer-defined identifi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ours = 40;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example,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reated as an integer (more on this later) and assigned the value of 4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DFAC953-3192-4044-8D0F-5183861C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11793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re simply a name given to represent a place in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29"/>
          <p:cNvGrpSpPr/>
          <p:nvPr/>
        </p:nvGrpSpPr>
        <p:grpSpPr>
          <a:xfrm>
            <a:off x="2516040" y="2743200"/>
            <a:ext cx="2970360" cy="3126600"/>
            <a:chOff x="2516040" y="2743200"/>
            <a:chExt cx="2970360" cy="3126600"/>
          </a:xfrm>
        </p:grpSpPr>
        <p:sp>
          <p:nvSpPr>
            <p:cNvPr id="309" name="Rectangle 30"/>
            <p:cNvSpPr/>
            <p:nvPr/>
          </p:nvSpPr>
          <p:spPr>
            <a:xfrm>
              <a:off x="3505320" y="28195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31"/>
            <p:cNvSpPr/>
            <p:nvPr/>
          </p:nvSpPr>
          <p:spPr>
            <a:xfrm>
              <a:off x="3505320" y="32004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3505320" y="35812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3505320" y="39625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4"/>
            <p:cNvSpPr/>
            <p:nvPr/>
          </p:nvSpPr>
          <p:spPr>
            <a:xfrm>
              <a:off x="3505320" y="43434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5"/>
            <p:cNvSpPr/>
            <p:nvPr/>
          </p:nvSpPr>
          <p:spPr>
            <a:xfrm>
              <a:off x="3505320" y="47242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6"/>
            <p:cNvSpPr/>
            <p:nvPr/>
          </p:nvSpPr>
          <p:spPr>
            <a:xfrm>
              <a:off x="3505320" y="51055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7"/>
            <p:cNvSpPr/>
            <p:nvPr/>
          </p:nvSpPr>
          <p:spPr>
            <a:xfrm>
              <a:off x="3505320" y="54864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516040" y="2743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39"/>
            <p:cNvSpPr/>
            <p:nvPr/>
          </p:nvSpPr>
          <p:spPr>
            <a:xfrm>
              <a:off x="2516040" y="3124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2516040" y="35053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41"/>
            <p:cNvSpPr/>
            <p:nvPr/>
          </p:nvSpPr>
          <p:spPr>
            <a:xfrm>
              <a:off x="2516040" y="3886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42"/>
            <p:cNvSpPr/>
            <p:nvPr/>
          </p:nvSpPr>
          <p:spPr>
            <a:xfrm>
              <a:off x="2516040" y="4267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3"/>
            <p:cNvSpPr/>
            <p:nvPr/>
          </p:nvSpPr>
          <p:spPr>
            <a:xfrm>
              <a:off x="2516040" y="46483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4"/>
            <p:cNvSpPr/>
            <p:nvPr/>
          </p:nvSpPr>
          <p:spPr>
            <a:xfrm>
              <a:off x="2516040" y="50292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5"/>
            <p:cNvSpPr/>
            <p:nvPr/>
          </p:nvSpPr>
          <p:spPr>
            <a:xfrm>
              <a:off x="2516040" y="5410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5505F2B-AE80-4084-BC66-A9CD66F3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2516040" y="2514600"/>
            <a:ext cx="2970360" cy="3126600"/>
            <a:chOff x="2516040" y="2514600"/>
            <a:chExt cx="2970360" cy="3126600"/>
          </a:xfrm>
        </p:grpSpPr>
        <p:sp>
          <p:nvSpPr>
            <p:cNvPr id="328" name="Rectangle 5"/>
            <p:cNvSpPr/>
            <p:nvPr/>
          </p:nvSpPr>
          <p:spPr>
            <a:xfrm>
              <a:off x="3505320" y="25909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6"/>
            <p:cNvSpPr/>
            <p:nvPr/>
          </p:nvSpPr>
          <p:spPr>
            <a:xfrm>
              <a:off x="3505320" y="29718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3505320" y="33526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8"/>
            <p:cNvSpPr/>
            <p:nvPr/>
          </p:nvSpPr>
          <p:spPr>
            <a:xfrm>
              <a:off x="3505320" y="37339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9"/>
            <p:cNvSpPr/>
            <p:nvPr/>
          </p:nvSpPr>
          <p:spPr>
            <a:xfrm>
              <a:off x="3505320" y="41148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3505320" y="4495680"/>
              <a:ext cx="19810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3505320" y="487692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2"/>
            <p:cNvSpPr/>
            <p:nvPr/>
          </p:nvSpPr>
          <p:spPr>
            <a:xfrm>
              <a:off x="3505320" y="5257800"/>
              <a:ext cx="19810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"/>
            <p:cNvSpPr/>
            <p:nvPr/>
          </p:nvSpPr>
          <p:spPr>
            <a:xfrm>
              <a:off x="2516040" y="2514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2516040" y="2895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5"/>
            <p:cNvSpPr/>
            <p:nvPr/>
          </p:nvSpPr>
          <p:spPr>
            <a:xfrm>
              <a:off x="2516040" y="32767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6"/>
            <p:cNvSpPr/>
            <p:nvPr/>
          </p:nvSpPr>
          <p:spPr>
            <a:xfrm>
              <a:off x="2516040" y="3657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7"/>
            <p:cNvSpPr/>
            <p:nvPr/>
          </p:nvSpPr>
          <p:spPr>
            <a:xfrm>
              <a:off x="2516040" y="4038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2516040" y="44197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9"/>
            <p:cNvSpPr/>
            <p:nvPr/>
          </p:nvSpPr>
          <p:spPr>
            <a:xfrm>
              <a:off x="2516040" y="48006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2516040" y="5181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x00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21"/>
          <p:cNvSpPr/>
          <p:nvPr/>
        </p:nvSpPr>
        <p:spPr>
          <a:xfrm>
            <a:off x="136800" y="2860560"/>
            <a:ext cx="221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Jav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chine (JV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ually de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here th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ll be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2"/>
          <p:cNvGrpSpPr/>
          <p:nvPr/>
        </p:nvGrpSpPr>
        <p:grpSpPr>
          <a:xfrm>
            <a:off x="4192560" y="1905120"/>
            <a:ext cx="4936320" cy="3523320"/>
            <a:chOff x="4192560" y="1905120"/>
            <a:chExt cx="4936320" cy="3523320"/>
          </a:xfrm>
        </p:grpSpPr>
        <p:sp>
          <p:nvSpPr>
            <p:cNvPr id="346" name="Text Box 23"/>
            <p:cNvSpPr/>
            <p:nvPr/>
          </p:nvSpPr>
          <p:spPr>
            <a:xfrm>
              <a:off x="4192560" y="36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4"/>
            <p:cNvSpPr/>
            <p:nvPr/>
          </p:nvSpPr>
          <p:spPr>
            <a:xfrm>
              <a:off x="6022080" y="1905120"/>
              <a:ext cx="31068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ume that the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able decla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s been mad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urier New"/>
                </a:rPr>
                <a:t>int length = 7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25"/>
            <p:cNvSpPr/>
            <p:nvPr/>
          </p:nvSpPr>
          <p:spPr>
            <a:xfrm>
              <a:off x="6018120" y="4114800"/>
              <a:ext cx="230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variable 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s a symbolic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 the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cation 0x00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 flipH="1">
              <a:off x="5105160" y="39132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 flipV="1">
              <a:off x="7162920" y="3379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380E3F0-BDDE-4363-827B-5FD2F36B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er writes Java programming statements for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atements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 edi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to edit and save a Jav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rce cod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files hav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il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translates source code into an executable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800EB7B2-3333-49DB-96DA-EE10238A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enabled web brows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t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monstrated at 1995 Sun World co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corporated into Netscape shortly af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“cross platform”, meaning that it can run on various computer operat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5198E38-2387-4DF2-858B-7542C2E7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iler is run using a source code file as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errors that may be in the program will be discovered during compi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tax erro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istakes that the programmer has made that violate the rules of the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 creates another file that holds the translated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1A05BD8-D9D2-49CC-B32C-87961346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pilers translate source code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ecu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s cont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 translates a Java source file into a file that contai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te c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code instructions are the machine languag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ava Virtual Machine (JV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annot be directly executed directly by the CP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D9022BFC-D072-4D11-B2C8-218A3580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iler and the Java Virtual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code files end 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is a program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u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icro-pro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VM executes instructions as they are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VM is often called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often referred to a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preted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5FD6800E-0818-4267-AC76-72544537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velopm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609480" y="1447920"/>
            <a:ext cx="2438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4"/>
          <p:cNvGrpSpPr/>
          <p:nvPr/>
        </p:nvGrpSpPr>
        <p:grpSpPr>
          <a:xfrm>
            <a:off x="3124080" y="1447920"/>
            <a:ext cx="5257800" cy="1295280"/>
            <a:chOff x="3124080" y="1447920"/>
            <a:chExt cx="5257800" cy="1295280"/>
          </a:xfrm>
        </p:grpSpPr>
        <p:sp>
          <p:nvSpPr>
            <p:cNvPr id="367" name="Rectangle 5"/>
            <p:cNvSpPr/>
            <p:nvPr/>
          </p:nvSpPr>
          <p:spPr>
            <a:xfrm>
              <a:off x="6705360" y="1447920"/>
              <a:ext cx="1676520" cy="12952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jav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Group 6"/>
            <p:cNvGrpSpPr/>
            <p:nvPr/>
          </p:nvGrpSpPr>
          <p:grpSpPr>
            <a:xfrm>
              <a:off x="3124080" y="1523880"/>
              <a:ext cx="3504960" cy="533520"/>
              <a:chOff x="3124080" y="1523880"/>
              <a:chExt cx="3504960" cy="533520"/>
            </a:xfrm>
          </p:grpSpPr>
          <p:sp>
            <p:nvSpPr>
              <p:cNvPr id="369" name="Line 7"/>
              <p:cNvSpPr/>
              <p:nvPr/>
            </p:nvSpPr>
            <p:spPr>
              <a:xfrm>
                <a:off x="3124080" y="2057400"/>
                <a:ext cx="350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Text Box 8"/>
              <p:cNvSpPr/>
              <p:nvPr/>
            </p:nvSpPr>
            <p:spPr>
              <a:xfrm>
                <a:off x="3427920" y="1523880"/>
                <a:ext cx="28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aves Java stateme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Group 9"/>
          <p:cNvGrpSpPr/>
          <p:nvPr/>
        </p:nvGrpSpPr>
        <p:grpSpPr>
          <a:xfrm>
            <a:off x="609480" y="2277720"/>
            <a:ext cx="6095520" cy="1989360"/>
            <a:chOff x="609480" y="2277720"/>
            <a:chExt cx="6095520" cy="1989360"/>
          </a:xfrm>
        </p:grpSpPr>
        <p:sp>
          <p:nvSpPr>
            <p:cNvPr id="372" name="Oval 10"/>
            <p:cNvSpPr/>
            <p:nvPr/>
          </p:nvSpPr>
          <p:spPr>
            <a:xfrm>
              <a:off x="609480" y="3124080"/>
              <a:ext cx="243828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 compi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Group 11"/>
            <p:cNvGrpSpPr/>
            <p:nvPr/>
          </p:nvGrpSpPr>
          <p:grpSpPr>
            <a:xfrm>
              <a:off x="2895120" y="2277720"/>
              <a:ext cx="3809880" cy="1074960"/>
              <a:chOff x="2895120" y="2277720"/>
              <a:chExt cx="3809880" cy="1074960"/>
            </a:xfrm>
          </p:grpSpPr>
          <p:sp>
            <p:nvSpPr>
              <p:cNvPr id="374" name="Line 12"/>
              <p:cNvSpPr/>
              <p:nvPr/>
            </p:nvSpPr>
            <p:spPr>
              <a:xfrm flipH="1">
                <a:off x="2895120" y="2286000"/>
                <a:ext cx="38098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3"/>
              <p:cNvSpPr/>
              <p:nvPr/>
            </p:nvSpPr>
            <p:spPr>
              <a:xfrm rot="20758200">
                <a:off x="3505680" y="2438280"/>
                <a:ext cx="138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read b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Group 14"/>
          <p:cNvGrpSpPr/>
          <p:nvPr/>
        </p:nvGrpSpPr>
        <p:grpSpPr>
          <a:xfrm>
            <a:off x="3048120" y="2971800"/>
            <a:ext cx="5333400" cy="1295280"/>
            <a:chOff x="3048120" y="2971800"/>
            <a:chExt cx="5333400" cy="1295280"/>
          </a:xfrm>
        </p:grpSpPr>
        <p:sp>
          <p:nvSpPr>
            <p:cNvPr id="377" name="Rectangle 15"/>
            <p:cNvSpPr/>
            <p:nvPr/>
          </p:nvSpPr>
          <p:spPr>
            <a:xfrm>
              <a:off x="6705360" y="2971800"/>
              <a:ext cx="167616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cla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16"/>
            <p:cNvGrpSpPr/>
            <p:nvPr/>
          </p:nvGrpSpPr>
          <p:grpSpPr>
            <a:xfrm>
              <a:off x="3048120" y="3165480"/>
              <a:ext cx="3657240" cy="492120"/>
              <a:chOff x="3048120" y="3165480"/>
              <a:chExt cx="3657240" cy="492120"/>
            </a:xfrm>
          </p:grpSpPr>
          <p:sp>
            <p:nvSpPr>
              <p:cNvPr id="379" name="Line 17"/>
              <p:cNvSpPr/>
              <p:nvPr/>
            </p:nvSpPr>
            <p:spPr>
              <a:xfrm>
                <a:off x="3048120" y="365760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18"/>
              <p:cNvSpPr/>
              <p:nvPr/>
            </p:nvSpPr>
            <p:spPr>
              <a:xfrm>
                <a:off x="4328280" y="316548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Group 19"/>
          <p:cNvGrpSpPr/>
          <p:nvPr/>
        </p:nvGrpSpPr>
        <p:grpSpPr>
          <a:xfrm>
            <a:off x="609480" y="3856680"/>
            <a:ext cx="6095880" cy="2163240"/>
            <a:chOff x="609480" y="3856680"/>
            <a:chExt cx="6095880" cy="2163240"/>
          </a:xfrm>
        </p:grpSpPr>
        <p:sp>
          <p:nvSpPr>
            <p:cNvPr id="382" name="Oval 20"/>
            <p:cNvSpPr/>
            <p:nvPr/>
          </p:nvSpPr>
          <p:spPr>
            <a:xfrm>
              <a:off x="609480" y="4876920"/>
              <a:ext cx="243828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Group 21"/>
            <p:cNvGrpSpPr/>
            <p:nvPr/>
          </p:nvGrpSpPr>
          <p:grpSpPr>
            <a:xfrm>
              <a:off x="2971440" y="3856680"/>
              <a:ext cx="3733920" cy="1324800"/>
              <a:chOff x="2971440" y="3856680"/>
              <a:chExt cx="3733920" cy="1324800"/>
            </a:xfrm>
          </p:grpSpPr>
          <p:sp>
            <p:nvSpPr>
              <p:cNvPr id="384" name="Line 22"/>
              <p:cNvSpPr/>
              <p:nvPr/>
            </p:nvSpPr>
            <p:spPr>
              <a:xfrm flipH="1">
                <a:off x="2971440" y="4038480"/>
                <a:ext cx="37339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Text Box 23"/>
              <p:cNvSpPr/>
              <p:nvPr/>
            </p:nvSpPr>
            <p:spPr>
              <a:xfrm rot="20613000">
                <a:off x="3259440" y="4156200"/>
                <a:ext cx="21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interpreted b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Group 24"/>
          <p:cNvGrpSpPr/>
          <p:nvPr/>
        </p:nvGrpSpPr>
        <p:grpSpPr>
          <a:xfrm>
            <a:off x="3048120" y="4724280"/>
            <a:ext cx="5333400" cy="1295640"/>
            <a:chOff x="3048120" y="4724280"/>
            <a:chExt cx="5333400" cy="1295640"/>
          </a:xfrm>
        </p:grpSpPr>
        <p:sp>
          <p:nvSpPr>
            <p:cNvPr id="387" name="Rectangle 25"/>
            <p:cNvSpPr/>
            <p:nvPr/>
          </p:nvSpPr>
          <p:spPr>
            <a:xfrm>
              <a:off x="6705360" y="4724280"/>
              <a:ext cx="1676160" cy="129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26"/>
            <p:cNvGrpSpPr/>
            <p:nvPr/>
          </p:nvGrpSpPr>
          <p:grpSpPr>
            <a:xfrm>
              <a:off x="3048120" y="4952880"/>
              <a:ext cx="3657240" cy="533520"/>
              <a:chOff x="3048120" y="4952880"/>
              <a:chExt cx="3657240" cy="533520"/>
            </a:xfrm>
          </p:grpSpPr>
          <p:sp>
            <p:nvSpPr>
              <p:cNvPr id="389" name="Line 27"/>
              <p:cNvSpPr/>
              <p:nvPr/>
            </p:nvSpPr>
            <p:spPr>
              <a:xfrm>
                <a:off x="3048120" y="548640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Text Box 28"/>
              <p:cNvSpPr/>
              <p:nvPr/>
            </p:nvSpPr>
            <p:spPr>
              <a:xfrm>
                <a:off x="4267440" y="4952880"/>
                <a:ext cx="139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sults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7CAD9F3-CBC3-4AC2-AF3E-DC8B0A21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3177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that a program may be written on one type of computer and then run on a wide variety of computers, with little or no modif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byte code runs on the JVM and not on any particular CPU; therefore, compiled Java programs are highly por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VMs exist on many plat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344480" y="4805280"/>
            <a:ext cx="9072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905120" y="4800600"/>
            <a:ext cx="17524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CCCCBFC3-2416-4E9A-8160-0DA06029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most programming languages, portability is achieved by compiling a program for each CPU it will ru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vides an JVM for each platform so that programmers do not have to recompile for different plat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D54EA0C-0BD9-4BCB-B4F6-A4F4A541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685800" y="3352680"/>
            <a:ext cx="2438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3733920" y="1447920"/>
            <a:ext cx="16761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2133720" y="5029200"/>
            <a:ext cx="24382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30"/>
          <p:cNvSpPr/>
          <p:nvPr/>
        </p:nvSpPr>
        <p:spPr>
          <a:xfrm>
            <a:off x="4952880" y="5029200"/>
            <a:ext cx="2438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6095880" y="3352680"/>
            <a:ext cx="2438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for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2"/>
          <p:cNvSpPr/>
          <p:nvPr/>
        </p:nvSpPr>
        <p:spPr>
          <a:xfrm flipH="1">
            <a:off x="2743200" y="27432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33"/>
          <p:cNvSpPr/>
          <p:nvPr/>
        </p:nvSpPr>
        <p:spPr>
          <a:xfrm flipH="1">
            <a:off x="3352680" y="274320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4"/>
          <p:cNvSpPr/>
          <p:nvPr/>
        </p:nvSpPr>
        <p:spPr>
          <a:xfrm>
            <a:off x="4800600" y="27432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35"/>
          <p:cNvSpPr/>
          <p:nvPr/>
        </p:nvSpPr>
        <p:spPr>
          <a:xfrm>
            <a:off x="5410080" y="274320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FBDA58A-1AFF-42BE-AFF4-54E2F480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ftware you use to write Java programs is called the Java Development Kit, or JD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different editions of the JD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 - Java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E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EE - Java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erprise E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ME - Java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cro E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download at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java.sun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8CEF7B8-AA76-4246-899F-50197B1A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iling a Jav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t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and to compile a program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filename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c is the Java compi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e extension must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 compile a java source code file named Payroll.java you would use the comm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c Payroll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80D62220-F950-4A0C-B013-F1C89DAD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gramm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define what the program is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e the program running on the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esign tools to create a model of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model for logical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4AA79F69-1CB3-43BD-8D18-ED9E3B5F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Applications and App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s can be of two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-alone programs that run without the aid of a web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ed security model since the user runs the program lo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pplications that require the use of a Java enabled web browser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security model since the user merely goes to a web page and the applet run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B5D5FF7B-0992-4FB2-8215-3089F350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gramm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the code and compil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any errors found during compi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peat Steps 5 and 6 as many times a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program with test data for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any runtime errors found while running the progr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peat Steps 5 through 8 as many times a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e the results of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A80280E-22FD-4F34-9175-87C8C76D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mpasses the whole process of crafting computer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s perform several tasks in the development of complex software pro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DABA18E-1925-4624-82D4-5CD623D5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s devel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pecif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s of screen outp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s representing the program components and the flow of dat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expected input and desired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C9CF806-48FF-4264-BC1E-462D70E2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s also use special software designed for testing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software applications are large and compl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 team of programmers, not a single individual, develops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requirements are thoroughly analyzed and divided into subtasks that are handl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within a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E0E2B8A-0AA8-4DC7-869F-D9D23C51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programming languages were proced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et of programming language statements that, together, perform a specific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typically operate on data items that are separate from the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rocedural program, the data items are commonly passed from one procedur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6289DBE7-4395-45F4-B369-47BEB4C9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38080" y="3124080"/>
            <a:ext cx="25146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1905120" y="1371600"/>
            <a:ext cx="3809880" cy="1752480"/>
            <a:chOff x="1905120" y="1371600"/>
            <a:chExt cx="3809880" cy="1752480"/>
          </a:xfrm>
        </p:grpSpPr>
        <p:sp>
          <p:nvSpPr>
            <p:cNvPr id="438" name="Oval 6"/>
            <p:cNvSpPr/>
            <p:nvPr/>
          </p:nvSpPr>
          <p:spPr>
            <a:xfrm>
              <a:off x="3200400" y="1371600"/>
              <a:ext cx="2514600" cy="160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E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utoShape 12"/>
            <p:cNvSpPr/>
            <p:nvPr/>
          </p:nvSpPr>
          <p:spPr>
            <a:xfrm>
              <a:off x="1905120" y="1828800"/>
              <a:ext cx="1295280" cy="1295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5562720" y="1981080"/>
            <a:ext cx="2514600" cy="3124440"/>
            <a:chOff x="5562720" y="1981080"/>
            <a:chExt cx="2514600" cy="3124440"/>
          </a:xfrm>
        </p:grpSpPr>
        <p:sp>
          <p:nvSpPr>
            <p:cNvPr id="441" name="Rectangle 5"/>
            <p:cNvSpPr/>
            <p:nvPr/>
          </p:nvSpPr>
          <p:spPr>
            <a:xfrm>
              <a:off x="5562720" y="3124080"/>
              <a:ext cx="251460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cedu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utoShape 16"/>
            <p:cNvSpPr/>
            <p:nvPr/>
          </p:nvSpPr>
          <p:spPr>
            <a:xfrm rot="5400000">
              <a:off x="5905440" y="1866600"/>
              <a:ext cx="1143000" cy="1371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68E39B8-7395-4338-97FD-DF2A1744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ocedural programming, procedures are developed to operate on the program’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the program tends to be global to the entir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ormats might change and thus, the procedures that operate on that data must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E26EEC9-13E1-4D7D-9818-075D89A6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-oriented programming is centered on creating objects rather than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re a melding of data and procedures that manipulate tha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in an object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0987F042-CC75-4E3A-ABA4-BDB9133A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87"/>
          <p:cNvGrpSpPr/>
          <p:nvPr/>
        </p:nvGrpSpPr>
        <p:grpSpPr>
          <a:xfrm>
            <a:off x="3124080" y="1295280"/>
            <a:ext cx="2819160" cy="4876920"/>
            <a:chOff x="3124080" y="1295280"/>
            <a:chExt cx="2819160" cy="4876920"/>
          </a:xfrm>
        </p:grpSpPr>
        <p:sp>
          <p:nvSpPr>
            <p:cNvPr id="452" name="Rectangle 5"/>
            <p:cNvSpPr/>
            <p:nvPr/>
          </p:nvSpPr>
          <p:spPr>
            <a:xfrm>
              <a:off x="3124080" y="1295280"/>
              <a:ext cx="28191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124080" y="1828800"/>
              <a:ext cx="28191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tributes (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9"/>
            <p:cNvSpPr/>
            <p:nvPr/>
          </p:nvSpPr>
          <p:spPr>
            <a:xfrm>
              <a:off x="3124080" y="2286000"/>
              <a:ext cx="281916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behaviors / procedu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Group 83"/>
            <p:cNvGrpSpPr/>
            <p:nvPr/>
          </p:nvGrpSpPr>
          <p:grpSpPr>
            <a:xfrm>
              <a:off x="3656880" y="3352680"/>
              <a:ext cx="1820520" cy="2056320"/>
              <a:chOff x="3656880" y="3352680"/>
              <a:chExt cx="1820520" cy="2056320"/>
            </a:xfrm>
          </p:grpSpPr>
          <p:grpSp>
            <p:nvGrpSpPr>
              <p:cNvPr id="456" name="Group 22"/>
              <p:cNvGrpSpPr/>
              <p:nvPr/>
            </p:nvGrpSpPr>
            <p:grpSpPr>
              <a:xfrm>
                <a:off x="3656880" y="3352680"/>
                <a:ext cx="449280" cy="560160"/>
                <a:chOff x="3656880" y="3352680"/>
                <a:chExt cx="449280" cy="560160"/>
              </a:xfrm>
            </p:grpSpPr>
            <p:sp>
              <p:nvSpPr>
                <p:cNvPr id="457" name="AutoShape 12"/>
                <p:cNvSpPr/>
                <p:nvPr/>
              </p:nvSpPr>
              <p:spPr>
                <a:xfrm>
                  <a:off x="365724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AutoShape 13"/>
                <p:cNvSpPr/>
                <p:nvPr/>
              </p:nvSpPr>
              <p:spPr>
                <a:xfrm flipH="1" flipV="1">
                  <a:off x="365652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53"/>
              <p:cNvGrpSpPr/>
              <p:nvPr/>
            </p:nvGrpSpPr>
            <p:grpSpPr>
              <a:xfrm>
                <a:off x="4342320" y="3352680"/>
                <a:ext cx="449280" cy="560160"/>
                <a:chOff x="4342320" y="3352680"/>
                <a:chExt cx="449280" cy="560160"/>
              </a:xfrm>
            </p:grpSpPr>
            <p:sp>
              <p:nvSpPr>
                <p:cNvPr id="460" name="AutoShape 54"/>
                <p:cNvSpPr/>
                <p:nvPr/>
              </p:nvSpPr>
              <p:spPr>
                <a:xfrm>
                  <a:off x="434268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55"/>
                <p:cNvSpPr/>
                <p:nvPr/>
              </p:nvSpPr>
              <p:spPr>
                <a:xfrm flipH="1" flipV="1">
                  <a:off x="434196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56"/>
              <p:cNvGrpSpPr/>
              <p:nvPr/>
            </p:nvGrpSpPr>
            <p:grpSpPr>
              <a:xfrm>
                <a:off x="5028840" y="3352680"/>
                <a:ext cx="448560" cy="560160"/>
                <a:chOff x="5028840" y="3352680"/>
                <a:chExt cx="448560" cy="560160"/>
              </a:xfrm>
            </p:grpSpPr>
            <p:sp>
              <p:nvSpPr>
                <p:cNvPr id="463" name="AutoShape 57"/>
                <p:cNvSpPr/>
                <p:nvPr/>
              </p:nvSpPr>
              <p:spPr>
                <a:xfrm>
                  <a:off x="5028840" y="335268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58"/>
                <p:cNvSpPr/>
                <p:nvPr/>
              </p:nvSpPr>
              <p:spPr>
                <a:xfrm flipH="1" flipV="1">
                  <a:off x="5028840" y="346428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62"/>
              <p:cNvGrpSpPr/>
              <p:nvPr/>
            </p:nvGrpSpPr>
            <p:grpSpPr>
              <a:xfrm>
                <a:off x="5028840" y="4848840"/>
                <a:ext cx="448560" cy="560160"/>
                <a:chOff x="5028840" y="4848840"/>
                <a:chExt cx="448560" cy="560160"/>
              </a:xfrm>
            </p:grpSpPr>
            <p:sp>
              <p:nvSpPr>
                <p:cNvPr id="466" name="AutoShape 63"/>
                <p:cNvSpPr/>
                <p:nvPr/>
              </p:nvSpPr>
              <p:spPr>
                <a:xfrm>
                  <a:off x="5028840" y="484884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64"/>
                <p:cNvSpPr/>
                <p:nvPr/>
              </p:nvSpPr>
              <p:spPr>
                <a:xfrm flipH="1" flipV="1">
                  <a:off x="5028840" y="496044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Group 65"/>
              <p:cNvGrpSpPr/>
              <p:nvPr/>
            </p:nvGrpSpPr>
            <p:grpSpPr>
              <a:xfrm>
                <a:off x="3656880" y="4100760"/>
                <a:ext cx="449280" cy="560160"/>
                <a:chOff x="3656880" y="4100760"/>
                <a:chExt cx="449280" cy="560160"/>
              </a:xfrm>
            </p:grpSpPr>
            <p:sp>
              <p:nvSpPr>
                <p:cNvPr id="469" name="AutoShape 66"/>
                <p:cNvSpPr/>
                <p:nvPr/>
              </p:nvSpPr>
              <p:spPr>
                <a:xfrm>
                  <a:off x="365724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AutoShape 67"/>
                <p:cNvSpPr/>
                <p:nvPr/>
              </p:nvSpPr>
              <p:spPr>
                <a:xfrm flipH="1" flipV="1">
                  <a:off x="365652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Group 68"/>
              <p:cNvGrpSpPr/>
              <p:nvPr/>
            </p:nvGrpSpPr>
            <p:grpSpPr>
              <a:xfrm>
                <a:off x="4342320" y="4100760"/>
                <a:ext cx="449280" cy="560160"/>
                <a:chOff x="4342320" y="4100760"/>
                <a:chExt cx="449280" cy="560160"/>
              </a:xfrm>
            </p:grpSpPr>
            <p:sp>
              <p:nvSpPr>
                <p:cNvPr id="472" name="AutoShape 69"/>
                <p:cNvSpPr/>
                <p:nvPr/>
              </p:nvSpPr>
              <p:spPr>
                <a:xfrm>
                  <a:off x="434268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AutoShape 70"/>
                <p:cNvSpPr/>
                <p:nvPr/>
              </p:nvSpPr>
              <p:spPr>
                <a:xfrm flipH="1" flipV="1">
                  <a:off x="434196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Group 71"/>
              <p:cNvGrpSpPr/>
              <p:nvPr/>
            </p:nvGrpSpPr>
            <p:grpSpPr>
              <a:xfrm>
                <a:off x="5028840" y="4100760"/>
                <a:ext cx="448560" cy="560160"/>
                <a:chOff x="5028840" y="4100760"/>
                <a:chExt cx="448560" cy="560160"/>
              </a:xfrm>
            </p:grpSpPr>
            <p:sp>
              <p:nvSpPr>
                <p:cNvPr id="475" name="AutoShape 72"/>
                <p:cNvSpPr/>
                <p:nvPr/>
              </p:nvSpPr>
              <p:spPr>
                <a:xfrm>
                  <a:off x="5028840" y="410076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utoShape 73"/>
                <p:cNvSpPr/>
                <p:nvPr/>
              </p:nvSpPr>
              <p:spPr>
                <a:xfrm flipH="1" flipV="1">
                  <a:off x="5028840" y="421236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Group 74"/>
              <p:cNvGrpSpPr/>
              <p:nvPr/>
            </p:nvGrpSpPr>
            <p:grpSpPr>
              <a:xfrm>
                <a:off x="3656880" y="4848840"/>
                <a:ext cx="449280" cy="560160"/>
                <a:chOff x="3656880" y="4848840"/>
                <a:chExt cx="449280" cy="560160"/>
              </a:xfrm>
            </p:grpSpPr>
            <p:sp>
              <p:nvSpPr>
                <p:cNvPr id="478" name="AutoShape 75"/>
                <p:cNvSpPr/>
                <p:nvPr/>
              </p:nvSpPr>
              <p:spPr>
                <a:xfrm>
                  <a:off x="365724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AutoShape 76"/>
                <p:cNvSpPr/>
                <p:nvPr/>
              </p:nvSpPr>
              <p:spPr>
                <a:xfrm flipH="1" flipV="1">
                  <a:off x="365652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Group 77"/>
              <p:cNvGrpSpPr/>
              <p:nvPr/>
            </p:nvGrpSpPr>
            <p:grpSpPr>
              <a:xfrm>
                <a:off x="4342320" y="4848840"/>
                <a:ext cx="449280" cy="560160"/>
                <a:chOff x="4342320" y="4848840"/>
                <a:chExt cx="449280" cy="560160"/>
              </a:xfrm>
            </p:grpSpPr>
            <p:sp>
              <p:nvSpPr>
                <p:cNvPr id="481" name="AutoShape 78"/>
                <p:cNvSpPr/>
                <p:nvPr/>
              </p:nvSpPr>
              <p:spPr>
                <a:xfrm>
                  <a:off x="434268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AutoShape 79"/>
                <p:cNvSpPr/>
                <p:nvPr/>
              </p:nvSpPr>
              <p:spPr>
                <a:xfrm flipH="1" flipV="1">
                  <a:off x="434196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3" name="Line 84"/>
            <p:cNvSpPr/>
            <p:nvPr/>
          </p:nvSpPr>
          <p:spPr>
            <a:xfrm flipV="1">
              <a:off x="38858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85"/>
            <p:cNvSpPr/>
            <p:nvPr/>
          </p:nvSpPr>
          <p:spPr>
            <a:xfrm flipV="1">
              <a:off x="45716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86"/>
            <p:cNvSpPr/>
            <p:nvPr/>
          </p:nvSpPr>
          <p:spPr>
            <a:xfrm flipV="1">
              <a:off x="5257440" y="2361600"/>
              <a:ext cx="0" cy="838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FB4A1AC8-437F-459D-89EA-57C7B088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combines data and behavior v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h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ability of an object to hide data from other objects in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n objects methods should be able to directly manipulate its attrib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bjects are allowed manipulate an object’s attributes via the object’s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direct access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gramming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53FDD79-111F-420F-91C8-B11855E4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are tools that can be programmed to perform many functions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are versatile because they can be program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Programmers implement programs that perform these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9000" y="2438280"/>
            <a:ext cx="3205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956120" y="2438280"/>
            <a:ext cx="1770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BF300C76-1409-4EAF-955A-7CC0E6E8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1"/>
          <p:cNvGrpSpPr/>
          <p:nvPr/>
        </p:nvGrpSpPr>
        <p:grpSpPr>
          <a:xfrm>
            <a:off x="3436920" y="1295280"/>
            <a:ext cx="2819520" cy="4876920"/>
            <a:chOff x="3436920" y="1295280"/>
            <a:chExt cx="2819520" cy="4876920"/>
          </a:xfrm>
        </p:grpSpPr>
        <p:sp>
          <p:nvSpPr>
            <p:cNvPr id="492" name="Rectangle 4"/>
            <p:cNvSpPr/>
            <p:nvPr/>
          </p:nvSpPr>
          <p:spPr>
            <a:xfrm>
              <a:off x="3436920" y="1295280"/>
              <a:ext cx="28195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>
              <a:off x="3436920" y="1752480"/>
              <a:ext cx="28195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tributes (dat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ically private to this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>
              <a:off x="3436920" y="2286000"/>
              <a:ext cx="281952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hod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behaviors / procedu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7"/>
            <p:cNvGrpSpPr/>
            <p:nvPr/>
          </p:nvGrpSpPr>
          <p:grpSpPr>
            <a:xfrm>
              <a:off x="3970080" y="3352680"/>
              <a:ext cx="1820520" cy="2056320"/>
              <a:chOff x="3970080" y="3352680"/>
              <a:chExt cx="1820520" cy="2056320"/>
            </a:xfrm>
          </p:grpSpPr>
          <p:grpSp>
            <p:nvGrpSpPr>
              <p:cNvPr id="496" name="Group 8"/>
              <p:cNvGrpSpPr/>
              <p:nvPr/>
            </p:nvGrpSpPr>
            <p:grpSpPr>
              <a:xfrm>
                <a:off x="3970080" y="3352680"/>
                <a:ext cx="449280" cy="560160"/>
                <a:chOff x="3970080" y="3352680"/>
                <a:chExt cx="449280" cy="560160"/>
              </a:xfrm>
            </p:grpSpPr>
            <p:sp>
              <p:nvSpPr>
                <p:cNvPr id="497" name="AutoShape 9"/>
                <p:cNvSpPr/>
                <p:nvPr/>
              </p:nvSpPr>
              <p:spPr>
                <a:xfrm>
                  <a:off x="397044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AutoShape 10"/>
                <p:cNvSpPr/>
                <p:nvPr/>
              </p:nvSpPr>
              <p:spPr>
                <a:xfrm flipH="1" flipV="1">
                  <a:off x="396972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11"/>
              <p:cNvGrpSpPr/>
              <p:nvPr/>
            </p:nvGrpSpPr>
            <p:grpSpPr>
              <a:xfrm>
                <a:off x="4655520" y="3352680"/>
                <a:ext cx="449280" cy="560160"/>
                <a:chOff x="4655520" y="3352680"/>
                <a:chExt cx="449280" cy="560160"/>
              </a:xfrm>
            </p:grpSpPr>
            <p:sp>
              <p:nvSpPr>
                <p:cNvPr id="500" name="AutoShape 12"/>
                <p:cNvSpPr/>
                <p:nvPr/>
              </p:nvSpPr>
              <p:spPr>
                <a:xfrm>
                  <a:off x="4655880" y="335268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13"/>
                <p:cNvSpPr/>
                <p:nvPr/>
              </p:nvSpPr>
              <p:spPr>
                <a:xfrm flipH="1" flipV="1">
                  <a:off x="4655160" y="346428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Group 14"/>
              <p:cNvGrpSpPr/>
              <p:nvPr/>
            </p:nvGrpSpPr>
            <p:grpSpPr>
              <a:xfrm>
                <a:off x="5342040" y="3352680"/>
                <a:ext cx="448560" cy="560160"/>
                <a:chOff x="5342040" y="3352680"/>
                <a:chExt cx="448560" cy="560160"/>
              </a:xfrm>
            </p:grpSpPr>
            <p:sp>
              <p:nvSpPr>
                <p:cNvPr id="503" name="AutoShape 15"/>
                <p:cNvSpPr/>
                <p:nvPr/>
              </p:nvSpPr>
              <p:spPr>
                <a:xfrm>
                  <a:off x="5342040" y="335268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AutoShape 16"/>
                <p:cNvSpPr/>
                <p:nvPr/>
              </p:nvSpPr>
              <p:spPr>
                <a:xfrm flipH="1" flipV="1">
                  <a:off x="5342040" y="346428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17"/>
              <p:cNvGrpSpPr/>
              <p:nvPr/>
            </p:nvGrpSpPr>
            <p:grpSpPr>
              <a:xfrm>
                <a:off x="5342040" y="4848840"/>
                <a:ext cx="448560" cy="560160"/>
                <a:chOff x="5342040" y="4848840"/>
                <a:chExt cx="448560" cy="560160"/>
              </a:xfrm>
            </p:grpSpPr>
            <p:sp>
              <p:nvSpPr>
                <p:cNvPr id="506" name="AutoShape 18"/>
                <p:cNvSpPr/>
                <p:nvPr/>
              </p:nvSpPr>
              <p:spPr>
                <a:xfrm>
                  <a:off x="5342040" y="484884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AutoShape 19"/>
                <p:cNvSpPr/>
                <p:nvPr/>
              </p:nvSpPr>
              <p:spPr>
                <a:xfrm flipH="1" flipV="1">
                  <a:off x="5342040" y="496044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20"/>
              <p:cNvGrpSpPr/>
              <p:nvPr/>
            </p:nvGrpSpPr>
            <p:grpSpPr>
              <a:xfrm>
                <a:off x="3970080" y="4100760"/>
                <a:ext cx="449280" cy="560160"/>
                <a:chOff x="3970080" y="4100760"/>
                <a:chExt cx="449280" cy="560160"/>
              </a:xfrm>
            </p:grpSpPr>
            <p:sp>
              <p:nvSpPr>
                <p:cNvPr id="509" name="AutoShape 21"/>
                <p:cNvSpPr/>
                <p:nvPr/>
              </p:nvSpPr>
              <p:spPr>
                <a:xfrm>
                  <a:off x="397044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AutoShape 22"/>
                <p:cNvSpPr/>
                <p:nvPr/>
              </p:nvSpPr>
              <p:spPr>
                <a:xfrm flipH="1" flipV="1">
                  <a:off x="396972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23"/>
              <p:cNvGrpSpPr/>
              <p:nvPr/>
            </p:nvGrpSpPr>
            <p:grpSpPr>
              <a:xfrm>
                <a:off x="4655520" y="4100760"/>
                <a:ext cx="449280" cy="560160"/>
                <a:chOff x="4655520" y="4100760"/>
                <a:chExt cx="449280" cy="560160"/>
              </a:xfrm>
            </p:grpSpPr>
            <p:sp>
              <p:nvSpPr>
                <p:cNvPr id="512" name="AutoShape 24"/>
                <p:cNvSpPr/>
                <p:nvPr/>
              </p:nvSpPr>
              <p:spPr>
                <a:xfrm>
                  <a:off x="4655880" y="410076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AutoShape 25"/>
                <p:cNvSpPr/>
                <p:nvPr/>
              </p:nvSpPr>
              <p:spPr>
                <a:xfrm flipH="1" flipV="1">
                  <a:off x="4655160" y="421236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26"/>
              <p:cNvGrpSpPr/>
              <p:nvPr/>
            </p:nvGrpSpPr>
            <p:grpSpPr>
              <a:xfrm>
                <a:off x="5342040" y="4100760"/>
                <a:ext cx="448560" cy="560160"/>
                <a:chOff x="5342040" y="4100760"/>
                <a:chExt cx="448560" cy="560160"/>
              </a:xfrm>
            </p:grpSpPr>
            <p:sp>
              <p:nvSpPr>
                <p:cNvPr id="515" name="AutoShape 27"/>
                <p:cNvSpPr/>
                <p:nvPr/>
              </p:nvSpPr>
              <p:spPr>
                <a:xfrm>
                  <a:off x="5342040" y="4100760"/>
                  <a:ext cx="44856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AutoShape 28"/>
                <p:cNvSpPr/>
                <p:nvPr/>
              </p:nvSpPr>
              <p:spPr>
                <a:xfrm flipH="1" flipV="1">
                  <a:off x="5342040" y="4212360"/>
                  <a:ext cx="44856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29"/>
              <p:cNvGrpSpPr/>
              <p:nvPr/>
            </p:nvGrpSpPr>
            <p:grpSpPr>
              <a:xfrm>
                <a:off x="3970080" y="4848840"/>
                <a:ext cx="449280" cy="560160"/>
                <a:chOff x="3970080" y="4848840"/>
                <a:chExt cx="449280" cy="560160"/>
              </a:xfrm>
            </p:grpSpPr>
            <p:sp>
              <p:nvSpPr>
                <p:cNvPr id="518" name="AutoShape 30"/>
                <p:cNvSpPr/>
                <p:nvPr/>
              </p:nvSpPr>
              <p:spPr>
                <a:xfrm>
                  <a:off x="397044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AutoShape 31"/>
                <p:cNvSpPr/>
                <p:nvPr/>
              </p:nvSpPr>
              <p:spPr>
                <a:xfrm flipH="1" flipV="1">
                  <a:off x="396972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Group 32"/>
              <p:cNvGrpSpPr/>
              <p:nvPr/>
            </p:nvGrpSpPr>
            <p:grpSpPr>
              <a:xfrm>
                <a:off x="4655520" y="4848840"/>
                <a:ext cx="449280" cy="560160"/>
                <a:chOff x="4655520" y="4848840"/>
                <a:chExt cx="449280" cy="560160"/>
              </a:xfrm>
            </p:grpSpPr>
            <p:sp>
              <p:nvSpPr>
                <p:cNvPr id="521" name="AutoShape 33"/>
                <p:cNvSpPr/>
                <p:nvPr/>
              </p:nvSpPr>
              <p:spPr>
                <a:xfrm>
                  <a:off x="4655880" y="4848840"/>
                  <a:ext cx="448920" cy="44820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AutoShape 34"/>
                <p:cNvSpPr/>
                <p:nvPr/>
              </p:nvSpPr>
              <p:spPr>
                <a:xfrm flipH="1" flipV="1">
                  <a:off x="4655160" y="4960440"/>
                  <a:ext cx="448920" cy="448560"/>
                </a:xfrm>
                <a:prstGeom prst="pi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3" name="Line 35"/>
            <p:cNvSpPr/>
            <p:nvPr/>
          </p:nvSpPr>
          <p:spPr>
            <a:xfrm flipV="1">
              <a:off x="41990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6"/>
            <p:cNvSpPr/>
            <p:nvPr/>
          </p:nvSpPr>
          <p:spPr>
            <a:xfrm flipV="1">
              <a:off x="48848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37"/>
            <p:cNvSpPr/>
            <p:nvPr/>
          </p:nvSpPr>
          <p:spPr>
            <a:xfrm flipV="1">
              <a:off x="5570640" y="2362320"/>
              <a:ext cx="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50"/>
          <p:cNvGrpSpPr/>
          <p:nvPr/>
        </p:nvGrpSpPr>
        <p:grpSpPr>
          <a:xfrm>
            <a:off x="914400" y="1793880"/>
            <a:ext cx="2827080" cy="3540240"/>
            <a:chOff x="914400" y="1793880"/>
            <a:chExt cx="2827080" cy="3540240"/>
          </a:xfrm>
        </p:grpSpPr>
        <p:grpSp>
          <p:nvGrpSpPr>
            <p:cNvPr id="527" name="Group 42"/>
            <p:cNvGrpSpPr/>
            <p:nvPr/>
          </p:nvGrpSpPr>
          <p:grpSpPr>
            <a:xfrm>
              <a:off x="2903400" y="3581640"/>
              <a:ext cx="838080" cy="1523880"/>
              <a:chOff x="2903400" y="3581640"/>
              <a:chExt cx="838080" cy="1523880"/>
            </a:xfrm>
          </p:grpSpPr>
          <p:sp>
            <p:nvSpPr>
              <p:cNvPr id="528" name="Line 39"/>
              <p:cNvSpPr/>
              <p:nvPr/>
            </p:nvSpPr>
            <p:spPr>
              <a:xfrm flipH="1">
                <a:off x="2903400" y="5105520"/>
                <a:ext cx="8380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Line 40"/>
              <p:cNvSpPr/>
              <p:nvPr/>
            </p:nvSpPr>
            <p:spPr>
              <a:xfrm flipH="1">
                <a:off x="2903400" y="4343760"/>
                <a:ext cx="8380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Line 41"/>
              <p:cNvSpPr/>
              <p:nvPr/>
            </p:nvSpPr>
            <p:spPr>
              <a:xfrm flipH="1">
                <a:off x="2903400" y="3581640"/>
                <a:ext cx="83808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Rectangle 44"/>
            <p:cNvSpPr/>
            <p:nvPr/>
          </p:nvSpPr>
          <p:spPr>
            <a:xfrm>
              <a:off x="922320" y="3352680"/>
              <a:ext cx="182880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Group 48"/>
            <p:cNvGrpSpPr/>
            <p:nvPr/>
          </p:nvGrpSpPr>
          <p:grpSpPr>
            <a:xfrm>
              <a:off x="914400" y="1793880"/>
              <a:ext cx="2522520" cy="1482840"/>
              <a:chOff x="914400" y="1793880"/>
              <a:chExt cx="2522520" cy="1482840"/>
            </a:xfrm>
          </p:grpSpPr>
          <p:sp>
            <p:nvSpPr>
              <p:cNvPr id="533" name="Text Box 46"/>
              <p:cNvSpPr/>
              <p:nvPr/>
            </p:nvSpPr>
            <p:spPr>
              <a:xfrm>
                <a:off x="914400" y="1793880"/>
                <a:ext cx="186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 rot="5400000">
                <a:off x="2522520" y="2362320"/>
                <a:ext cx="990720" cy="8380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5A2B6081-5116-4FF4-99B0-73F0FE15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a computer program that must be desig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flow of the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hematica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out of the programming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earance of the scr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y information is presented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’s “user friendli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s, help systems, and/or other forms of written docu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7049C26-E0DC-41A8-B681-B92F4A69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must be analytically correct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rarely work the first time they are program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s must perform the following on a continual ba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s have strict rules,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must be carefully fo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239A003-8C46-48F4-B101-298C3DA8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ystems: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hardware components are the physical pieces of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885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hardware components of a computer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entral processing unit (C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85e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and Output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20:51:31Z</dcterms:created>
  <dc:creator>Tony Gaddis</dc:creator>
  <dc:description/>
  <cp:keywords/>
  <dc:language>en-US</dc:language>
  <cp:lastModifiedBy>usellst</cp:lastModifiedBy>
  <cp:lastPrinted>2009-04-22T19:24:48Z</cp:lastPrinted>
  <dcterms:modified xsi:type="dcterms:W3CDTF">2009-03-24T19:39:01Z</dcterms:modified>
  <cp:revision>90</cp:revision>
  <dc:subject>Introduction to Computers and Java</dc:subject>
  <dc:title>Chapter 1</dc:title>
</cp:coreProperties>
</file>