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9341-6890-4587-A83A-07E004445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13E0-9B8F-4AC1-8FEB-FD5F5315E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C30-0E7F-45ED-B02B-708FB955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FE87-0156-456E-927C-CC3533C85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F4FB-42B4-4260-9192-08D840F76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5D9E-7869-4493-88FB-14BC0AC81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1DBA-DF6B-454A-A075-5224D25C3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485B-B41A-45BA-BFB5-29F079C1D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D6C7-AD2F-4D13-9B43-9E3768A15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2D44-FFE0-43FF-AA4E-DAA6F232C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2A0C-0881-47FF-828A-F4BDD7370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6386-2E8F-4927-9B32-8CB4E599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502F-1BFA-4247-8BD4-1EB2CD522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8EF8-9236-464F-B75D-5449CF6F4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FDCB-09DF-43BE-9757-AE421070F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B345-EDD1-40EA-8798-E9D51AC71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0645-A3E8-4747-BA1D-40CB5EF9C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8437-FC9A-4EF4-AF54-9A481D988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7AE2-B7B6-4292-B985-DC65F4780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A13D-ADB7-4AE5-9B84-E1F37E1EC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EBA0-74FF-4B90-9CBA-A9C371607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DB46-BA6E-4842-A9F6-6FF23A213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F2E4-7FB8-4505-A0B0-3707C53AC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EB17-419F-4EB4-B125-B2C83FA0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699-15E3-4D60-A900-EEF75D3B3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EAC5-0129-49EE-B3EA-1ED136630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7098-1C4C-4DCA-9763-61852490C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ABD7-6B01-4696-87BB-D48550BCD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6942-3935-4764-A5D7-124CBFC7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8416-116E-4212-9268-34D60EE10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15F8-8B60-4AAF-8217-37581C5BB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1ECD-C151-401E-BCAE-02A3AC772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8BB4-86FC-466D-99F5-EE6771D74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54DC-0A1D-4D66-BE7E-4B17376D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086C-B35F-4117-AC04-2F797A73C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10C0-C91A-4D44-8B0A-87B3321E7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F341-002B-4A6B-AFC4-79DF96E37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9B8A-1C90-4A59-8712-3E5B16F8E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6ABB-6941-4CF2-84DA-71EA51C81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C807-1058-4184-BB61-5F2DBE335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1B8B-AAD2-4619-8773-AFBCD8703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EF7B-E130-4E06-A333-AC395B9CC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7EED-2FE6-4041-9DE3-8C02ECDE1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DB4E-39CC-4201-A7AB-561EEAD1B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DEE4-34CB-4DA9-86D3-871D8D2EA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45CC-9842-4043-AFBA-E74C65E75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A46F-7CB6-4FFD-B030-1DA77C324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DF94-200B-433D-B5E6-BF123985E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39A6-8675-4E33-9A14-2EDCEF692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18C5-1757-49FA-B9BE-B61A7D5A7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EC83-BE2C-4820-A5E1-0C82A39FD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36CB987-2309-4013-98D9-D85BC581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SuperClass1.java" TargetMode="External"/><Relationship Id="rId2" Type="http://schemas.openxmlformats.org/officeDocument/2006/relationships/hyperlink" Target="file:///SubClass1.java" TargetMode="External"/><Relationship Id="rId3" Type="http://schemas.openxmlformats.org/officeDocument/2006/relationships/hyperlink" Target="file:///ConstructorDemo1.java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uperClass2.java" TargetMode="External"/><Relationship Id="rId2" Type="http://schemas.openxmlformats.org/officeDocument/2006/relationships/hyperlink" Target="file:///SubClass2.java" TargetMode="External"/><Relationship Id="rId3" Type="http://schemas.openxmlformats.org/officeDocument/2006/relationships/hyperlink" Target="file:///ConstructorDemo2.java" TargetMode="External"/><Relationship Id="rId4" Type="http://schemas.openxmlformats.org/officeDocument/2006/relationships/hyperlink" Target="file:///Rectangle.java" TargetMode="External"/><Relationship Id="rId5" Type="http://schemas.openxmlformats.org/officeDocument/2006/relationships/hyperlink" Target="file:///Cube.java" TargetMode="External"/><Relationship Id="rId6" Type="http://schemas.openxmlformats.org/officeDocument/2006/relationships/hyperlink" Target="file:///CubeDemo.java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GradedActivity.java" TargetMode="External"/><Relationship Id="rId2" Type="http://schemas.openxmlformats.org/officeDocument/2006/relationships/hyperlink" Target="file:///CurvedActivity.java" TargetMode="External"/><Relationship Id="rId3" Type="http://schemas.openxmlformats.org/officeDocument/2006/relationships/hyperlink" Target="file:///CurvedActivityDemo.java" TargetMode="External"/><Relationship Id="rId4" Type="http://schemas.openxmlformats.org/officeDocument/2006/relationships/hyperlink" Target="file:///CurvedActivityDemo.jav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uperClass3.java" TargetMode="External"/><Relationship Id="rId2" Type="http://schemas.openxmlformats.org/officeDocument/2006/relationships/hyperlink" Target="file:///SubClass3.java" TargetMode="External"/><Relationship Id="rId3" Type="http://schemas.openxmlformats.org/officeDocument/2006/relationships/hyperlink" Target="file:///ShowValueDemo.java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GradedActivity.java" TargetMode="External"/><Relationship Id="rId2" Type="http://schemas.openxmlformats.org/officeDocument/2006/relationships/hyperlink" Target="file:///GradeDemo.java" TargetMode="External"/><Relationship Id="rId3" Type="http://schemas.openxmlformats.org/officeDocument/2006/relationships/hyperlink" Target="file:///FinalExam.java" TargetMode="External"/><Relationship Id="rId4" Type="http://schemas.openxmlformats.org/officeDocument/2006/relationships/hyperlink" Target="file:///FinalExamDemo.java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E2C6C210-A34F-402C-9DBA-75472815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,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instance of the subclass is created, the non-private methods of the superclass are available through the subclass objec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Exam exam = new FinalExa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exam.setScore(85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Score = "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+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exam.getScore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rivate methods and fields of the superclass are available in the subcla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Score(newSco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1EB13D0-D9D7-4E78-A48C-D652F1F6C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 and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re not inher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subclass is instantiated, the superclass default constructor is executed 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uperClass1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ubClass1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onstructorDemo1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BAD6D736-5423-4826-884E-BD38DD029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perclass’s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 refers to an object’s super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erclass constructor can be explicitly called from the subclass by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uperClass2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ubClass2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onstructorDemo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Rectangle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Cube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Cube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335D47DD-72B6-4D7E-AF43-92EBFD45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ing The Superclass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parameterized constructor is defined in the supercla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erclass must provide a no-arg constructor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es must provide a constructor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es must call a superclass constru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to a superclass constructor must be the first java statement in the subclass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DFCE0CB8-1D25-4418-AADC-152B532DF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class may have a method with the same signature as a superclas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class method overrides the superclas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overri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radedActivity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CurvedActivity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urvedActivityDemo.jav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74132DF3-1613-44A7-96B1-D1427E6E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838080" y="1523880"/>
            <a:ext cx="3124440" cy="1676520"/>
            <a:chOff x="838080" y="1523880"/>
            <a:chExt cx="3124440" cy="1676520"/>
          </a:xfrm>
        </p:grpSpPr>
        <p:sp>
          <p:nvSpPr>
            <p:cNvPr id="161" name="Rectangle 4"/>
            <p:cNvSpPr/>
            <p:nvPr/>
          </p:nvSpPr>
          <p:spPr>
            <a:xfrm>
              <a:off x="838080" y="1523880"/>
              <a:ext cx="3124440" cy="386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ded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838080" y="1910520"/>
              <a:ext cx="3124440" cy="45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score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838080" y="2362320"/>
              <a:ext cx="312444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setScore(s : double) : 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etScore()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etGrade() : ch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990720" y="3809880"/>
            <a:ext cx="2819160" cy="2514240"/>
            <a:chOff x="990720" y="3809880"/>
            <a:chExt cx="2819160" cy="2514240"/>
          </a:xfrm>
        </p:grpSpPr>
        <p:sp>
          <p:nvSpPr>
            <p:cNvPr id="165" name="Rectangle 8"/>
            <p:cNvSpPr/>
            <p:nvPr/>
          </p:nvSpPr>
          <p:spPr>
            <a:xfrm>
              <a:off x="990720" y="3809880"/>
              <a:ext cx="2819160" cy="43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ved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990720" y="4240800"/>
              <a:ext cx="2819160" cy="57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rawScore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percentage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990720" y="4815360"/>
              <a:ext cx="2819160" cy="150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Curved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percent : double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setScore(s : double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getRawScore() : dou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getPercentage() : dou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8" name="AutoShape 11"/>
          <p:cNvCxnSpPr>
            <a:stCxn id="165" idx="0"/>
            <a:endCxn id="163" idx="2"/>
          </p:cNvCxnSpPr>
          <p:nvPr/>
        </p:nvCxnSpPr>
        <p:spPr>
          <a:xfrm flipV="1">
            <a:off x="2400120" y="3199680"/>
            <a:ext cx="1080" cy="610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 Box 13"/>
          <p:cNvSpPr/>
          <p:nvPr/>
        </p:nvSpPr>
        <p:spPr>
          <a:xfrm>
            <a:off x="4762440" y="3375000"/>
            <a:ext cx="42069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method is a more specialized version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Sco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in the superclas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3885840" y="5715000"/>
            <a:ext cx="29718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58000" y="4419720"/>
            <a:ext cx="144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C8E175A-B835-4A6A-9C8A-314201A94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at a method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’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types method’s parameters in the order that they ap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class method that overrides a superclass method must have the same signature as the superclas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of the subclass invokes the subclass’s version of the method, not the superclass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C9157CB3-EADC-4354-8B1A-55C6B6C5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subclass method can call the overridden superclass method via the super keywor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.setScore(rawScore * percentage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distinction between overloading a method and overriding a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ing is when a method has the same name as one or more other methods, but with a different sig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method overrides another method, however, they both have the same sig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16780DA-DC7F-41E4-B76B-5116F3D6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riding Superclass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verloading and overriding can take place in an inheritanc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riding can only take place in an inheritanc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uperClass3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ubClass3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howValue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130262E-3BFE-4DAD-BA38-11EC146F1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enting a Method from Being Overri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ifier will prevent the  overriding of a superclass method in a subcla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final void message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subclass attempts to override a final method, the compiler generates an err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nsures that a particular superclass method is used by subclasses rather than a modified version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508A6C11-CA70-4FA0-B974-5ADF9F459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1 discusses the following main 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heri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ing the Superclas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iding Superclass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s of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Classes and Abstract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2F8609BB-729F-4A47-AE22-215C6F75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cted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ed members of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ccessed by methods in a subclas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ethods in the same package as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s a third access specificatio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’s access is somewher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dActivity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Exam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D78ECD99-BC3D-4803-A472-437F5CAB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cted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some tasks eas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any class that is derived from the class, or is in the same package, has unrestricted access to the protected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ways better to make all fiel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n prov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s for accessing thos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access specifier for a class member is provided, the class member is 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ckage ac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e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method in the same package may access the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6C14539-747F-4D94-A125-E07499C2F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863640"/>
          <a:ext cx="8001000" cy="249696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3124080"/>
              </a:tblGrid>
              <a:tr h="749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cess Mod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cessible to a subclass inside the same packa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cessible to all other classes inside the same packa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aul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no modifi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85800" y="3660840"/>
          <a:ext cx="8001000" cy="251928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3124080"/>
              </a:tblGrid>
              <a:tr h="77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cess Mod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cessible to a subclass outside the packa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cessible to all other classes outside the packa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aul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no modifi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35113B35-11FC-425C-83FA-6FCC1449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s of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1793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perclass can also be derived from anoth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572000" y="2209680"/>
            <a:ext cx="2362320" cy="3886200"/>
            <a:chOff x="4572000" y="2209680"/>
            <a:chExt cx="2362320" cy="3886200"/>
          </a:xfrm>
        </p:grpSpPr>
        <p:sp>
          <p:nvSpPr>
            <p:cNvPr id="198" name="Rectangle 4"/>
            <p:cNvSpPr/>
            <p:nvPr/>
          </p:nvSpPr>
          <p:spPr>
            <a:xfrm>
              <a:off x="4572000" y="2209680"/>
              <a:ext cx="23623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572000" y="4495680"/>
              <a:ext cx="23623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Fail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572000" y="5638680"/>
              <a:ext cx="23623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FailEx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4572000" y="3352680"/>
              <a:ext cx="23623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ded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AutoShape 9"/>
            <p:cNvCxnSpPr>
              <a:stCxn id="201" idx="0"/>
              <a:endCxn id="198" idx="2"/>
            </p:cNvCxnSpPr>
            <p:nvPr/>
          </p:nvCxnSpPr>
          <p:spPr>
            <a:xfrm flipV="1">
              <a:off x="5752800" y="2666160"/>
              <a:ext cx="1080" cy="6865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AutoShape 10"/>
            <p:cNvCxnSpPr>
              <a:stCxn id="199" idx="0"/>
              <a:endCxn id="201" idx="2"/>
            </p:cNvCxnSpPr>
            <p:nvPr/>
          </p:nvCxnSpPr>
          <p:spPr>
            <a:xfrm flipV="1">
              <a:off x="5752800" y="3809160"/>
              <a:ext cx="1080" cy="6865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AutoShape 11"/>
            <p:cNvCxnSpPr>
              <a:stCxn id="200" idx="0"/>
              <a:endCxn id="199" idx="2"/>
            </p:cNvCxnSpPr>
            <p:nvPr/>
          </p:nvCxnSpPr>
          <p:spPr>
            <a:xfrm flipV="1">
              <a:off x="5752800" y="4952160"/>
              <a:ext cx="1080" cy="6865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5" name="Text Box 12"/>
          <p:cNvSpPr/>
          <p:nvPr/>
        </p:nvSpPr>
        <p:spPr>
          <a:xfrm>
            <a:off x="304560" y="2819520"/>
            <a:ext cx="369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dActivity.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FailActivity.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FailExam.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FailExam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3D43E797-35A9-4577-99D4-141499AC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s of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often are depicted graphically i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hierarchy shows the inheritance relationships between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1981080" y="3276720"/>
            <a:ext cx="5029200" cy="2437920"/>
            <a:chOff x="1981080" y="3276720"/>
            <a:chExt cx="5029200" cy="2437920"/>
          </a:xfrm>
        </p:grpSpPr>
        <p:sp>
          <p:nvSpPr>
            <p:cNvPr id="210" name="Rectangle 6"/>
            <p:cNvSpPr/>
            <p:nvPr/>
          </p:nvSpPr>
          <p:spPr>
            <a:xfrm>
              <a:off x="4647960" y="4343400"/>
              <a:ext cx="236232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Fail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647960" y="5257800"/>
              <a:ext cx="236232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ssFailEx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3352680" y="3276720"/>
              <a:ext cx="236232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ded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AutoShape 11"/>
            <p:cNvCxnSpPr>
              <a:stCxn id="211" idx="0"/>
              <a:endCxn id="210" idx="2"/>
            </p:cNvCxnSpPr>
            <p:nvPr/>
          </p:nvCxnSpPr>
          <p:spPr>
            <a:xfrm flipV="1">
              <a:off x="5828760" y="4799880"/>
              <a:ext cx="1080" cy="4575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AutoShape 12"/>
            <p:cNvCxnSpPr>
              <a:stCxn id="210" idx="0"/>
              <a:endCxn id="212" idx="2"/>
            </p:cNvCxnSpPr>
            <p:nvPr/>
          </p:nvCxnSpPr>
          <p:spPr>
            <a:xfrm flipV="1" rot="16200000">
              <a:off x="4876200" y="3389760"/>
              <a:ext cx="610200" cy="129600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" name="Rectangle 13"/>
            <p:cNvSpPr/>
            <p:nvPr/>
          </p:nvSpPr>
          <p:spPr>
            <a:xfrm>
              <a:off x="1981080" y="4343400"/>
              <a:ext cx="236232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lEx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" name="AutoShape 14"/>
            <p:cNvCxnSpPr>
              <a:stCxn id="215" idx="0"/>
              <a:endCxn id="212" idx="2"/>
            </p:cNvCxnSpPr>
            <p:nvPr/>
          </p:nvCxnSpPr>
          <p:spPr>
            <a:xfrm flipH="1" flipV="1" rot="5400000">
              <a:off x="3543120" y="3351960"/>
              <a:ext cx="610200" cy="1372320"/>
            </a:xfrm>
            <a:prstGeom prst="bentConnector3">
              <a:avLst>
                <a:gd name="adj1" fmla="val 50000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5A76142-6E55-4BB1-9B97-4AEB99FC3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Java classes are directly or indirectly derived from 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lass that does not spec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 is automatically derive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// This class is derived from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imately, every class is derive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C7B3FBCC-9CCB-4BB0-9038-79D68C3CF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every class is directly or indirectly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class inheri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’s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a string containing the object’s class name and a hash of its memory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accepts the address of an object as its argument and returns true if it is the same as the calling object’s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ObjectMethod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CB6A850B-1166-4CC6-8125-CAE889094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ference variable can reference objects of classes that are derived from the variable’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dedActivity exam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use the exam variable to referenc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 = new GradedActivity(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also used as the superclass for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F5888DC9-0477-4321-A6C0-C6FB7ED96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can be used to referenc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dedActivity exam = new FinalExam(50, 7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statement creat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and stores the object’s address in the exam vari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s an example of polymorphis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lymorphis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s the ability to take many for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Java, a reference variable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lymorphic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cause it can reference objects of types different from its own, as long as those types are subclasses of its typ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E1D7238-F4EC-4DCE-BC9E-14952FB59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legal polymorphic re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 exam1 = new FinalExam(50, 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 exam2 = new PassFailActivity(7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 exam3 = new PassFailExam(100, 10, 70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three method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can be used to call only those three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dedActivity exam = new PassFailExam(100, 10, 7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exam.getScore()); // This wor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exam.getGrade()); // This wor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exam.getPointsEach()); //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30DAD05-8921-4D96-87A9-9BF92C725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Inheritance?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vs. 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life objects are typically specialized versions of other more general obje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 “insect” describes a very general type of creature with numerous character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sshoppers and bumblebees are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are the general characteristics of an ins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y have special characteristics of their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sshoppers have a jumping ability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mblebees have a stin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sshoppers and bumblebees are specialized versions of an ins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4C424B7-1D94-4FA6-A07A-E87FFEFB7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 and Dynamic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object of the subclass has overridden a method in the super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variable makes a call to that method the subclass’s version of the method will be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 exam = new PassFailActivity(6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.setScore(7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exam.getGrade()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perform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ynamic bind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te bind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variable contains a polymorphic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ava Virtual Machine determines at runtime which method to call, depending on the type of object that the variable refer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FC027AEC-AFEE-4ED2-B3BB-0DCB6C5B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object’s type, rather than the reference type, that determines which method is c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c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not assign a superclass object to a subclass referenc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05BA0E9C-2005-4638-8949-73FB8F16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bstract class cannot be instantiated, but other classes are derived from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 cla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s as a superclass for other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stract class represents the generic or abstract form of all the classes that are derived from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becomes abstract when you place the abstract key word in the class defini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lass Clas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BACEC874-0450-4768-9AFC-BD02886C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stract method has no body and must be overridden in a sub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tract 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ethod that appears in a superclass, but expects to be overridden in a sub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stract method has only a header and no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ssSpecifier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eturnType MethodName(ParameterLi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.java, CompSciStudent.java, CompSciStudentDem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D4EA476A-6525-4224-8580-F8E5FD69C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 key 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ears in the header, and that the header ends with a semicol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bstract void setValue(int value);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lass that contains an abstract method is automatically abs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ubclass fails to override an abstract method, a compiler error will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methods are used to ensure that a subclass implements the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B6BBC659-5C60-42AB-A78E-0AFB5DA33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imilar to an abstract class that has all abstract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not be instantiated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f the methods listed in an interface must be written elsew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rpose of an interface is to specify behavior for other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face looks similar to a class, exce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instead of the keywor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thods that are specified in an interface have no bodies, only headers that are terminated by semicol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0E24A43-181A-4E10-8832-263E76DC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al format of an interface defini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Interfac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(Method header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ethods specified by an interface are public by de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can implement one or more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D4F36B15-BDDB-465A-B1D0-B45FD212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lass implements an interface, it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 in the class head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FinalExam3 extends GradedActivity implements Rela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edActivity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abl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Exam3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Dem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7588D504-0A25-401B-AF28-63A8B2E6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s in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face can contain field decla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ields in an interface are treated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y automaticall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ou must provide an initialization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erface Do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IELD1 = 1, FIELD2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(Method headers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interface,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E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ELD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 static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s.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lass that implements this interface has access to thes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9B4B879F-5D49-466F-951E-CFBC23888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ing Multiple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can be derived from only one super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allows a class to implement multiple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lass implements multiple interfaces, it must provide the methods specified by all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ecify multiple interfaces in a class definition, simply list the names of the interfaces, separated by commas, after the implements key wor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Class implements Interface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308566C5-F295-4BF0-B6CF-3739C38A1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581280" y="1447920"/>
            <a:ext cx="2057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724280" y="3429000"/>
            <a:ext cx="19814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ssh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514600" y="3429000"/>
            <a:ext cx="19810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mble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7"/>
          <p:cNvCxnSpPr>
            <a:stCxn id="104" idx="0"/>
            <a:endCxn id="102" idx="2"/>
          </p:cNvCxnSpPr>
          <p:nvPr/>
        </p:nvCxnSpPr>
        <p:spPr>
          <a:xfrm flipH="1" flipV="1" rot="5400000">
            <a:off x="3638160" y="2457000"/>
            <a:ext cx="838800" cy="1105560"/>
          </a:xfrm>
          <a:prstGeom prst="bentConnector3">
            <a:avLst>
              <a:gd name="adj1" fmla="val 4997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8"/>
          <p:cNvCxnSpPr>
            <a:stCxn id="103" idx="0"/>
            <a:endCxn id="102" idx="2"/>
          </p:cNvCxnSpPr>
          <p:nvPr/>
        </p:nvCxnSpPr>
        <p:spPr>
          <a:xfrm flipV="1" rot="16200000">
            <a:off x="4743000" y="2457000"/>
            <a:ext cx="838800" cy="1105560"/>
          </a:xfrm>
          <a:prstGeom prst="bentConnector3">
            <a:avLst>
              <a:gd name="adj1" fmla="val 4997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" name="Group 20"/>
          <p:cNvGrpSpPr/>
          <p:nvPr/>
        </p:nvGrpSpPr>
        <p:grpSpPr>
          <a:xfrm>
            <a:off x="228600" y="2018520"/>
            <a:ext cx="3352680" cy="1096560"/>
            <a:chOff x="228600" y="2018520"/>
            <a:chExt cx="3352680" cy="1096560"/>
          </a:xfrm>
        </p:grpSpPr>
        <p:sp>
          <p:nvSpPr>
            <p:cNvPr id="108" name="Text Box 9"/>
            <p:cNvSpPr/>
            <p:nvPr/>
          </p:nvSpPr>
          <p:spPr>
            <a:xfrm>
              <a:off x="228600" y="2198160"/>
              <a:ext cx="28195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ins those attributes and methods that are shared by all insec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AutoShape 10"/>
            <p:cNvCxnSpPr>
              <a:stCxn id="108" idx="3"/>
              <a:endCxn id="102" idx="1"/>
            </p:cNvCxnSpPr>
            <p:nvPr/>
          </p:nvCxnSpPr>
          <p:spPr>
            <a:xfrm flipV="1">
              <a:off x="3047760" y="2018520"/>
              <a:ext cx="533880" cy="639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0" name="Group 19"/>
          <p:cNvGrpSpPr/>
          <p:nvPr/>
        </p:nvGrpSpPr>
        <p:grpSpPr>
          <a:xfrm>
            <a:off x="380880" y="4000320"/>
            <a:ext cx="8305920" cy="1950120"/>
            <a:chOff x="380880" y="4000320"/>
            <a:chExt cx="8305920" cy="1950120"/>
          </a:xfrm>
        </p:grpSpPr>
        <p:sp>
          <p:nvSpPr>
            <p:cNvPr id="111" name="Text Box 11"/>
            <p:cNvSpPr/>
            <p:nvPr/>
          </p:nvSpPr>
          <p:spPr>
            <a:xfrm>
              <a:off x="380880" y="5033520"/>
              <a:ext cx="342900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ins those attributes and methods that specific to a Bumble Be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AutoShape 13"/>
            <p:cNvCxnSpPr>
              <a:stCxn id="111" idx="0"/>
              <a:endCxn id="104" idx="1"/>
            </p:cNvCxnSpPr>
            <p:nvPr/>
          </p:nvCxnSpPr>
          <p:spPr>
            <a:xfrm flipH="1" flipV="1" rot="5400000">
              <a:off x="1790640" y="4304880"/>
              <a:ext cx="1028880" cy="41976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13" name="Text Box 12"/>
            <p:cNvSpPr/>
            <p:nvPr/>
          </p:nvSpPr>
          <p:spPr>
            <a:xfrm>
              <a:off x="5486400" y="5033520"/>
              <a:ext cx="320040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ins those attributes and methods that are specific to a Grasshopp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" name="AutoShape 14"/>
            <p:cNvCxnSpPr>
              <a:stCxn id="113" idx="0"/>
              <a:endCxn id="103" idx="3"/>
            </p:cNvCxnSpPr>
            <p:nvPr/>
          </p:nvCxnSpPr>
          <p:spPr>
            <a:xfrm flipV="1" rot="16200000">
              <a:off x="6381720" y="4323600"/>
              <a:ext cx="1028880" cy="38160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B91DD24E-2327-4DC6-819C-4D424938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s in U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23880" y="2057400"/>
            <a:ext cx="2286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d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5029200" y="3581280"/>
            <a:ext cx="2286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523880" y="3581280"/>
            <a:ext cx="2286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Exa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AutoShape 7"/>
          <p:cNvCxnSpPr>
            <a:stCxn id="266" idx="0"/>
            <a:endCxn id="264" idx="2"/>
          </p:cNvCxnSpPr>
          <p:nvPr/>
        </p:nvCxnSpPr>
        <p:spPr>
          <a:xfrm flipV="1">
            <a:off x="2666520" y="2666520"/>
            <a:ext cx="1080" cy="915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8"/>
          <p:cNvCxnSpPr>
            <a:stCxn id="266" idx="3"/>
            <a:endCxn id="265" idx="1"/>
          </p:cNvCxnSpPr>
          <p:nvPr/>
        </p:nvCxnSpPr>
        <p:spPr>
          <a:xfrm>
            <a:off x="3809520" y="3885840"/>
            <a:ext cx="1220040" cy="108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69" name="Text Box 9"/>
          <p:cNvSpPr/>
          <p:nvPr/>
        </p:nvSpPr>
        <p:spPr>
          <a:xfrm>
            <a:off x="4952880" y="2057400"/>
            <a:ext cx="32781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dashed line with an arrow indicates implementation of an inte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 flipH="1">
            <a:off x="4343040" y="2514600"/>
            <a:ext cx="609480" cy="1219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899285DF-D151-47DA-894E-71778C7FB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 with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allows you to create reference variables of an interface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face reference variable can reference any object that implements that interface, regardless of its class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nother example of polymorph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lItem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Disc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vdMovi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morphicInterfaceDem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56E8A75-D40C-4FDF-B23B-94EE2E677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 with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xample code, tw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ail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 variable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re decl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referen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ctDi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nd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referen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vdMov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lass implements an interface, an inheritance relationship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ace inheri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ctDis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ail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vdMov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ailI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EE4090F2-3F3E-48AC-80F8-DF532C15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morphism with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ference to an interface can point to any class that implements that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not create an instance of an interfa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ailItem item = new RetailItem(); // ERRO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interface variable references an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methods declared in the interface are availa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type casting is required to access the other methods of an object referenced by an interface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7FE6A11-C087-455E-9902-F5D9ADCA6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is a”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between a superclass and an inherited class is called an “is a”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sshopper “is a” ins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odle “is a”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r “is a” veh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ized object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characteristics of the general object,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characteristics that make it spe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bject-oriented programmin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herit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sed to create an “is a” relationship among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5FA4CAD-4A84-4850-AE5D-C534889B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is a”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apabilities of a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 involves a superclass and a sub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percla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general clas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bcla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specialized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bclass is based on, or extended from, the super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classes are also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 cl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 are also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onship of classes can be thought of a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ent cla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ld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3352463-07DA-46CD-930C-291925129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class inherits fields and methods from the superclass without any of them being re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fields and methods may be added to the sub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keywor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used on the class header to define the subcla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FinalExam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ded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98F1021-B09B-4F33-BC0C-FF75F767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00240" y="4191120"/>
            <a:ext cx="3886200" cy="21333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radedActivity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radeDemo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FinalExam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FinalExam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33520" y="1143000"/>
            <a:ext cx="3124080" cy="1981080"/>
            <a:chOff x="533520" y="1143000"/>
            <a:chExt cx="3124080" cy="1981080"/>
          </a:xfrm>
        </p:grpSpPr>
        <p:sp>
          <p:nvSpPr>
            <p:cNvPr id="128" name="Rectangle 5"/>
            <p:cNvSpPr/>
            <p:nvPr/>
          </p:nvSpPr>
          <p:spPr>
            <a:xfrm>
              <a:off x="533520" y="1143000"/>
              <a:ext cx="3124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ded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533520" y="1600200"/>
              <a:ext cx="312408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score :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533520" y="2133720"/>
              <a:ext cx="312408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setScore(s : double) : 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etScore()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etGrade() : ch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4"/>
          <p:cNvGrpSpPr/>
          <p:nvPr/>
        </p:nvGrpSpPr>
        <p:grpSpPr>
          <a:xfrm>
            <a:off x="685800" y="3733920"/>
            <a:ext cx="2819160" cy="2666880"/>
            <a:chOff x="685800" y="3733920"/>
            <a:chExt cx="2819160" cy="2666880"/>
          </a:xfrm>
        </p:grpSpPr>
        <p:sp>
          <p:nvSpPr>
            <p:cNvPr id="132" name="Rectangle 11"/>
            <p:cNvSpPr/>
            <p:nvPr/>
          </p:nvSpPr>
          <p:spPr>
            <a:xfrm>
              <a:off x="685800" y="3733920"/>
              <a:ext cx="281916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aEx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685800" y="4191120"/>
              <a:ext cx="281916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numQuestions : 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pointsEach : dou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numMissed : 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3"/>
            <p:cNvSpPr/>
            <p:nvPr/>
          </p:nvSpPr>
          <p:spPr>
            <a:xfrm>
              <a:off x="685800" y="5105520"/>
              <a:ext cx="281916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+ FinalExam(questions : int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issed : i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+ getPointsEach() : doub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+ getNumMissed() : i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5" name="AutoShape 15"/>
          <p:cNvCxnSpPr>
            <a:stCxn id="132" idx="0"/>
            <a:endCxn id="130" idx="2"/>
          </p:cNvCxnSpPr>
          <p:nvPr/>
        </p:nvCxnSpPr>
        <p:spPr>
          <a:xfrm flipV="1">
            <a:off x="2095200" y="3123720"/>
            <a:ext cx="1080" cy="610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Text Box 17"/>
          <p:cNvSpPr/>
          <p:nvPr/>
        </p:nvSpPr>
        <p:spPr>
          <a:xfrm>
            <a:off x="4419720" y="142164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ins those attributes and methods that are shared by all graded activ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18"/>
          <p:cNvCxnSpPr>
            <a:stCxn id="136" idx="1"/>
            <a:endCxn id="130" idx="3"/>
          </p:cNvCxnSpPr>
          <p:nvPr/>
        </p:nvCxnSpPr>
        <p:spPr>
          <a:xfrm flipV="1" rot="10800000">
            <a:off x="3656880" y="1742040"/>
            <a:ext cx="762840" cy="886680"/>
          </a:xfrm>
          <a:prstGeom prst="bentConnector3">
            <a:avLst>
              <a:gd name="adj1" fmla="val 5000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8" name="Text Box 19"/>
          <p:cNvSpPr/>
          <p:nvPr/>
        </p:nvSpPr>
        <p:spPr>
          <a:xfrm>
            <a:off x="4419720" y="2274840"/>
            <a:ext cx="41907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ins those attributes and methods that are specific to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Exa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herits all non-private attributes and methods from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dedActivit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AutoShape 20"/>
          <p:cNvCxnSpPr>
            <a:stCxn id="138" idx="1"/>
            <a:endCxn id="133" idx="3"/>
          </p:cNvCxnSpPr>
          <p:nvPr/>
        </p:nvCxnSpPr>
        <p:spPr>
          <a:xfrm flipV="1" rot="10800000">
            <a:off x="3504600" y="3144600"/>
            <a:ext cx="915120" cy="1504080"/>
          </a:xfrm>
          <a:prstGeom prst="bentConnector3">
            <a:avLst>
              <a:gd name="adj1" fmla="val 4998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742AF737-14D8-417E-B897-1813E0A8A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ance,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 of the superclass that are mark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not inherited by the subcla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 in memory when the object of the subclass i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only be accessed from the subclass by public methods of the super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 of the superclass that are mark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herited by the subclas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directly accessed from the sub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20:51:53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9:50:37Z</dcterms:modified>
  <cp:revision>45</cp:revision>
  <dc:subject>Inheritance</dc:subject>
  <dc:title>Chapter 11 </dc:title>
</cp:coreProperties>
</file>