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44A3-D136-45AE-AC0E-3FCE77C93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5807-043C-473A-84DA-71306ADC7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6F73-1210-4950-B217-2ECF6A539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4EF0-B5F7-40E8-B58E-6E51317DA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78E5-C859-4E36-AB30-FC5B3838A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9396-FBC9-48D3-9C0D-FE5ED58CC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5B93-1FF7-4C0A-95A1-F7C5C442E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7066-47A7-4C3F-B3E3-B7C45DCCC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3431-62E0-4DE2-AAD1-593A4B288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D6DC-2A48-416D-8563-4F56F13F0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D5A3-F74E-45B2-903E-2941D4AAD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64AE-69B7-484F-94FC-E48C69D35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FDD7-840B-4185-8103-5AAA6DCF5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ECEB-C3EC-4223-AB5C-469B34B84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F957-64B1-45CB-9CDB-3B0AB396F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A0E6-D733-42CE-AD27-E53109AF8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4916-1173-4BFA-85C2-EAA13E830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FF39-38D0-4431-BC88-306F094C7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44ED-A2E9-44B3-BA64-B1290EDD2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63D8-664D-45BB-B3E9-B9F6D572C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F0F1-61AC-4F73-8D0E-BD812739B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7104-4A5F-4FCE-BC88-6EDEF70BD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F167-DA58-430E-88EF-E2F4E6B7E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5D72-B087-4FAF-B535-4048305A0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459C-DD19-4598-B251-AEAB62582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61DB-D058-4CA9-949C-85DE73D0B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F9DE-33CD-4923-B777-52167E38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5F6B-1C4E-4639-9E8E-40CAFA2D9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7855-3D57-441E-A012-E6176A470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FD12-E10F-4280-BAC7-BE92B2C0C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D3D3-9065-48F7-8480-C7BE2CFAA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04DC-77B2-4688-BD5E-D74C00141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C7EF-3212-42CD-ADE0-1D74D7E70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93F6-54EA-4759-B32A-F8E6BDFE4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AA42-3BA6-4DC7-94E8-A7757D4CB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F08A-9381-4800-82DC-7BF1C42B1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A94E-9D4B-469F-9EFC-7DD853FF0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2017-7D9D-43B6-BB84-FB20EB74C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A2F4-637B-4B1E-8E98-56685D0DD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CDBE-0AA1-47EF-B372-376860053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5920-C8FF-49B0-8EA5-634E400B3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49A0-E08F-4AD6-8945-7C719CC2A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EA0-1263-45F2-97CF-9BC665DEB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9A46-D6FA-4E68-8BFF-21D8FFF91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EA93-372A-4D46-968B-5B8D72ACA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4BD-ED0E-4F08-B075-6C8FC7B2B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2EAD-12E5-4DD4-B77E-3480DBC64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F2D1-D70A-430B-9E32-565390EB7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E6EA-44DB-41F3-A07F-EE3ADAD5F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85A5-D90A-455A-9677-23A2CA5A2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5DDB-E38D-42D8-874C-FABFDD71B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1C77-4802-450F-9F47-EE619D824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1F08-C265-49D6-8B34-0C6344F4E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3AE3-8D3A-4724-BA60-AEDA05376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67A9-33CE-4A12-830C-F7E9428C0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B5AE-F134-43AD-895D-E8C1C5526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4C68-524B-42E0-A593-F629D2D3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F07D-7F50-412F-9820-681482400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39AA-0CD3-4B8C-B67C-61CC8C4C7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48D6-82BA-42D8-ABC5-69F18FC8A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666A-B9D4-454C-9E28-5925F9F1B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416C-8CDB-4A41-8B00-0964DA96F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9FAB-9E36-4EDE-BD25-C01A44973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AC69-93E9-481D-BEA7-7FFB464C1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0EAF-B562-4972-BFF6-DAD583E52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1FF0-C9E7-4521-AA85-E6DDD79B6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66C1-07E9-4D20-BE84-32CE5DA3C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9D92-4CB7-4307-B66E-E1EA993E2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1F84-FC5A-4518-96DE-64AA1D57E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EB7E-E7C8-47B6-8DC3-714EC971F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A2B9-4A2C-4EF2-9F9E-2140B547B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3A1D-3053-4EF0-9BE2-D7193335B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9292-210B-45F3-9157-8977F3428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0DD4-3A82-4671-8756-AB5569232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F9B0-907E-4A83-B1BF-87306D72B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112E-6947-4FDE-81BD-6A9A57B9E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09B9-AAC0-4AA4-B6EC-7C69BCED2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87F7-FA26-4ECB-AC42-D572AF4BE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28B9-8636-48A5-9C0D-BC53D9E28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F4E5-DB2E-4595-A043-B5EB626D0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29DF-89D3-4E43-BE7A-735192602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51A4-1B5C-4C8B-AF87-DF6298AD5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25C0-4962-47BF-BB0B-93DD4847D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A63A-6862-4170-BD70-FBE192D8F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4934-31F0-4B75-A601-0B5757ADC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41D3-5D4C-44E9-8D80-434127A2D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C809-E252-4254-BFE8-AF1A2904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B3CD-7D65-429A-8E1A-37FC69D59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6006-F2A5-4A8C-961E-8D321D452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4070-E015-468E-825C-4BDF9333D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F88C-FA16-450B-BF34-2AD80C8F8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136A-D73F-4046-A4C6-D2B871EA4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A200-1849-488E-9CBA-52D3C79DF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9FB3-7944-4C78-8FE0-3579E8AA4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B084-2B11-48F7-B85A-A93F06CC3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D8CA-E952-4C1C-93EA-5D9407922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D8E8-5EC3-4782-91BB-5DF14E6A4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8993-A915-41F1-A81C-25024C3B0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36F9-735A-47A8-98D0-14C32DA4A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A936BD9C-37E4-44DE-9ACE-EDBC90BC2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c3c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885e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va Fundamen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E31507F-37EB-485B-9C20-4EBEB6A3E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ine must be exactly as shown in the example (excep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name can be programmer defin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line of code tha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will run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starts th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Jav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program runs, the statements with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b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ee what the line in the example will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56D7CA3-EF48-4675-9D8D-A29F4F6CC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look back at the previous example, we can see that there is only one line that ends with a semi-col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rogramming is great fun!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it is the only Java statement in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t of the code is either a comment or other Java framework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EBDCE1C-0B50-47F2-83C9-DA1FE7F93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 are ignored by the Java compiler so they need no semi-col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Java code elements that do not need semi colon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d by the code within its curly br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d by the code within its curly br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ly b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of framework code that needs no semi-colon term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A677097-F425-4029-96C0-2AA38D97D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a case-sensitive langu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Java programs must be stored in a file with a .java fil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ignored by the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.java file may contain many classes but may only have one public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.java file has a public class, the class must have the same name as th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AD8E618-DA21-4C56-B062-60C33CE94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pplications must hav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left brace, or opening brace, there must be a corresponding right brace, or closing br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s are terminated with semicol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, class headers, method headers, and  braces are not considered Java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96276CE-5C6F-4DA7-8FBF-655C5EE0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601640"/>
          <a:ext cx="8001000" cy="4494240"/>
        </p:xfrm>
        <a:graphic>
          <a:graphicData uri="http://schemas.openxmlformats.org/drawingml/2006/table">
            <a:tbl>
              <a:tblPr/>
              <a:tblGrid>
                <a:gridCol w="1752480"/>
                <a:gridCol w="2743200"/>
                <a:gridCol w="3505320"/>
              </a:tblGrid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/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ouble sl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rks the beginning of a single line comme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pen and close pare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sed in a method header to mark the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arameter lis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{ 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pen and close curly br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closes a group of statements, such as the contents of a class or a meth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“ 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otation ma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closes a string of characters, such as a message that is to be printed on the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mi-co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rks the end of a complete programming sta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C29B902-D9EC-4D30-B0E6-42633151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the programs that you will write will run in a consol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876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9BC8BB3-2540-4EEE-865F-ECFBEBE3D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sole window that starts a Java application is typically known 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 out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 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vice is typically the key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ends information to the standard output device by using a Java class stored in the standard Java lib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CCD3799-B2F8-4822-926A-02A59BEC3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classes in the standard Java library are accessed using the Java Applications Programming Interface (AP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Java library is commonly referred to 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ava AP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F766A1F-CDA4-47E5-A02F-2D105C125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vious example uses the 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rogramming is great fun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ine use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from the standard Java lib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ontains methods and objects that perform system level tas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, a member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, contains the method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C38BA9E-50D2-41A1-89D0-FFCF1CC44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s of a Java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, and the Java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nd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d Assignm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C786489-8A22-4031-B988-2AF8CC4C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actually perform the task of sending characters to the output de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rogramming is great fun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ronounced: System dot out dot println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inside the parenthesis will be sent to the output device (in this case, a str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07B296A-5B44-4702-840E-7B23E799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places a newline character at the end of whatever is being printe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l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is is being printed ou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 two separate lines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be printed out on separate lines since the first statement sends a newline command to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0DEAABA-06B0-45D4-A5F8-C27461CE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works very similarly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does not put a newline character at the end of th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se lines will b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ed o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 same line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output: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se lines will beprinted onthe sam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odd spacing?  Why are some words run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2614AF5-6C92-4402-950C-5155243E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of the previous examples, we have been printing out strings of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, we will see that much more can be pri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ome special characters that can be put into the output.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his line will have a newline at the end.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tring is an escape sequence that represents the newline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 sequences allow the programmer to print characters that otherwise would be unpri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9D69E5A-45D1-4B38-B280-BF9A1BBF1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Escape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92040" y="1600200"/>
          <a:ext cx="8294760" cy="4613400"/>
        </p:xfrm>
        <a:graphic>
          <a:graphicData uri="http://schemas.openxmlformats.org/drawingml/2006/table">
            <a:tbl>
              <a:tblPr/>
              <a:tblGrid>
                <a:gridCol w="650880"/>
                <a:gridCol w="1625760"/>
                <a:gridCol w="601812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w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dvances the cursor to the next line for subsequent pri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the cursor to skip over to the next tab s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ck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the cursor to back up, or move left, one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riage retu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the cursor to go to the beginning of the current line, not the next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cks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a backslash to be 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ngle qu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a single quotation mark to be 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ouble qu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a double quotation mark to be 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4877204-DC11-41EB-A825-E0AB46806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Escape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the escape sequences are comprised of two characters, they are treated by the compiler as a single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hese are our top sellers: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\tComputer games\n\tCoffee\n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\tAspiri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result in the following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se are our top sell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r g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pr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se escape sequences, complex text output can be achie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F7AF811-0B62-4665-9CDF-3CB501E72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s and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is a named storage location in the computer’s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eral is a value that is written into the code of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 determine the number and type of  variables a program will n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example: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1252E1D-BBB4-44B1-8EB7-F9425FD49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s and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1743840" y="1398600"/>
            <a:ext cx="2509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line is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 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nt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86680" y="1422360"/>
            <a:ext cx="3137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line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n assignment  stat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value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30760" y="5029200"/>
            <a:ext cx="43261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The value is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42"/>
          <p:cNvGrpSpPr/>
          <p:nvPr/>
        </p:nvGrpSpPr>
        <p:grpSpPr>
          <a:xfrm>
            <a:off x="2514240" y="4395960"/>
            <a:ext cx="5999040" cy="633240"/>
            <a:chOff x="2514240" y="4395960"/>
            <a:chExt cx="5999040" cy="633240"/>
          </a:xfrm>
        </p:grpSpPr>
        <p:cxnSp>
          <p:nvCxnSpPr>
            <p:cNvPr id="201" name="AutoShape 32"/>
            <p:cNvCxnSpPr>
              <a:stCxn id="202" idx="1"/>
            </p:cNvCxnSpPr>
            <p:nvPr/>
          </p:nvCxnSpPr>
          <p:spPr>
            <a:xfrm flipV="1" rot="10800000">
              <a:off x="3276000" y="4607280"/>
              <a:ext cx="457920" cy="273960"/>
            </a:xfrm>
            <a:prstGeom prst="bentConnector3">
              <a:avLst>
                <a:gd name="adj1" fmla="val 10102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Text Box 33"/>
            <p:cNvSpPr/>
            <p:nvPr/>
          </p:nvSpPr>
          <p:spPr>
            <a:xfrm>
              <a:off x="3734280" y="4395960"/>
              <a:ext cx="477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is is a string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itera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It will be printed 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as i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34"/>
            <p:cNvSpPr/>
            <p:nvPr/>
          </p:nvSpPr>
          <p:spPr>
            <a:xfrm rot="5400000">
              <a:off x="3200040" y="4191120"/>
              <a:ext cx="152280" cy="15238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2666880" y="5157720"/>
            <a:ext cx="4821480" cy="1008720"/>
            <a:chOff x="2666880" y="5157720"/>
            <a:chExt cx="4821480" cy="1008720"/>
          </a:xfrm>
        </p:grpSpPr>
        <p:sp>
          <p:nvSpPr>
            <p:cNvPr id="205" name="AutoShape 35"/>
            <p:cNvSpPr/>
            <p:nvPr/>
          </p:nvSpPr>
          <p:spPr>
            <a:xfrm flipV="1" rot="16200000">
              <a:off x="2819160" y="5485320"/>
              <a:ext cx="228600" cy="533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614"/>
                  </a:lnTo>
                  <a:cubicBezTo>
                    <a:pt x="10800" y="9514"/>
                    <a:pt x="5400" y="10414"/>
                    <a:pt x="0" y="10414"/>
                  </a:cubicBezTo>
                  <a:cubicBezTo>
                    <a:pt x="5400" y="10414"/>
                    <a:pt x="10800" y="11314"/>
                    <a:pt x="10800" y="1221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36"/>
            <p:cNvSpPr/>
            <p:nvPr/>
          </p:nvSpPr>
          <p:spPr>
            <a:xfrm>
              <a:off x="4878360" y="5157720"/>
              <a:ext cx="2610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integer 5 w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 printed out he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tice no quote mark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AutoShape 37"/>
            <p:cNvCxnSpPr>
              <a:stCxn id="206" idx="1"/>
              <a:endCxn id="205" idx="1"/>
            </p:cNvCxnSpPr>
            <p:nvPr/>
          </p:nvCxnSpPr>
          <p:spPr>
            <a:xfrm flipV="1" rot="10800000">
              <a:off x="2931480" y="5644080"/>
              <a:ext cx="1945440" cy="222840"/>
            </a:xfrm>
            <a:prstGeom prst="bentConnector4">
              <a:avLst>
                <a:gd name="adj1" fmla="val 43087"/>
                <a:gd name="adj2" fmla="val 20275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8" name="Group 28"/>
          <p:cNvGrpSpPr/>
          <p:nvPr/>
        </p:nvGrpSpPr>
        <p:grpSpPr>
          <a:xfrm>
            <a:off x="2439720" y="2538360"/>
            <a:ext cx="2970360" cy="1602720"/>
            <a:chOff x="2439720" y="2538360"/>
            <a:chExt cx="2970360" cy="1602720"/>
          </a:xfrm>
        </p:grpSpPr>
        <p:sp>
          <p:nvSpPr>
            <p:cNvPr id="209" name="Rectangle 4"/>
            <p:cNvSpPr/>
            <p:nvPr/>
          </p:nvSpPr>
          <p:spPr>
            <a:xfrm>
              <a:off x="3429000" y="261468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3429000" y="299556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3429000" y="3376440"/>
              <a:ext cx="19810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3429000" y="375768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2"/>
            <p:cNvSpPr/>
            <p:nvPr/>
          </p:nvSpPr>
          <p:spPr>
            <a:xfrm>
              <a:off x="2439720" y="25383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2439720" y="29192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4"/>
            <p:cNvSpPr/>
            <p:nvPr/>
          </p:nvSpPr>
          <p:spPr>
            <a:xfrm>
              <a:off x="2439720" y="33004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2439720" y="36813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2"/>
            <p:cNvSpPr/>
            <p:nvPr/>
          </p:nvSpPr>
          <p:spPr>
            <a:xfrm>
              <a:off x="4268880" y="299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38"/>
          <p:cNvSpPr/>
          <p:nvPr/>
        </p:nvSpPr>
        <p:spPr>
          <a:xfrm>
            <a:off x="6557040" y="2666880"/>
            <a:ext cx="1384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stor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50"/>
          <p:cNvSpPr/>
          <p:nvPr/>
        </p:nvSpPr>
        <p:spPr>
          <a:xfrm>
            <a:off x="5334120" y="304812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7BBFA99-6D95-42E7-9331-E9D4A2B9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+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+ operator can be used in two w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concatenation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n addition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either side of the + operator is a string, the result will be a st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 " + "World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value is: " + 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value is: " +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value is: " + ‘/n’ + 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6E42D44-1E6A-4B87-B15F-87A87788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commands that have string literals must be treated with c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ring literal value cannot span lines in a Java source cod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is line is too long and now it has spanned more than one line, which will cause a syntax error to be generated by the compiler.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9AF2B2C-D5BC-432A-93F9-D14FD9E6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named constants with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for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log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3DB587F-F9E0-4F5D-AB2E-192943CDC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ing concatenation operator can be used to fix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se lines are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are now ok and will not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cause the error as before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concatenation can join various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e can join a string to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a number like this: " + 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A654DC7-4C57-422A-831D-06759C108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ncatenation operator can be used to format complex String objec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following will be printed 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n a tabbed format: 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n\tFirst = " + 5 * 6 + ", 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n\tSecond = " (6 + 4) + ",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n\tThird = " + 16.7 + ".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ice that if an addition operation is also needed, it must be put in parenthe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DE77938-D17D-4C72-8512-E28E5EC7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are programmer-defined nam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may not be any of the Java reserved key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EFCBE30-E95F-4735-9A14-B800A1498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must follow certain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dentifier may only cont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s a–z or A–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gits 0–9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cores (_)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llar sign (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character may not be a dig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 are case sen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sOrd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not the same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ms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 cannot include sp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34B4336-00FF-45CB-B5D2-C01F89905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838080" y="1295280"/>
            <a:ext cx="731520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Reserved Key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143720" y="1395360"/>
            <a:ext cx="1238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669040" y="1395360"/>
            <a:ext cx="16088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496040" y="1395360"/>
            <a:ext cx="14562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ce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174000" y="1395360"/>
            <a:ext cx="1829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ctf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9FE6ED1-BDE9-491F-8461-BACEBF7B4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names should be descrip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ve names allow the code to be more readable; therefore, the code is more maintai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more descrip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t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.072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salesTaxR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.072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f-documen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00553DB-E998-4143-AD74-43FEAA9A6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Naming Con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 should begin with a lower case letter and then switch to title case thereaf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caTax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names should be all titl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BigLi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Java naming conventions can be foun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java.sun.com/docs/codeconv/html/CodeConventions.doc8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rule of thumb about naming variables and classes are that, with some exceptions, their names tend to be nouns or noun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E32BC52-4E61-42AF-B7AF-D00CD73CD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5560" y="3336840"/>
            <a:ext cx="4066920" cy="184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33480" y="3336480"/>
            <a:ext cx="4065480" cy="1770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57200" y="1600200"/>
            <a:ext cx="778824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data types are built into the Java language and are not derived from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8 Java primitive data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7FDDCF2-FF01-4FE3-97FE-EA01F7E38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371600"/>
          <a:ext cx="8381880" cy="4699080"/>
        </p:xfrm>
        <a:graphic>
          <a:graphicData uri="http://schemas.openxmlformats.org/drawingml/2006/table">
            <a:tbl>
              <a:tblPr/>
              <a:tblGrid>
                <a:gridCol w="990720"/>
                <a:gridCol w="915840"/>
                <a:gridCol w="64753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gers in the 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-1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+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gers in the rang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-32,7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+32,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gers in the rang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-2,147,483,64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+2,147,483,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gers in the rang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-9,223,372,036,854,775,80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+9,223,372,036,854,775,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loating-point numbers in the range o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±3.410-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±3.410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, with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7 digits of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loating-point numbers in the range o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±1.710-30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±1.71030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, with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15 digits of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F7C856C-967A-4F5B-A040-8AA306634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Declarations take the following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Type VariableNa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te inch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 mon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spe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 timeSt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salesCommiss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d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A36853C-2BF1-459D-B7B0-F88AAB7E4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ava source code file contains one or more Java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ore than one class is in a source code file, only one of them may be pub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blic class and the filename of the source code file must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A class nam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in a file nam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mpl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ava class can be separated into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4570800-6CD7-43DE-A8F6-7B1E50717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er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ll integer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hold whole numbers such as 5, 10, 23, 89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data types cannot hold numbers that have a decimal point i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s embedded into Java source code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ger lit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IntegerVariables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3708C43-D167-487B-8B2C-93FCB8D7C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that allow fractional value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loating-point</a:t>
            </a:r>
            <a:r>
              <a:rPr b="0" i="1" lang="en-US" sz="3200" spc="-1" strike="noStrike">
                <a:solidFill>
                  <a:srgbClr val="000000"/>
                </a:solidFill>
                <a:latin typeface="Minion-Ital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 and -45.316 are floating-point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ava there are two data types that can represent floating-point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le prec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 decimal poi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uble prec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5 decimal poi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B377798-ACA6-4D8B-8DA4-FA8BF3545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floating point numbers are embedded into Java source code they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loating point lit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ault type for floating point literals i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.75, 1.76, and 31.51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ongly-typ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Sale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A5DE8AD-929A-4389-8607-7B851A3D7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not compatible with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because of its size and pr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numb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 = 23.5; // Err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forced in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appending the letter F or f to the lit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numb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 = 23.5F; // This will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D148152-2F6F-4C2D-8B38-9AFAE4A2C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ls cannot contain embedded currency symbols or com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ossPay = $1,257.00; // ERR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ossPay = 1257.00;   //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-point literals can be represen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ientific n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,281.97  ==  4.72819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u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no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present values in scientific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728197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= 4.728197E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6BED1A3-C214-4CEF-8B34-C6F941FB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tific and E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04920" y="1895400"/>
          <a:ext cx="8294400" cy="2970360"/>
        </p:xfrm>
        <a:graphic>
          <a:graphicData uri="http://schemas.openxmlformats.org/drawingml/2006/table">
            <a:tbl>
              <a:tblPr/>
              <a:tblGrid>
                <a:gridCol w="2765160"/>
                <a:gridCol w="2764080"/>
                <a:gridCol w="2765160"/>
              </a:tblGrid>
              <a:tr h="674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Decimal N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Scientific N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E N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7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479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al-GreekwithMathPi"/>
                          <a:ea typeface="Arial"/>
                        </a:rPr>
                        <a:t>x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4791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00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 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al-GreekwithMathPi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E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9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 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al-GreekwithMathPi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E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 Box 32"/>
          <p:cNvSpPr/>
          <p:nvPr/>
        </p:nvSpPr>
        <p:spPr>
          <a:xfrm>
            <a:off x="690120" y="5334120"/>
            <a:ext cx="41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SunFact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EE3A166-2B40-4477-B4CB-D334CCB4F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ata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type can have two possibl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may only be copied in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TrueFalse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92F7C2A-C481-41F7-802A-0AB1F12F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ata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type provides access to singl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terals are enclosed in single quote m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, ‘Z’, ‘\n’, ‘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conf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terals with string liter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terals are enclosed in single qu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literals are enclosed in double qu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Letter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08B083C-FF5B-4D6B-A334-E68ABCE5A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ly, characters are stored a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data in Java is stored as Unicod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code character set can consist of 65536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dividual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ach character takes up 2 bytes 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256 characters in the Unicode character set are compatible with the ASCII* character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Letters2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*American Standard Code for Information Inter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1A781EF-768C-43EE-A89E-FB01432F6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98108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1600200" y="3276720"/>
            <a:ext cx="1676520" cy="761760"/>
            <a:chOff x="1600200" y="3276720"/>
            <a:chExt cx="1676520" cy="761760"/>
          </a:xfrm>
        </p:grpSpPr>
        <p:sp>
          <p:nvSpPr>
            <p:cNvPr id="294" name="Rectangle 5"/>
            <p:cNvSpPr/>
            <p:nvPr/>
          </p:nvSpPr>
          <p:spPr>
            <a:xfrm>
              <a:off x="160020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43864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Line 7"/>
          <p:cNvSpPr/>
          <p:nvPr/>
        </p:nvSpPr>
        <p:spPr>
          <a:xfrm>
            <a:off x="243828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24852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9"/>
          <p:cNvGrpSpPr/>
          <p:nvPr/>
        </p:nvGrpSpPr>
        <p:grpSpPr>
          <a:xfrm>
            <a:off x="5867280" y="3276720"/>
            <a:ext cx="1676520" cy="761760"/>
            <a:chOff x="5867280" y="3276720"/>
            <a:chExt cx="1676520" cy="761760"/>
          </a:xfrm>
        </p:grpSpPr>
        <p:sp>
          <p:nvSpPr>
            <p:cNvPr id="299" name="Rectangle 10"/>
            <p:cNvSpPr/>
            <p:nvPr/>
          </p:nvSpPr>
          <p:spPr>
            <a:xfrm>
              <a:off x="586728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670536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Line 12"/>
          <p:cNvSpPr/>
          <p:nvPr/>
        </p:nvSpPr>
        <p:spPr>
          <a:xfrm>
            <a:off x="670572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18"/>
          <p:cNvGrpSpPr/>
          <p:nvPr/>
        </p:nvGrpSpPr>
        <p:grpSpPr>
          <a:xfrm>
            <a:off x="609480" y="4800600"/>
            <a:ext cx="1828800" cy="380880"/>
            <a:chOff x="609480" y="4800600"/>
            <a:chExt cx="1828800" cy="380880"/>
          </a:xfrm>
        </p:grpSpPr>
        <p:sp>
          <p:nvSpPr>
            <p:cNvPr id="303" name="Rectangle 19"/>
            <p:cNvSpPr/>
            <p:nvPr/>
          </p:nvSpPr>
          <p:spPr>
            <a:xfrm>
              <a:off x="609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20"/>
            <p:cNvSpPr/>
            <p:nvPr/>
          </p:nvSpPr>
          <p:spPr>
            <a:xfrm>
              <a:off x="838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21"/>
            <p:cNvSpPr/>
            <p:nvPr/>
          </p:nvSpPr>
          <p:spPr>
            <a:xfrm>
              <a:off x="1066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22"/>
            <p:cNvSpPr/>
            <p:nvPr/>
          </p:nvSpPr>
          <p:spPr>
            <a:xfrm>
              <a:off x="1295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23"/>
            <p:cNvSpPr/>
            <p:nvPr/>
          </p:nvSpPr>
          <p:spPr>
            <a:xfrm>
              <a:off x="1523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24"/>
            <p:cNvSpPr/>
            <p:nvPr/>
          </p:nvSpPr>
          <p:spPr>
            <a:xfrm>
              <a:off x="1752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25"/>
            <p:cNvSpPr/>
            <p:nvPr/>
          </p:nvSpPr>
          <p:spPr>
            <a:xfrm>
              <a:off x="1981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26"/>
            <p:cNvSpPr/>
            <p:nvPr/>
          </p:nvSpPr>
          <p:spPr>
            <a:xfrm>
              <a:off x="2209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2438280" y="4800600"/>
            <a:ext cx="1828800" cy="380880"/>
            <a:chOff x="2438280" y="4800600"/>
            <a:chExt cx="1828800" cy="380880"/>
          </a:xfrm>
        </p:grpSpPr>
        <p:sp>
          <p:nvSpPr>
            <p:cNvPr id="312" name="Rectangle 28"/>
            <p:cNvSpPr/>
            <p:nvPr/>
          </p:nvSpPr>
          <p:spPr>
            <a:xfrm>
              <a:off x="2438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9"/>
            <p:cNvSpPr/>
            <p:nvPr/>
          </p:nvSpPr>
          <p:spPr>
            <a:xfrm>
              <a:off x="2666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30"/>
            <p:cNvSpPr/>
            <p:nvPr/>
          </p:nvSpPr>
          <p:spPr>
            <a:xfrm>
              <a:off x="2895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3124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32"/>
            <p:cNvSpPr/>
            <p:nvPr/>
          </p:nvSpPr>
          <p:spPr>
            <a:xfrm>
              <a:off x="3352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33"/>
            <p:cNvSpPr/>
            <p:nvPr/>
          </p:nvSpPr>
          <p:spPr>
            <a:xfrm>
              <a:off x="3581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34"/>
            <p:cNvSpPr/>
            <p:nvPr/>
          </p:nvSpPr>
          <p:spPr>
            <a:xfrm>
              <a:off x="4038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35"/>
            <p:cNvSpPr/>
            <p:nvPr/>
          </p:nvSpPr>
          <p:spPr>
            <a:xfrm>
              <a:off x="3809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36"/>
          <p:cNvGrpSpPr/>
          <p:nvPr/>
        </p:nvGrpSpPr>
        <p:grpSpPr>
          <a:xfrm>
            <a:off x="4876920" y="4800600"/>
            <a:ext cx="3657600" cy="380880"/>
            <a:chOff x="4876920" y="4800600"/>
            <a:chExt cx="3657600" cy="380880"/>
          </a:xfrm>
        </p:grpSpPr>
        <p:grpSp>
          <p:nvGrpSpPr>
            <p:cNvPr id="321" name="Group 37"/>
            <p:cNvGrpSpPr/>
            <p:nvPr/>
          </p:nvGrpSpPr>
          <p:grpSpPr>
            <a:xfrm>
              <a:off x="4876920" y="4800600"/>
              <a:ext cx="1828800" cy="380880"/>
              <a:chOff x="4876920" y="4800600"/>
              <a:chExt cx="1828800" cy="380880"/>
            </a:xfrm>
          </p:grpSpPr>
          <p:sp>
            <p:nvSpPr>
              <p:cNvPr id="322" name="Rectangle 38"/>
              <p:cNvSpPr/>
              <p:nvPr/>
            </p:nvSpPr>
            <p:spPr>
              <a:xfrm>
                <a:off x="4876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39"/>
              <p:cNvSpPr/>
              <p:nvPr/>
            </p:nvSpPr>
            <p:spPr>
              <a:xfrm>
                <a:off x="5105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40"/>
              <p:cNvSpPr/>
              <p:nvPr/>
            </p:nvSpPr>
            <p:spPr>
              <a:xfrm>
                <a:off x="5334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41"/>
              <p:cNvSpPr/>
              <p:nvPr/>
            </p:nvSpPr>
            <p:spPr>
              <a:xfrm>
                <a:off x="5562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42"/>
              <p:cNvSpPr/>
              <p:nvPr/>
            </p:nvSpPr>
            <p:spPr>
              <a:xfrm>
                <a:off x="5791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43"/>
              <p:cNvSpPr/>
              <p:nvPr/>
            </p:nvSpPr>
            <p:spPr>
              <a:xfrm>
                <a:off x="6019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44"/>
              <p:cNvSpPr/>
              <p:nvPr/>
            </p:nvSpPr>
            <p:spPr>
              <a:xfrm>
                <a:off x="6248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45"/>
              <p:cNvSpPr/>
              <p:nvPr/>
            </p:nvSpPr>
            <p:spPr>
              <a:xfrm>
                <a:off x="6477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46"/>
            <p:cNvGrpSpPr/>
            <p:nvPr/>
          </p:nvGrpSpPr>
          <p:grpSpPr>
            <a:xfrm>
              <a:off x="6705720" y="4800600"/>
              <a:ext cx="1828800" cy="380880"/>
              <a:chOff x="6705720" y="4800600"/>
              <a:chExt cx="1828800" cy="380880"/>
            </a:xfrm>
          </p:grpSpPr>
          <p:sp>
            <p:nvSpPr>
              <p:cNvPr id="331" name="Rectangle 47"/>
              <p:cNvSpPr/>
              <p:nvPr/>
            </p:nvSpPr>
            <p:spPr>
              <a:xfrm>
                <a:off x="6705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48"/>
              <p:cNvSpPr/>
              <p:nvPr/>
            </p:nvSpPr>
            <p:spPr>
              <a:xfrm>
                <a:off x="6934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49"/>
              <p:cNvSpPr/>
              <p:nvPr/>
            </p:nvSpPr>
            <p:spPr>
              <a:xfrm>
                <a:off x="7162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50"/>
              <p:cNvSpPr/>
              <p:nvPr/>
            </p:nvSpPr>
            <p:spPr>
              <a:xfrm>
                <a:off x="7391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51"/>
              <p:cNvSpPr/>
              <p:nvPr/>
            </p:nvSpPr>
            <p:spPr>
              <a:xfrm>
                <a:off x="7620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52"/>
              <p:cNvSpPr/>
              <p:nvPr/>
            </p:nvSpPr>
            <p:spPr>
              <a:xfrm>
                <a:off x="7848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53"/>
              <p:cNvSpPr/>
              <p:nvPr/>
            </p:nvSpPr>
            <p:spPr>
              <a:xfrm>
                <a:off x="8305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Rectangle 54"/>
              <p:cNvSpPr/>
              <p:nvPr/>
            </p:nvSpPr>
            <p:spPr>
              <a:xfrm>
                <a:off x="8077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AutoShape 74"/>
          <p:cNvSpPr/>
          <p:nvPr/>
        </p:nvSpPr>
        <p:spPr>
          <a:xfrm rot="16200000">
            <a:off x="217152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76"/>
          <p:cNvSpPr/>
          <p:nvPr/>
        </p:nvSpPr>
        <p:spPr>
          <a:xfrm rot="16200000">
            <a:off x="643896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B464AD8-E612-49B3-9B18-C0F9E2B1F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Simple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ile the 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c Simple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 extension i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result in a file nam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e.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ing cr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un the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re is no file extens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assumes the extension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0D15737-1B87-4BF9-9DEE-0AEB00F31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98108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600200" y="3200400"/>
            <a:ext cx="1676520" cy="761760"/>
            <a:chOff x="1600200" y="3200400"/>
            <a:chExt cx="1676520" cy="761760"/>
          </a:xfrm>
        </p:grpSpPr>
        <p:sp>
          <p:nvSpPr>
            <p:cNvPr id="345" name="Rectangle 5"/>
            <p:cNvSpPr/>
            <p:nvPr/>
          </p:nvSpPr>
          <p:spPr>
            <a:xfrm>
              <a:off x="160020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243864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Line 7"/>
          <p:cNvSpPr/>
          <p:nvPr/>
        </p:nvSpPr>
        <p:spPr>
          <a:xfrm>
            <a:off x="243828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624852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9"/>
          <p:cNvGrpSpPr/>
          <p:nvPr/>
        </p:nvGrpSpPr>
        <p:grpSpPr>
          <a:xfrm>
            <a:off x="5867280" y="3200400"/>
            <a:ext cx="1676520" cy="761760"/>
            <a:chOff x="5867280" y="3200400"/>
            <a:chExt cx="1676520" cy="761760"/>
          </a:xfrm>
        </p:grpSpPr>
        <p:sp>
          <p:nvSpPr>
            <p:cNvPr id="350" name="Rectangle 10"/>
            <p:cNvSpPr/>
            <p:nvPr/>
          </p:nvSpPr>
          <p:spPr>
            <a:xfrm>
              <a:off x="586728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11"/>
            <p:cNvSpPr/>
            <p:nvPr/>
          </p:nvSpPr>
          <p:spPr>
            <a:xfrm>
              <a:off x="670536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Line 12"/>
          <p:cNvSpPr/>
          <p:nvPr/>
        </p:nvSpPr>
        <p:spPr>
          <a:xfrm>
            <a:off x="670572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8"/>
          <p:cNvGrpSpPr/>
          <p:nvPr/>
        </p:nvGrpSpPr>
        <p:grpSpPr>
          <a:xfrm>
            <a:off x="609480" y="4724280"/>
            <a:ext cx="1828800" cy="380880"/>
            <a:chOff x="609480" y="4724280"/>
            <a:chExt cx="1828800" cy="380880"/>
          </a:xfrm>
        </p:grpSpPr>
        <p:sp>
          <p:nvSpPr>
            <p:cNvPr id="354" name="Rectangle 19"/>
            <p:cNvSpPr/>
            <p:nvPr/>
          </p:nvSpPr>
          <p:spPr>
            <a:xfrm>
              <a:off x="609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20"/>
            <p:cNvSpPr/>
            <p:nvPr/>
          </p:nvSpPr>
          <p:spPr>
            <a:xfrm>
              <a:off x="838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21"/>
            <p:cNvSpPr/>
            <p:nvPr/>
          </p:nvSpPr>
          <p:spPr>
            <a:xfrm>
              <a:off x="1066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22"/>
            <p:cNvSpPr/>
            <p:nvPr/>
          </p:nvSpPr>
          <p:spPr>
            <a:xfrm>
              <a:off x="1295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3"/>
            <p:cNvSpPr/>
            <p:nvPr/>
          </p:nvSpPr>
          <p:spPr>
            <a:xfrm>
              <a:off x="1523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24"/>
            <p:cNvSpPr/>
            <p:nvPr/>
          </p:nvSpPr>
          <p:spPr>
            <a:xfrm>
              <a:off x="1752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25"/>
            <p:cNvSpPr/>
            <p:nvPr/>
          </p:nvSpPr>
          <p:spPr>
            <a:xfrm>
              <a:off x="1981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26"/>
            <p:cNvSpPr/>
            <p:nvPr/>
          </p:nvSpPr>
          <p:spPr>
            <a:xfrm>
              <a:off x="2209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27"/>
          <p:cNvGrpSpPr/>
          <p:nvPr/>
        </p:nvGrpSpPr>
        <p:grpSpPr>
          <a:xfrm>
            <a:off x="2438280" y="4724280"/>
            <a:ext cx="1828800" cy="380880"/>
            <a:chOff x="2438280" y="4724280"/>
            <a:chExt cx="1828800" cy="380880"/>
          </a:xfrm>
        </p:grpSpPr>
        <p:sp>
          <p:nvSpPr>
            <p:cNvPr id="363" name="Rectangle 28"/>
            <p:cNvSpPr/>
            <p:nvPr/>
          </p:nvSpPr>
          <p:spPr>
            <a:xfrm>
              <a:off x="2438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29"/>
            <p:cNvSpPr/>
            <p:nvPr/>
          </p:nvSpPr>
          <p:spPr>
            <a:xfrm>
              <a:off x="2666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30"/>
            <p:cNvSpPr/>
            <p:nvPr/>
          </p:nvSpPr>
          <p:spPr>
            <a:xfrm>
              <a:off x="2895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31"/>
            <p:cNvSpPr/>
            <p:nvPr/>
          </p:nvSpPr>
          <p:spPr>
            <a:xfrm>
              <a:off x="3124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3352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3581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34"/>
            <p:cNvSpPr/>
            <p:nvPr/>
          </p:nvSpPr>
          <p:spPr>
            <a:xfrm>
              <a:off x="4038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35"/>
            <p:cNvSpPr/>
            <p:nvPr/>
          </p:nvSpPr>
          <p:spPr>
            <a:xfrm>
              <a:off x="3809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36"/>
          <p:cNvGrpSpPr/>
          <p:nvPr/>
        </p:nvGrpSpPr>
        <p:grpSpPr>
          <a:xfrm>
            <a:off x="4876920" y="4724280"/>
            <a:ext cx="3657600" cy="380880"/>
            <a:chOff x="4876920" y="4724280"/>
            <a:chExt cx="3657600" cy="380880"/>
          </a:xfrm>
        </p:grpSpPr>
        <p:grpSp>
          <p:nvGrpSpPr>
            <p:cNvPr id="372" name="Group 37"/>
            <p:cNvGrpSpPr/>
            <p:nvPr/>
          </p:nvGrpSpPr>
          <p:grpSpPr>
            <a:xfrm>
              <a:off x="4876920" y="4724280"/>
              <a:ext cx="1828800" cy="380880"/>
              <a:chOff x="4876920" y="4724280"/>
              <a:chExt cx="1828800" cy="380880"/>
            </a:xfrm>
          </p:grpSpPr>
          <p:sp>
            <p:nvSpPr>
              <p:cNvPr id="373" name="Rectangle 38"/>
              <p:cNvSpPr/>
              <p:nvPr/>
            </p:nvSpPr>
            <p:spPr>
              <a:xfrm>
                <a:off x="4876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Rectangle 39"/>
              <p:cNvSpPr/>
              <p:nvPr/>
            </p:nvSpPr>
            <p:spPr>
              <a:xfrm>
                <a:off x="5105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40"/>
              <p:cNvSpPr/>
              <p:nvPr/>
            </p:nvSpPr>
            <p:spPr>
              <a:xfrm>
                <a:off x="5334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41"/>
              <p:cNvSpPr/>
              <p:nvPr/>
            </p:nvSpPr>
            <p:spPr>
              <a:xfrm>
                <a:off x="5562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Rectangle 42"/>
              <p:cNvSpPr/>
              <p:nvPr/>
            </p:nvSpPr>
            <p:spPr>
              <a:xfrm>
                <a:off x="5791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43"/>
              <p:cNvSpPr/>
              <p:nvPr/>
            </p:nvSpPr>
            <p:spPr>
              <a:xfrm>
                <a:off x="6019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44"/>
              <p:cNvSpPr/>
              <p:nvPr/>
            </p:nvSpPr>
            <p:spPr>
              <a:xfrm>
                <a:off x="6248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45"/>
              <p:cNvSpPr/>
              <p:nvPr/>
            </p:nvSpPr>
            <p:spPr>
              <a:xfrm>
                <a:off x="6477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Group 46"/>
            <p:cNvGrpSpPr/>
            <p:nvPr/>
          </p:nvGrpSpPr>
          <p:grpSpPr>
            <a:xfrm>
              <a:off x="6705720" y="4724280"/>
              <a:ext cx="1828800" cy="380880"/>
              <a:chOff x="6705720" y="4724280"/>
              <a:chExt cx="1828800" cy="380880"/>
            </a:xfrm>
          </p:grpSpPr>
          <p:sp>
            <p:nvSpPr>
              <p:cNvPr id="382" name="Rectangle 47"/>
              <p:cNvSpPr/>
              <p:nvPr/>
            </p:nvSpPr>
            <p:spPr>
              <a:xfrm>
                <a:off x="6705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48"/>
              <p:cNvSpPr/>
              <p:nvPr/>
            </p:nvSpPr>
            <p:spPr>
              <a:xfrm>
                <a:off x="6934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49"/>
              <p:cNvSpPr/>
              <p:nvPr/>
            </p:nvSpPr>
            <p:spPr>
              <a:xfrm>
                <a:off x="7162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50"/>
              <p:cNvSpPr/>
              <p:nvPr/>
            </p:nvSpPr>
            <p:spPr>
              <a:xfrm>
                <a:off x="7391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51"/>
              <p:cNvSpPr/>
              <p:nvPr/>
            </p:nvSpPr>
            <p:spPr>
              <a:xfrm>
                <a:off x="7620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52"/>
              <p:cNvSpPr/>
              <p:nvPr/>
            </p:nvSpPr>
            <p:spPr>
              <a:xfrm>
                <a:off x="7848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53"/>
              <p:cNvSpPr/>
              <p:nvPr/>
            </p:nvSpPr>
            <p:spPr>
              <a:xfrm>
                <a:off x="8305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54"/>
              <p:cNvSpPr/>
              <p:nvPr/>
            </p:nvSpPr>
            <p:spPr>
              <a:xfrm>
                <a:off x="8077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AutoShape 74"/>
          <p:cNvSpPr/>
          <p:nvPr/>
        </p:nvSpPr>
        <p:spPr>
          <a:xfrm rot="16200000">
            <a:off x="217152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76"/>
          <p:cNvSpPr/>
          <p:nvPr/>
        </p:nvSpPr>
        <p:spPr>
          <a:xfrm rot="16200000">
            <a:off x="643896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8"/>
          <p:cNvGrpSpPr/>
          <p:nvPr/>
        </p:nvGrpSpPr>
        <p:grpSpPr>
          <a:xfrm>
            <a:off x="2590920" y="1523880"/>
            <a:ext cx="3962160" cy="2590920"/>
            <a:chOff x="2590920" y="1523880"/>
            <a:chExt cx="3962160" cy="2590920"/>
          </a:xfrm>
        </p:grpSpPr>
        <p:sp>
          <p:nvSpPr>
            <p:cNvPr id="393" name="Text Box 80"/>
            <p:cNvSpPr/>
            <p:nvPr/>
          </p:nvSpPr>
          <p:spPr>
            <a:xfrm>
              <a:off x="3582720" y="1523880"/>
              <a:ext cx="206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haracters 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stored in memory</a:t>
              </a:r>
              <a:br>
                <a:rPr sz="1800"/>
              </a:b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as binary numbe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83"/>
            <p:cNvSpPr/>
            <p:nvPr/>
          </p:nvSpPr>
          <p:spPr>
            <a:xfrm>
              <a:off x="4572000" y="2514600"/>
              <a:ext cx="0" cy="16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84"/>
            <p:cNvSpPr/>
            <p:nvPr/>
          </p:nvSpPr>
          <p:spPr>
            <a:xfrm>
              <a:off x="2590920" y="4114800"/>
              <a:ext cx="3962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CDAC590-E632-4C31-B866-6D300B83C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98108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1600200" y="3200400"/>
            <a:ext cx="1676520" cy="761760"/>
            <a:chOff x="1600200" y="3200400"/>
            <a:chExt cx="1676520" cy="761760"/>
          </a:xfrm>
        </p:grpSpPr>
        <p:sp>
          <p:nvSpPr>
            <p:cNvPr id="400" name="Rectangle 5"/>
            <p:cNvSpPr/>
            <p:nvPr/>
          </p:nvSpPr>
          <p:spPr>
            <a:xfrm>
              <a:off x="160020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6"/>
            <p:cNvSpPr/>
            <p:nvPr/>
          </p:nvSpPr>
          <p:spPr>
            <a:xfrm>
              <a:off x="243864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Line 7"/>
          <p:cNvSpPr/>
          <p:nvPr/>
        </p:nvSpPr>
        <p:spPr>
          <a:xfrm>
            <a:off x="243828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624852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Group 9"/>
          <p:cNvGrpSpPr/>
          <p:nvPr/>
        </p:nvGrpSpPr>
        <p:grpSpPr>
          <a:xfrm>
            <a:off x="5867280" y="3200400"/>
            <a:ext cx="1676520" cy="761760"/>
            <a:chOff x="5867280" y="3200400"/>
            <a:chExt cx="1676520" cy="761760"/>
          </a:xfrm>
        </p:grpSpPr>
        <p:sp>
          <p:nvSpPr>
            <p:cNvPr id="405" name="Rectangle 10"/>
            <p:cNvSpPr/>
            <p:nvPr/>
          </p:nvSpPr>
          <p:spPr>
            <a:xfrm>
              <a:off x="586728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11"/>
            <p:cNvSpPr/>
            <p:nvPr/>
          </p:nvSpPr>
          <p:spPr>
            <a:xfrm>
              <a:off x="670536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Line 12"/>
          <p:cNvSpPr/>
          <p:nvPr/>
        </p:nvSpPr>
        <p:spPr>
          <a:xfrm>
            <a:off x="670572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18"/>
          <p:cNvGrpSpPr/>
          <p:nvPr/>
        </p:nvGrpSpPr>
        <p:grpSpPr>
          <a:xfrm>
            <a:off x="609480" y="4724280"/>
            <a:ext cx="1828800" cy="380880"/>
            <a:chOff x="609480" y="4724280"/>
            <a:chExt cx="1828800" cy="380880"/>
          </a:xfrm>
        </p:grpSpPr>
        <p:sp>
          <p:nvSpPr>
            <p:cNvPr id="409" name="Rectangle 19"/>
            <p:cNvSpPr/>
            <p:nvPr/>
          </p:nvSpPr>
          <p:spPr>
            <a:xfrm>
              <a:off x="609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20"/>
            <p:cNvSpPr/>
            <p:nvPr/>
          </p:nvSpPr>
          <p:spPr>
            <a:xfrm>
              <a:off x="838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1"/>
            <p:cNvSpPr/>
            <p:nvPr/>
          </p:nvSpPr>
          <p:spPr>
            <a:xfrm>
              <a:off x="1066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2"/>
            <p:cNvSpPr/>
            <p:nvPr/>
          </p:nvSpPr>
          <p:spPr>
            <a:xfrm>
              <a:off x="1295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3"/>
            <p:cNvSpPr/>
            <p:nvPr/>
          </p:nvSpPr>
          <p:spPr>
            <a:xfrm>
              <a:off x="1523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24"/>
            <p:cNvSpPr/>
            <p:nvPr/>
          </p:nvSpPr>
          <p:spPr>
            <a:xfrm>
              <a:off x="1752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25"/>
            <p:cNvSpPr/>
            <p:nvPr/>
          </p:nvSpPr>
          <p:spPr>
            <a:xfrm>
              <a:off x="1981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26"/>
            <p:cNvSpPr/>
            <p:nvPr/>
          </p:nvSpPr>
          <p:spPr>
            <a:xfrm>
              <a:off x="2209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27"/>
          <p:cNvGrpSpPr/>
          <p:nvPr/>
        </p:nvGrpSpPr>
        <p:grpSpPr>
          <a:xfrm>
            <a:off x="2438280" y="4724280"/>
            <a:ext cx="1828800" cy="380880"/>
            <a:chOff x="2438280" y="4724280"/>
            <a:chExt cx="1828800" cy="380880"/>
          </a:xfrm>
        </p:grpSpPr>
        <p:sp>
          <p:nvSpPr>
            <p:cNvPr id="418" name="Rectangle 28"/>
            <p:cNvSpPr/>
            <p:nvPr/>
          </p:nvSpPr>
          <p:spPr>
            <a:xfrm>
              <a:off x="2438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29"/>
            <p:cNvSpPr/>
            <p:nvPr/>
          </p:nvSpPr>
          <p:spPr>
            <a:xfrm>
              <a:off x="2666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30"/>
            <p:cNvSpPr/>
            <p:nvPr/>
          </p:nvSpPr>
          <p:spPr>
            <a:xfrm>
              <a:off x="2895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1"/>
            <p:cNvSpPr/>
            <p:nvPr/>
          </p:nvSpPr>
          <p:spPr>
            <a:xfrm>
              <a:off x="3124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2"/>
            <p:cNvSpPr/>
            <p:nvPr/>
          </p:nvSpPr>
          <p:spPr>
            <a:xfrm>
              <a:off x="3352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33"/>
            <p:cNvSpPr/>
            <p:nvPr/>
          </p:nvSpPr>
          <p:spPr>
            <a:xfrm>
              <a:off x="3581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34"/>
            <p:cNvSpPr/>
            <p:nvPr/>
          </p:nvSpPr>
          <p:spPr>
            <a:xfrm>
              <a:off x="4038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35"/>
            <p:cNvSpPr/>
            <p:nvPr/>
          </p:nvSpPr>
          <p:spPr>
            <a:xfrm>
              <a:off x="3809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36"/>
          <p:cNvGrpSpPr/>
          <p:nvPr/>
        </p:nvGrpSpPr>
        <p:grpSpPr>
          <a:xfrm>
            <a:off x="4876920" y="4724280"/>
            <a:ext cx="3657600" cy="380880"/>
            <a:chOff x="4876920" y="4724280"/>
            <a:chExt cx="3657600" cy="380880"/>
          </a:xfrm>
        </p:grpSpPr>
        <p:grpSp>
          <p:nvGrpSpPr>
            <p:cNvPr id="427" name="Group 37"/>
            <p:cNvGrpSpPr/>
            <p:nvPr/>
          </p:nvGrpSpPr>
          <p:grpSpPr>
            <a:xfrm>
              <a:off x="4876920" y="4724280"/>
              <a:ext cx="1828800" cy="380880"/>
              <a:chOff x="4876920" y="4724280"/>
              <a:chExt cx="1828800" cy="380880"/>
            </a:xfrm>
          </p:grpSpPr>
          <p:sp>
            <p:nvSpPr>
              <p:cNvPr id="428" name="Rectangle 38"/>
              <p:cNvSpPr/>
              <p:nvPr/>
            </p:nvSpPr>
            <p:spPr>
              <a:xfrm>
                <a:off x="4876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39"/>
              <p:cNvSpPr/>
              <p:nvPr/>
            </p:nvSpPr>
            <p:spPr>
              <a:xfrm>
                <a:off x="5105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40"/>
              <p:cNvSpPr/>
              <p:nvPr/>
            </p:nvSpPr>
            <p:spPr>
              <a:xfrm>
                <a:off x="5334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41"/>
              <p:cNvSpPr/>
              <p:nvPr/>
            </p:nvSpPr>
            <p:spPr>
              <a:xfrm>
                <a:off x="5562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42"/>
              <p:cNvSpPr/>
              <p:nvPr/>
            </p:nvSpPr>
            <p:spPr>
              <a:xfrm>
                <a:off x="5791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43"/>
              <p:cNvSpPr/>
              <p:nvPr/>
            </p:nvSpPr>
            <p:spPr>
              <a:xfrm>
                <a:off x="6019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44"/>
              <p:cNvSpPr/>
              <p:nvPr/>
            </p:nvSpPr>
            <p:spPr>
              <a:xfrm>
                <a:off x="6248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Rectangle 45"/>
              <p:cNvSpPr/>
              <p:nvPr/>
            </p:nvSpPr>
            <p:spPr>
              <a:xfrm>
                <a:off x="6477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Group 46"/>
            <p:cNvGrpSpPr/>
            <p:nvPr/>
          </p:nvGrpSpPr>
          <p:grpSpPr>
            <a:xfrm>
              <a:off x="6705720" y="4724280"/>
              <a:ext cx="1828800" cy="380880"/>
              <a:chOff x="6705720" y="4724280"/>
              <a:chExt cx="1828800" cy="380880"/>
            </a:xfrm>
          </p:grpSpPr>
          <p:sp>
            <p:nvSpPr>
              <p:cNvPr id="437" name="Rectangle 47"/>
              <p:cNvSpPr/>
              <p:nvPr/>
            </p:nvSpPr>
            <p:spPr>
              <a:xfrm>
                <a:off x="6705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Rectangle 48"/>
              <p:cNvSpPr/>
              <p:nvPr/>
            </p:nvSpPr>
            <p:spPr>
              <a:xfrm>
                <a:off x="6934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49"/>
              <p:cNvSpPr/>
              <p:nvPr/>
            </p:nvSpPr>
            <p:spPr>
              <a:xfrm>
                <a:off x="7162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50"/>
              <p:cNvSpPr/>
              <p:nvPr/>
            </p:nvSpPr>
            <p:spPr>
              <a:xfrm>
                <a:off x="7391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Rectangle 51"/>
              <p:cNvSpPr/>
              <p:nvPr/>
            </p:nvSpPr>
            <p:spPr>
              <a:xfrm>
                <a:off x="7620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52"/>
              <p:cNvSpPr/>
              <p:nvPr/>
            </p:nvSpPr>
            <p:spPr>
              <a:xfrm>
                <a:off x="7848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53"/>
              <p:cNvSpPr/>
              <p:nvPr/>
            </p:nvSpPr>
            <p:spPr>
              <a:xfrm>
                <a:off x="8305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54"/>
              <p:cNvSpPr/>
              <p:nvPr/>
            </p:nvSpPr>
            <p:spPr>
              <a:xfrm>
                <a:off x="8077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AutoShape 74"/>
          <p:cNvSpPr/>
          <p:nvPr/>
        </p:nvSpPr>
        <p:spPr>
          <a:xfrm rot="16200000">
            <a:off x="217152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76"/>
          <p:cNvSpPr/>
          <p:nvPr/>
        </p:nvSpPr>
        <p:spPr>
          <a:xfrm rot="16200000">
            <a:off x="643896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85"/>
          <p:cNvGrpSpPr/>
          <p:nvPr/>
        </p:nvGrpSpPr>
        <p:grpSpPr>
          <a:xfrm>
            <a:off x="3352680" y="1600200"/>
            <a:ext cx="2438640" cy="1981080"/>
            <a:chOff x="3352680" y="1600200"/>
            <a:chExt cx="2438640" cy="1981080"/>
          </a:xfrm>
        </p:grpSpPr>
        <p:sp>
          <p:nvSpPr>
            <p:cNvPr id="448" name="Text Box 78"/>
            <p:cNvSpPr/>
            <p:nvPr/>
          </p:nvSpPr>
          <p:spPr>
            <a:xfrm>
              <a:off x="3506760" y="1600200"/>
              <a:ext cx="2187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The binary num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represent th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decimal valu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2"/>
            <p:cNvSpPr/>
            <p:nvPr/>
          </p:nvSpPr>
          <p:spPr>
            <a:xfrm>
              <a:off x="4572000" y="2514600"/>
              <a:ext cx="0" cy="10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3"/>
            <p:cNvSpPr/>
            <p:nvPr/>
          </p:nvSpPr>
          <p:spPr>
            <a:xfrm>
              <a:off x="3352680" y="3581280"/>
              <a:ext cx="2438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D76E2FB-C044-46D1-A356-D993776F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198108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4"/>
          <p:cNvGrpSpPr/>
          <p:nvPr/>
        </p:nvGrpSpPr>
        <p:grpSpPr>
          <a:xfrm>
            <a:off x="1600200" y="3276720"/>
            <a:ext cx="1676520" cy="761760"/>
            <a:chOff x="1600200" y="3276720"/>
            <a:chExt cx="1676520" cy="761760"/>
          </a:xfrm>
        </p:grpSpPr>
        <p:sp>
          <p:nvSpPr>
            <p:cNvPr id="455" name="Rectangle 5"/>
            <p:cNvSpPr/>
            <p:nvPr/>
          </p:nvSpPr>
          <p:spPr>
            <a:xfrm>
              <a:off x="160020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6"/>
            <p:cNvSpPr/>
            <p:nvPr/>
          </p:nvSpPr>
          <p:spPr>
            <a:xfrm>
              <a:off x="243864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Line 7"/>
          <p:cNvSpPr/>
          <p:nvPr/>
        </p:nvSpPr>
        <p:spPr>
          <a:xfrm>
            <a:off x="243828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624852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9"/>
          <p:cNvGrpSpPr/>
          <p:nvPr/>
        </p:nvGrpSpPr>
        <p:grpSpPr>
          <a:xfrm>
            <a:off x="5867280" y="3276720"/>
            <a:ext cx="1676520" cy="761760"/>
            <a:chOff x="5867280" y="3276720"/>
            <a:chExt cx="1676520" cy="761760"/>
          </a:xfrm>
        </p:grpSpPr>
        <p:sp>
          <p:nvSpPr>
            <p:cNvPr id="460" name="Rectangle 10"/>
            <p:cNvSpPr/>
            <p:nvPr/>
          </p:nvSpPr>
          <p:spPr>
            <a:xfrm>
              <a:off x="586728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1"/>
            <p:cNvSpPr/>
            <p:nvPr/>
          </p:nvSpPr>
          <p:spPr>
            <a:xfrm>
              <a:off x="670536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Line 12"/>
          <p:cNvSpPr/>
          <p:nvPr/>
        </p:nvSpPr>
        <p:spPr>
          <a:xfrm>
            <a:off x="670572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18"/>
          <p:cNvGrpSpPr/>
          <p:nvPr/>
        </p:nvGrpSpPr>
        <p:grpSpPr>
          <a:xfrm>
            <a:off x="609480" y="4800600"/>
            <a:ext cx="1828800" cy="380880"/>
            <a:chOff x="609480" y="4800600"/>
            <a:chExt cx="1828800" cy="380880"/>
          </a:xfrm>
        </p:grpSpPr>
        <p:sp>
          <p:nvSpPr>
            <p:cNvPr id="464" name="Rectangle 19"/>
            <p:cNvSpPr/>
            <p:nvPr/>
          </p:nvSpPr>
          <p:spPr>
            <a:xfrm>
              <a:off x="609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20"/>
            <p:cNvSpPr/>
            <p:nvPr/>
          </p:nvSpPr>
          <p:spPr>
            <a:xfrm>
              <a:off x="838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21"/>
            <p:cNvSpPr/>
            <p:nvPr/>
          </p:nvSpPr>
          <p:spPr>
            <a:xfrm>
              <a:off x="1066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22"/>
            <p:cNvSpPr/>
            <p:nvPr/>
          </p:nvSpPr>
          <p:spPr>
            <a:xfrm>
              <a:off x="1295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23"/>
            <p:cNvSpPr/>
            <p:nvPr/>
          </p:nvSpPr>
          <p:spPr>
            <a:xfrm>
              <a:off x="1523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24"/>
            <p:cNvSpPr/>
            <p:nvPr/>
          </p:nvSpPr>
          <p:spPr>
            <a:xfrm>
              <a:off x="1752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25"/>
            <p:cNvSpPr/>
            <p:nvPr/>
          </p:nvSpPr>
          <p:spPr>
            <a:xfrm>
              <a:off x="1981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26"/>
            <p:cNvSpPr/>
            <p:nvPr/>
          </p:nvSpPr>
          <p:spPr>
            <a:xfrm>
              <a:off x="2209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Group 27"/>
          <p:cNvGrpSpPr/>
          <p:nvPr/>
        </p:nvGrpSpPr>
        <p:grpSpPr>
          <a:xfrm>
            <a:off x="2438280" y="4800600"/>
            <a:ext cx="1828800" cy="380880"/>
            <a:chOff x="2438280" y="4800600"/>
            <a:chExt cx="1828800" cy="380880"/>
          </a:xfrm>
        </p:grpSpPr>
        <p:sp>
          <p:nvSpPr>
            <p:cNvPr id="473" name="Rectangle 28"/>
            <p:cNvSpPr/>
            <p:nvPr/>
          </p:nvSpPr>
          <p:spPr>
            <a:xfrm>
              <a:off x="2438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29"/>
            <p:cNvSpPr/>
            <p:nvPr/>
          </p:nvSpPr>
          <p:spPr>
            <a:xfrm>
              <a:off x="2666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30"/>
            <p:cNvSpPr/>
            <p:nvPr/>
          </p:nvSpPr>
          <p:spPr>
            <a:xfrm>
              <a:off x="2895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31"/>
            <p:cNvSpPr/>
            <p:nvPr/>
          </p:nvSpPr>
          <p:spPr>
            <a:xfrm>
              <a:off x="3124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32"/>
            <p:cNvSpPr/>
            <p:nvPr/>
          </p:nvSpPr>
          <p:spPr>
            <a:xfrm>
              <a:off x="3352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33"/>
            <p:cNvSpPr/>
            <p:nvPr/>
          </p:nvSpPr>
          <p:spPr>
            <a:xfrm>
              <a:off x="3581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34"/>
            <p:cNvSpPr/>
            <p:nvPr/>
          </p:nvSpPr>
          <p:spPr>
            <a:xfrm>
              <a:off x="4038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35"/>
            <p:cNvSpPr/>
            <p:nvPr/>
          </p:nvSpPr>
          <p:spPr>
            <a:xfrm>
              <a:off x="3809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36"/>
          <p:cNvGrpSpPr/>
          <p:nvPr/>
        </p:nvGrpSpPr>
        <p:grpSpPr>
          <a:xfrm>
            <a:off x="4876920" y="4800600"/>
            <a:ext cx="3657600" cy="380880"/>
            <a:chOff x="4876920" y="4800600"/>
            <a:chExt cx="3657600" cy="380880"/>
          </a:xfrm>
        </p:grpSpPr>
        <p:grpSp>
          <p:nvGrpSpPr>
            <p:cNvPr id="482" name="Group 37"/>
            <p:cNvGrpSpPr/>
            <p:nvPr/>
          </p:nvGrpSpPr>
          <p:grpSpPr>
            <a:xfrm>
              <a:off x="4876920" y="4800600"/>
              <a:ext cx="1828800" cy="380880"/>
              <a:chOff x="4876920" y="4800600"/>
              <a:chExt cx="1828800" cy="380880"/>
            </a:xfrm>
          </p:grpSpPr>
          <p:sp>
            <p:nvSpPr>
              <p:cNvPr id="483" name="Rectangle 38"/>
              <p:cNvSpPr/>
              <p:nvPr/>
            </p:nvSpPr>
            <p:spPr>
              <a:xfrm>
                <a:off x="4876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39"/>
              <p:cNvSpPr/>
              <p:nvPr/>
            </p:nvSpPr>
            <p:spPr>
              <a:xfrm>
                <a:off x="5105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40"/>
              <p:cNvSpPr/>
              <p:nvPr/>
            </p:nvSpPr>
            <p:spPr>
              <a:xfrm>
                <a:off x="5334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Rectangle 41"/>
              <p:cNvSpPr/>
              <p:nvPr/>
            </p:nvSpPr>
            <p:spPr>
              <a:xfrm>
                <a:off x="5562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42"/>
              <p:cNvSpPr/>
              <p:nvPr/>
            </p:nvSpPr>
            <p:spPr>
              <a:xfrm>
                <a:off x="5791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43"/>
              <p:cNvSpPr/>
              <p:nvPr/>
            </p:nvSpPr>
            <p:spPr>
              <a:xfrm>
                <a:off x="6019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Rectangle 44"/>
              <p:cNvSpPr/>
              <p:nvPr/>
            </p:nvSpPr>
            <p:spPr>
              <a:xfrm>
                <a:off x="6248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45"/>
              <p:cNvSpPr/>
              <p:nvPr/>
            </p:nvSpPr>
            <p:spPr>
              <a:xfrm>
                <a:off x="6477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46"/>
            <p:cNvGrpSpPr/>
            <p:nvPr/>
          </p:nvGrpSpPr>
          <p:grpSpPr>
            <a:xfrm>
              <a:off x="6705720" y="4800600"/>
              <a:ext cx="1828800" cy="380880"/>
              <a:chOff x="6705720" y="4800600"/>
              <a:chExt cx="1828800" cy="380880"/>
            </a:xfrm>
          </p:grpSpPr>
          <p:sp>
            <p:nvSpPr>
              <p:cNvPr id="492" name="Rectangle 47"/>
              <p:cNvSpPr/>
              <p:nvPr/>
            </p:nvSpPr>
            <p:spPr>
              <a:xfrm>
                <a:off x="6705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48"/>
              <p:cNvSpPr/>
              <p:nvPr/>
            </p:nvSpPr>
            <p:spPr>
              <a:xfrm>
                <a:off x="6934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49"/>
              <p:cNvSpPr/>
              <p:nvPr/>
            </p:nvSpPr>
            <p:spPr>
              <a:xfrm>
                <a:off x="7162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Rectangle 50"/>
              <p:cNvSpPr/>
              <p:nvPr/>
            </p:nvSpPr>
            <p:spPr>
              <a:xfrm>
                <a:off x="7391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51"/>
              <p:cNvSpPr/>
              <p:nvPr/>
            </p:nvSpPr>
            <p:spPr>
              <a:xfrm>
                <a:off x="7620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52"/>
              <p:cNvSpPr/>
              <p:nvPr/>
            </p:nvSpPr>
            <p:spPr>
              <a:xfrm>
                <a:off x="7848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53"/>
              <p:cNvSpPr/>
              <p:nvPr/>
            </p:nvSpPr>
            <p:spPr>
              <a:xfrm>
                <a:off x="8305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54"/>
              <p:cNvSpPr/>
              <p:nvPr/>
            </p:nvSpPr>
            <p:spPr>
              <a:xfrm>
                <a:off x="8077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0" name="AutoShape 74"/>
          <p:cNvSpPr/>
          <p:nvPr/>
        </p:nvSpPr>
        <p:spPr>
          <a:xfrm rot="16200000">
            <a:off x="217152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76"/>
          <p:cNvSpPr/>
          <p:nvPr/>
        </p:nvSpPr>
        <p:spPr>
          <a:xfrm rot="16200000">
            <a:off x="643896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86"/>
          <p:cNvGrpSpPr/>
          <p:nvPr/>
        </p:nvGrpSpPr>
        <p:grpSpPr>
          <a:xfrm>
            <a:off x="3352680" y="2057400"/>
            <a:ext cx="2438640" cy="2059920"/>
            <a:chOff x="3352680" y="2057400"/>
            <a:chExt cx="2438640" cy="2059920"/>
          </a:xfrm>
        </p:grpSpPr>
        <p:sp>
          <p:nvSpPr>
            <p:cNvPr id="503" name="Text Box 79"/>
            <p:cNvSpPr/>
            <p:nvPr/>
          </p:nvSpPr>
          <p:spPr>
            <a:xfrm>
              <a:off x="3581640" y="3200400"/>
              <a:ext cx="205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The decimal val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represent th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haracte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84"/>
            <p:cNvSpPr/>
            <p:nvPr/>
          </p:nvSpPr>
          <p:spPr>
            <a:xfrm>
              <a:off x="4572000" y="2057400"/>
              <a:ext cx="0" cy="10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85"/>
            <p:cNvSpPr/>
            <p:nvPr/>
          </p:nvSpPr>
          <p:spPr>
            <a:xfrm>
              <a:off x="3352680" y="2057400"/>
              <a:ext cx="2438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2B52C5C-8526-4019-8635-3BF3250D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store a value in a variable,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signmen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signment op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qual (=) 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erand on the left side of the assignment operator must be a variable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erand on the right side must be either a literal or expression that evaluates to a type that is compatible with the type of the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6BD98C0-0F9D-4DB5-A88D-E36084C44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This program shows variable assignmen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int month, day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month = 2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days = 28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Month " + month + " has "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days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761400" y="5486400"/>
            <a:ext cx="74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variables must be declared before they can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4C0BF0A-63BB-4545-9E53-9C3AC4251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This program shows variable assignmen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int month, day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month = 2;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days = 28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nth " + month + " has "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days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757080" y="4724280"/>
            <a:ext cx="79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nce declared, they can then receive a value (initializa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owever the value must be compatible with the variabl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clared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5CDADFB-E961-446E-8E46-20BBFC7D8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This program shows variable assignmen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int month, day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month = 2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days = 28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Month " +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has "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ay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760680" y="5197320"/>
            <a:ext cx="752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fter receiving a value, the variables can then be us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utput statements or in other calc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BB7E629-D0BB-455B-AF40-591BF7A4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This program shows variable initializa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int month = 2, days = 2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Month " + month + " has "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days + " Days.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760680" y="48769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ocal variables can be declared and initializ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C7AAD49-080F-4955-BAE1-F21E99381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can only hold one value at a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 do not receive a default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 must have a valid type in order to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 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int month, days; //No value give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nth " +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has "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ay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rying to use uninitialized variables will generate a Syntax Error when the code is compi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E1E844A-DF30-4CD6-A100-D46A13FA8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ithmetic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five (5) arithmetic op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457200" y="2057400"/>
          <a:ext cx="8381880" cy="4191120"/>
        </p:xfrm>
        <a:graphic>
          <a:graphicData uri="http://schemas.openxmlformats.org/drawingml/2006/table">
            <a:tbl>
              <a:tblPr/>
              <a:tblGrid>
                <a:gridCol w="1447920"/>
                <a:gridCol w="1974600"/>
                <a:gridCol w="1257480"/>
                <a:gridCol w="3701880"/>
              </a:tblGrid>
              <a:tr h="69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Oper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total = cost + tax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ost = total – tax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tax = cost * rate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salePrice = original / 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du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remainder = value % 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18B8BB8-B7DC-41BB-B94E-034355AC2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762120" y="247644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Sim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95280" y="3086280"/>
            <a:ext cx="5452200" cy="2209680"/>
            <a:chOff x="1295280" y="3086280"/>
            <a:chExt cx="5452200" cy="2209680"/>
          </a:xfrm>
        </p:grpSpPr>
        <p:sp>
          <p:nvSpPr>
            <p:cNvPr id="109" name="Text Box 10"/>
            <p:cNvSpPr/>
            <p:nvPr/>
          </p:nvSpPr>
          <p:spPr>
            <a:xfrm>
              <a:off x="2130480" y="3619800"/>
              <a:ext cx="4617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area is the body of the class Simp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ll of the data and methods for this class</a:t>
              </a:r>
              <a:br>
                <a:rPr sz="2000"/>
              </a:b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will be between these curly brac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14"/>
            <p:cNvSpPr/>
            <p:nvPr/>
          </p:nvSpPr>
          <p:spPr>
            <a:xfrm>
              <a:off x="1295280" y="3086280"/>
              <a:ext cx="762120" cy="2209680"/>
            </a:xfrm>
            <a:custGeom>
              <a:avLst/>
              <a:gdLst>
                <a:gd name="textAreaLeft" fmla="*/ 0 w 762120"/>
                <a:gd name="textAreaRight" fmla="*/ 275040 w 76212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ing Th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59600" y="179064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is is a simpl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22"/>
          <p:cNvGrpSpPr/>
          <p:nvPr/>
        </p:nvGrpSpPr>
        <p:grpSpPr>
          <a:xfrm>
            <a:off x="4876920" y="1714680"/>
            <a:ext cx="4038120" cy="642600"/>
            <a:chOff x="4876920" y="1714680"/>
            <a:chExt cx="4038120" cy="642600"/>
          </a:xfrm>
        </p:grpSpPr>
        <p:sp>
          <p:nvSpPr>
            <p:cNvPr id="114" name="Text Box 4"/>
            <p:cNvSpPr/>
            <p:nvPr/>
          </p:nvSpPr>
          <p:spPr>
            <a:xfrm>
              <a:off x="5670000" y="1714680"/>
              <a:ext cx="32450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This is a Java comment. It is ignored by the compil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6"/>
            <p:cNvSpPr/>
            <p:nvPr/>
          </p:nvSpPr>
          <p:spPr>
            <a:xfrm>
              <a:off x="4876920" y="1866600"/>
              <a:ext cx="793080" cy="304560"/>
            </a:xfrm>
            <a:prstGeom prst="leftArrow">
              <a:avLst>
                <a:gd name="adj1" fmla="val 50000"/>
                <a:gd name="adj2" fmla="val 651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3429000" y="2400480"/>
            <a:ext cx="4973400" cy="703800"/>
            <a:chOff x="3429000" y="2400480"/>
            <a:chExt cx="4973400" cy="703800"/>
          </a:xfrm>
        </p:grpSpPr>
        <p:sp>
          <p:nvSpPr>
            <p:cNvPr id="117" name="Text Box 11"/>
            <p:cNvSpPr/>
            <p:nvPr/>
          </p:nvSpPr>
          <p:spPr>
            <a:xfrm>
              <a:off x="5717880" y="2400480"/>
              <a:ext cx="26845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is the class header</a:t>
              </a:r>
              <a:br>
                <a:rPr sz="2000"/>
              </a:b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for the class 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12"/>
            <p:cNvSpPr/>
            <p:nvPr/>
          </p:nvSpPr>
          <p:spPr>
            <a:xfrm>
              <a:off x="3429000" y="2628720"/>
              <a:ext cx="2209680" cy="304560"/>
            </a:xfrm>
            <a:prstGeom prst="leftArrow">
              <a:avLst>
                <a:gd name="adj1" fmla="val 50000"/>
                <a:gd name="adj2" fmla="val 18138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124C5CF-426F-4FC8-8330-522AE9356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ithmetic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rators are called binary operators because they must have two oper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perator must have a left and right op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Wage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ithmetic operators work as one would ex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n error to try to divide any number by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orking with two integer operands, the division operator requires special att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C669DB7-C8D2-45DA-8369-3B313F48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er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can be tr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 a Java program, what is the value of 1/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ight think the answer is 0.5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that’s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is simply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division will truncate any decimal remai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5935B3E-C7D7-40AA-8794-71B20A9E8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or Prece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expressions can be very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set order in which arithmetic operations will be carrie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066680" y="3733920"/>
          <a:ext cx="7772400" cy="2187360"/>
        </p:xfrm>
        <a:graphic>
          <a:graphicData uri="http://schemas.openxmlformats.org/drawingml/2006/table">
            <a:tbl>
              <a:tblPr/>
              <a:tblGrid>
                <a:gridCol w="1903680"/>
                <a:gridCol w="1677960"/>
                <a:gridCol w="3276360"/>
                <a:gridCol w="914400"/>
              </a:tblGrid>
              <a:tr h="494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p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ssocia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-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unary neg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ight to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x = -4 + 3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* /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ft to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x = -4 + 4 % 3 * 13 + 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ft to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x = 6 + 3 – 4 + 6 * 3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Text Box 56"/>
          <p:cNvSpPr/>
          <p:nvPr/>
        </p:nvSpPr>
        <p:spPr>
          <a:xfrm>
            <a:off x="152640" y="426708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7"/>
          <p:cNvSpPr/>
          <p:nvPr/>
        </p:nvSpPr>
        <p:spPr>
          <a:xfrm>
            <a:off x="152640" y="525780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78C75DA-081A-4900-99EE-A23808A51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ing with Pare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3392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arenthesis are used in an expression, the inner most parenthesis are processed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sets of parenthesis are at the same level, they are processed left to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((4*5) / (5-2) ) – 25;  // result = -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20"/>
          <p:cNvGrpSpPr/>
          <p:nvPr/>
        </p:nvGrpSpPr>
        <p:grpSpPr>
          <a:xfrm>
            <a:off x="1447920" y="3716280"/>
            <a:ext cx="3124080" cy="2610720"/>
            <a:chOff x="1447920" y="3716280"/>
            <a:chExt cx="3124080" cy="2610720"/>
          </a:xfrm>
        </p:grpSpPr>
        <p:sp>
          <p:nvSpPr>
            <p:cNvPr id="548" name="AutoShape 4"/>
            <p:cNvSpPr/>
            <p:nvPr/>
          </p:nvSpPr>
          <p:spPr>
            <a:xfrm rot="5400000">
              <a:off x="1774800" y="4640400"/>
              <a:ext cx="247680" cy="574560"/>
            </a:xfrm>
            <a:custGeom>
              <a:avLst/>
              <a:gdLst>
                <a:gd name="textAreaLeft" fmla="*/ 0 w 247680"/>
                <a:gd name="textAreaRight" fmla="*/ 89280 w 247680"/>
                <a:gd name="textAreaTop" fmla="*/ 26640 h 574560"/>
                <a:gd name="textAreaBottom" fmla="*/ 547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0"/>
                    <a:pt x="10800" y="3199"/>
                  </a:cubicBezTo>
                  <a:lnTo>
                    <a:pt x="10800" y="7601"/>
                  </a:lnTo>
                  <a:cubicBezTo>
                    <a:pt x="10800" y="9201"/>
                    <a:pt x="16200" y="10800"/>
                    <a:pt x="21600" y="10800"/>
                  </a:cubicBezTo>
                  <a:cubicBezTo>
                    <a:pt x="16200" y="10800"/>
                    <a:pt x="10800" y="12400"/>
                    <a:pt x="10800" y="13999"/>
                  </a:cubicBezTo>
                  <a:lnTo>
                    <a:pt x="10800" y="18401"/>
                  </a:lnTo>
                  <a:cubicBezTo>
                    <a:pt x="10800" y="200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7"/>
            <p:cNvSpPr/>
            <p:nvPr/>
          </p:nvSpPr>
          <p:spPr>
            <a:xfrm>
              <a:off x="1731960" y="5008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6"/>
            <p:cNvSpPr/>
            <p:nvPr/>
          </p:nvSpPr>
          <p:spPr>
            <a:xfrm flipV="1" rot="16200000">
              <a:off x="2400120" y="3240720"/>
              <a:ext cx="304920" cy="2209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4880 h 2209680"/>
                <a:gd name="textAreaBottom" fmla="*/ 21348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72"/>
                    <a:pt x="10800" y="2343"/>
                  </a:cubicBezTo>
                  <a:lnTo>
                    <a:pt x="10800" y="8565"/>
                  </a:lnTo>
                  <a:cubicBezTo>
                    <a:pt x="10800" y="9737"/>
                    <a:pt x="16200" y="10908"/>
                    <a:pt x="21600" y="10908"/>
                  </a:cubicBezTo>
                  <a:cubicBezTo>
                    <a:pt x="16200" y="10908"/>
                    <a:pt x="10800" y="12080"/>
                    <a:pt x="10800" y="13251"/>
                  </a:cubicBezTo>
                  <a:lnTo>
                    <a:pt x="10800" y="19257"/>
                  </a:lnTo>
                  <a:cubicBezTo>
                    <a:pt x="10800" y="20429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9"/>
            <p:cNvSpPr/>
            <p:nvPr/>
          </p:nvSpPr>
          <p:spPr>
            <a:xfrm>
              <a:off x="2384280" y="3716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10"/>
            <p:cNvSpPr/>
            <p:nvPr/>
          </p:nvSpPr>
          <p:spPr>
            <a:xfrm rot="5400000">
              <a:off x="2640960" y="3936240"/>
              <a:ext cx="761760" cy="3100320"/>
            </a:xfrm>
            <a:custGeom>
              <a:avLst/>
              <a:gdLst>
                <a:gd name="textAreaLeft" fmla="*/ 0 w 761760"/>
                <a:gd name="textAreaRight" fmla="*/ 275040 w 761760"/>
                <a:gd name="textAreaTop" fmla="*/ 105120 h 3100320"/>
                <a:gd name="textAreaBottom" fmla="*/ 2995200 h 31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72"/>
                    <a:pt x="10800" y="2343"/>
                  </a:cubicBezTo>
                  <a:lnTo>
                    <a:pt x="10800" y="8565"/>
                  </a:lnTo>
                  <a:cubicBezTo>
                    <a:pt x="10800" y="9737"/>
                    <a:pt x="16200" y="10908"/>
                    <a:pt x="21600" y="10908"/>
                  </a:cubicBezTo>
                  <a:cubicBezTo>
                    <a:pt x="16200" y="10908"/>
                    <a:pt x="10800" y="12080"/>
                    <a:pt x="10800" y="13251"/>
                  </a:cubicBezTo>
                  <a:lnTo>
                    <a:pt x="10800" y="19257"/>
                  </a:lnTo>
                  <a:cubicBezTo>
                    <a:pt x="10800" y="20429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1"/>
            <p:cNvSpPr/>
            <p:nvPr/>
          </p:nvSpPr>
          <p:spPr>
            <a:xfrm>
              <a:off x="2824200" y="5867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8"/>
            <p:cNvSpPr/>
            <p:nvPr/>
          </p:nvSpPr>
          <p:spPr>
            <a:xfrm>
              <a:off x="2976480" y="5008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AutoShape 17"/>
            <p:cNvSpPr/>
            <p:nvPr/>
          </p:nvSpPr>
          <p:spPr>
            <a:xfrm rot="5400000">
              <a:off x="2995560" y="4640400"/>
              <a:ext cx="247680" cy="574560"/>
            </a:xfrm>
            <a:custGeom>
              <a:avLst/>
              <a:gdLst>
                <a:gd name="textAreaLeft" fmla="*/ 0 w 247680"/>
                <a:gd name="textAreaRight" fmla="*/ 89280 w 247680"/>
                <a:gd name="textAreaTop" fmla="*/ 26640 h 574560"/>
                <a:gd name="textAreaBottom" fmla="*/ 547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0"/>
                    <a:pt x="10800" y="3199"/>
                  </a:cubicBezTo>
                  <a:lnTo>
                    <a:pt x="10800" y="7601"/>
                  </a:lnTo>
                  <a:cubicBezTo>
                    <a:pt x="10800" y="9201"/>
                    <a:pt x="16200" y="10800"/>
                    <a:pt x="21600" y="10800"/>
                  </a:cubicBezTo>
                  <a:cubicBezTo>
                    <a:pt x="16200" y="10800"/>
                    <a:pt x="10800" y="12400"/>
                    <a:pt x="10800" y="13999"/>
                  </a:cubicBezTo>
                  <a:lnTo>
                    <a:pt x="10800" y="18401"/>
                  </a:lnTo>
                  <a:cubicBezTo>
                    <a:pt x="10800" y="200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4696F6B-9A51-434D-ADA5-B16017ABE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Assignment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some combined assignment op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operators allow the programmer to perform an arithmetic operation and assignment with a single op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not required, these operators are popular since they shorten simple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F8504A5-E9D2-4796-B521-451203B67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Assignment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1295280"/>
                <a:gridCol w="1549440"/>
                <a:gridCol w="1955880"/>
                <a:gridCol w="3733560"/>
              </a:tblGrid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p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ue of variable after 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+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x += 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x = x + 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lus 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-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y -= 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y = y – 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old value of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 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minu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*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z *= 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z = z * 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imes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/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 /=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 = a /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divided by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%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 %= 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 = c % 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remainder of the division of 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divided by 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6775AA6-5768-4AFF-A45F-9324CB6A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grams have data that does not need to be 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ering programs with literal values can make the program hard do read and main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ing literal values with constants remedies this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llow the programmer to use a name rather than a value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lso give a singular point for changing those values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1310056-A29E-4BE4-A6DD-15768842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keep the program organized and easier to main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re identifiers that can hold only a singl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re declared using the key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need not be initialized when declared; however, they must be initialized before they are used or a compiler error will be gen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0BE984E-2819-41AF-81DA-E3373A45F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initialized with a value, constants cannot be changed programma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onvention, constants are all upper case and words are separated by the underscore chara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final int CAL_SALES_TAX = 0.72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F99F2AE-FB47-4758-8D39-9236AB87D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has no primitive data type that holds a series of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from the Java standard library is used for this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be useful, the a variable must be created to referenc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pper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onvention, class names should always begin with an upper case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A13DEB4-5979-429B-AA18-5F4F0C261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ing Th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06960" y="179064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is is a simpl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6"/>
          <p:cNvGrpSpPr/>
          <p:nvPr/>
        </p:nvGrpSpPr>
        <p:grpSpPr>
          <a:xfrm>
            <a:off x="609480" y="2476440"/>
            <a:ext cx="5241600" cy="3020040"/>
            <a:chOff x="609480" y="2476440"/>
            <a:chExt cx="5241600" cy="3020040"/>
          </a:xfrm>
        </p:grpSpPr>
        <p:sp>
          <p:nvSpPr>
            <p:cNvPr id="123" name="Rectangle 11"/>
            <p:cNvSpPr/>
            <p:nvPr/>
          </p:nvSpPr>
          <p:spPr>
            <a:xfrm>
              <a:off x="609480" y="2476440"/>
              <a:ext cx="2971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class Simp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137960" y="3314520"/>
              <a:ext cx="4713120" cy="21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static void main(String[] args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24"/>
          <p:cNvGrpSpPr/>
          <p:nvPr/>
        </p:nvGrpSpPr>
        <p:grpSpPr>
          <a:xfrm>
            <a:off x="1600200" y="3848040"/>
            <a:ext cx="6213600" cy="1008720"/>
            <a:chOff x="1600200" y="3848040"/>
            <a:chExt cx="6213600" cy="1008720"/>
          </a:xfrm>
        </p:grpSpPr>
        <p:sp>
          <p:nvSpPr>
            <p:cNvPr id="126" name="Text Box 22"/>
            <p:cNvSpPr/>
            <p:nvPr/>
          </p:nvSpPr>
          <p:spPr>
            <a:xfrm>
              <a:off x="1978920" y="3848040"/>
              <a:ext cx="58348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area is the body of the main metho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ll of the actions to be completed d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e main method will be between these curly brac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23"/>
            <p:cNvSpPr/>
            <p:nvPr/>
          </p:nvSpPr>
          <p:spPr>
            <a:xfrm>
              <a:off x="1600200" y="3924000"/>
              <a:ext cx="228240" cy="914400"/>
            </a:xfrm>
            <a:custGeom>
              <a:avLst/>
              <a:gdLst>
                <a:gd name="textAreaLeft" fmla="*/ 0 w 228240"/>
                <a:gd name="textAreaRight" fmla="*/ 82440 w 2282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28"/>
          <p:cNvGrpSpPr/>
          <p:nvPr/>
        </p:nvGrpSpPr>
        <p:grpSpPr>
          <a:xfrm>
            <a:off x="5562720" y="1486080"/>
            <a:ext cx="3347640" cy="2314080"/>
            <a:chOff x="5562720" y="1486080"/>
            <a:chExt cx="3347640" cy="2314080"/>
          </a:xfrm>
        </p:grpSpPr>
        <p:sp>
          <p:nvSpPr>
            <p:cNvPr id="129" name="Text Box 18"/>
            <p:cNvSpPr/>
            <p:nvPr/>
          </p:nvSpPr>
          <p:spPr>
            <a:xfrm>
              <a:off x="5562720" y="1486080"/>
              <a:ext cx="334764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is the method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for the main method. 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main method is where a 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pplication begins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rot="10800000">
              <a:off x="5943240" y="2857320"/>
              <a:ext cx="814680" cy="942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0303356-7ECE-4364-9AC4-1BC19195A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itive vs. Referenc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 variables actually contain the value that they have been assig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number = 2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25 will be stored in the memory location associated with the variabl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not stored in variables, however. Object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feren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6EF2C98-AF83-4E05-885E-9728C218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itive vs. Referenc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23590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variable references an object, it contains the memory address of the object’s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it is said that the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cityName =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"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Charleston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"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5867280" y="4495680"/>
            <a:ext cx="24386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1905120" y="4876920"/>
            <a:ext cx="2666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to th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382680" y="4946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ity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4572000" y="5105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5373720" y="3657600"/>
            <a:ext cx="34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he object that contain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haracter string “Charlest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F47224D-1EB2-4585-B957-726474228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can be assigned a String li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value = "Hello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only objects that can be created in this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can be created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value = new String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method that all other objects must use when they are c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String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32A7184-F5D8-4A28-9E9D-E2B7A6C92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lass, objects that are instances of it hav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ose methods i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ringSize = value.length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tatement run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on the object pointed to by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StringLength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087B0C7-CF60-4251-B34A-24399DC6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ontains many methods that help with the manipulation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eaning that they cannot be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the methods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can create new versions of th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StringMethods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E42BF29-62B4-4987-BEE9-535AEC9B3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s to the part of a program that has access to a variable’s cont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declared inside a method (like the main method)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variables’ scope begins at the declaration of the variable and ends at the end of the method in which it was decl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Scope.java (This program contains an intentional erro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CF4458A-1F64-460E-AEDE-B14DFD733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ing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three methods for commenting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380880" y="2209680"/>
          <a:ext cx="8458200" cy="4068720"/>
        </p:xfrm>
        <a:graphic>
          <a:graphicData uri="http://schemas.openxmlformats.org/drawingml/2006/table">
            <a:tbl>
              <a:tblPr/>
              <a:tblGrid>
                <a:gridCol w="1524240"/>
                <a:gridCol w="6933960"/>
              </a:tblGrid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/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ngle line comment.  Anything after the // on the line will be ignored by the compil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/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…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*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lock comment.  Everything beginning with /* and ending with the first */ will be ignored by the compiler.  This comment type cannot be nest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/*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…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*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avadoc comment.  This is a special version of the previous block comment that allows comments to be documented by the javadoc utility program.  Everything beginning with the /** and ending with the first */ will be ignored by the compiler.  This comment type cannot be nest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7A9F8BC-D444-4B8F-AAE7-F540A1832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ing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doc comments can be built into HTML docu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Comment3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the docum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d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gram with the source file as an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doc Comment3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 will crea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everal other documentation files in the same directory as the inpu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D62680E-81B2-4A51-B510-FED518F39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ing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index.htm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javadocindex"/>
          <p:cNvPicPr/>
          <p:nvPr/>
        </p:nvPicPr>
        <p:blipFill>
          <a:blip r:embed="rId1"/>
          <a:stretch/>
        </p:blipFill>
        <p:spPr>
          <a:xfrm>
            <a:off x="1295280" y="1752480"/>
            <a:ext cx="663912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7B66FF4-DA65-4179-B54E-1D42C83B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Java has a strict syntax, whitespace characters are ignored by the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whitespace character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age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f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Compact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46E4FCA-F607-4A55-8C2F-8EDC9238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ing Th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59600" y="160164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is is a simpl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762120" y="2287440"/>
            <a:ext cx="7270560" cy="3020040"/>
            <a:chOff x="762120" y="2287440"/>
            <a:chExt cx="7270560" cy="3020040"/>
          </a:xfrm>
        </p:grpSpPr>
        <p:sp>
          <p:nvSpPr>
            <p:cNvPr id="135" name="Rectangle 5"/>
            <p:cNvSpPr/>
            <p:nvPr/>
          </p:nvSpPr>
          <p:spPr>
            <a:xfrm>
              <a:off x="762120" y="2287440"/>
              <a:ext cx="2971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class Simp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1289520" y="3125520"/>
              <a:ext cx="6743160" cy="21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static void main(String [] args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stem.out.println("Programming is great fun!");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14"/>
          <p:cNvGrpSpPr/>
          <p:nvPr/>
        </p:nvGrpSpPr>
        <p:grpSpPr>
          <a:xfrm>
            <a:off x="2743200" y="4497120"/>
            <a:ext cx="5050800" cy="1439280"/>
            <a:chOff x="2743200" y="4497120"/>
            <a:chExt cx="5050800" cy="1439280"/>
          </a:xfrm>
        </p:grpSpPr>
        <p:sp>
          <p:nvSpPr>
            <p:cNvPr id="138" name="Text Box 12"/>
            <p:cNvSpPr/>
            <p:nvPr/>
          </p:nvSpPr>
          <p:spPr>
            <a:xfrm>
              <a:off x="3733200" y="5232600"/>
              <a:ext cx="40608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is the Java Statement that </a:t>
              </a:r>
              <a:br>
                <a:rPr sz="2000"/>
              </a:b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is executed when the program run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 rot="16200000">
              <a:off x="2604960" y="4635000"/>
              <a:ext cx="1143000" cy="8668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D141D5C-FDE6-4A2C-B577-21D5C792D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should use proper ind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lock of code should be indented a few spaces from its surrounding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o four spaces are su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 characters should be avo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s can vary in size between applications and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rogramming text editors allow the user to replace the tab with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Readable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CDEED97-F8D5-4FEC-A950-8A238DCB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ad input from the keyboard we can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will use the following statement at the top of our program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 java.util.Scann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8798A66-A0FC-4859-84C1-B8B804442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ner objects work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keyboard = new Scanner (System.i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methods are listed in Table 2-18 in 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Payroll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27F6AFC-5B15-49AE-A13A-36F34E9A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alog bo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mall graphical window that displays a message to the user or requests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ety of dialog boxes can be displayed us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f the dialog box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alog - a dialog box that displays a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Dialog - a dialog box that prompts the user for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36E6177-D2B7-48F4-B76C-52053ADC3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s not automatically available to your Java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 must be before the program’s class h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x.swing.JOptionPa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atement tells the compiler where to find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6E33647-CC56-4160-9816-37855D7D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685800" y="1371600"/>
            <a:ext cx="728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methods to display each type of dialog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9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53341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4703ADD-279D-4298-9AED-6AD31DD32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sage Dia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used to display a message dia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"Hello World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argument will be discussed in Chapter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is the message that is to be  displa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6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38149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AA55DD8-F1AF-4D6A-AAED-C57E2D1A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Dia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put dialog is a quick and simple way to ask the user to enter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log displays a text field, an Ok button and a Cancel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k is pressed, the dialog returns the user’s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ancel is pressed, the dialog returns n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6B1C220-3601-4CE1-84BB-FA70F388B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Dia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 = JOptionPane.showInputDialog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Enter your nam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 passed to the method is the message to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user clicks on the OK button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 the string entered by th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user clicks on the Cancel button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6" descr=""/>
          <p:cNvPicPr/>
          <p:nvPr/>
        </p:nvPicPr>
        <p:blipFill>
          <a:blip r:embed="rId1"/>
          <a:stretch/>
        </p:blipFill>
        <p:spPr>
          <a:xfrm>
            <a:off x="2971800" y="4495680"/>
            <a:ext cx="337176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BAE96F9-118F-4591-9800-B8389DF41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us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automatically stop executing when the end of the main method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generat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is a process running in the computer, whe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is not called, this thread continues to exec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F313943-3D0B-45DC-A7CD-BBE0EC9F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 is ignored by the compi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ment in the example is a single-line com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 header tells the compiler things about the class such as what other classes can use it (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that it is a Java class (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and the name of that class (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ly Br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ssociated with the class header, they define the scope of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ssociated with a method, they define the scope of the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769D8CC-CC73-43CD-AFF8-1AD353C6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quires an integer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rgument i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it c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 passed back to the operating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de is usually ignored, however, it can be used outside th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dicate whether the program ended successfully or as the result of a fail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0 traditionally indicates that the program ended successfu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DCB5893-5CC3-4D83-9D1D-B8594CE2A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ting a String to a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Input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always returns the user's input a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ing a number, such as “127.89, can be converted to a numeric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450F116-3085-4F96-9B5F-B73283CC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rs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 numeric wrapper classes, (covered in Chapter 10) has a method that converts a string to a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method that converts a string 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method that converts a string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methods are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e metho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ir names begin with the word “pars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26C23C4-8EB2-47E6-89B7-C3B442315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rs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 in b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yte bVar = Byte.parseByte("1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2599 in i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Var = Integer.parseInt("2599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0 in s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rt sVar = Short.parseShort("10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5908 in l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 lVar = Long.parseLong("15908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2.3 in f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fVar = Float.parseFloat("12.3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7945.6 in d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Var = Double.parseDouble("7945.6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50904FB-3D6F-4A5D-9866-55B25D99D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an Integer with an Input Di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457200" y="19051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 = JOptionPane.showInputDialog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Enter a number.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 = Integer.parseInt(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F64F285-9EDC-43B2-A837-6D6839E41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n Input Di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457200" y="19051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 = JOptionPane.showInputDialog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Enter the retail price.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ce = Double.parseDouble(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609480" y="45720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PayrollDialog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20:51:31Z</dcterms:created>
  <dc:creator>Tony Gaddis</dc:creator>
  <dc:description/>
  <cp:keywords/>
  <dc:language>en-US</dc:language>
  <cp:lastModifiedBy>usellst</cp:lastModifiedBy>
  <cp:lastPrinted>2009-04-22T19:24:48Z</cp:lastPrinted>
  <dcterms:modified xsi:type="dcterms:W3CDTF">2009-03-24T18:22:40Z</dcterms:modified>
  <cp:revision>172</cp:revision>
  <dc:subject>Java Fundamentals </dc:subject>
  <dc:title>Chapter 2</dc:title>
</cp:coreProperties>
</file>