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8A43-7FC3-4B7C-A0DF-19CC5C743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1C8B-DD70-4EA5-A3E1-526AFC7AE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5834-936F-4912-9716-6E78EA0EA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5E90-6B09-4C09-97F2-13EEE80D8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DE75-C7E6-47F5-B633-4B03067A5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BC77-069F-4E5D-B804-1398D31FC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1A5-47C6-498D-93F8-0E7116DC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EEE4-45C3-48AC-A4C2-8A5E3BB7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F6AC-7FAA-4DE1-BAE9-9812D03FE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4EDC-9DD5-4101-BD39-B700AC582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5AD1-E5A9-4F62-A542-FD261FE57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DB33-10B1-45AF-BFAA-3773CF704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19C9-ACCF-4AE6-B793-55D4D9AFD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51AF-942F-44B7-9B0F-999AC37F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631C-3A49-46EC-BFEF-5CB939970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3324-4528-4DF0-A605-5980C144C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8B7C-5EAA-4C46-BB2A-4298D2138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FAE0-8B30-475F-8247-0EA22B137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43C6-77C2-4FDB-BB89-4B0B5939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AE85-EEEA-4D1F-94A0-8C92E5984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C439-6892-47AA-BF0B-26758C79E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FC17-295A-43A3-86B7-D2BB27D76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F901-C3D5-428D-99DA-8EC13540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7638-0D75-4D53-A10D-CD954C654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4AB8-8060-4A0A-985C-0D60DB724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9E24-12DD-4000-9AFB-6BC416589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BEDA-762E-433E-B09E-7BC818915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BEA3-3636-4BB2-8252-5A58CA6D7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FAB2-C33E-4CC9-87A4-2813CA343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7AD4-07CF-46AA-B6AA-9228905DF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28DF-0407-4287-9411-7B8C7116B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1CCF-E388-4562-BB20-7D9B061B6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E942-4BD1-4805-8E05-2470CF650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4423-BD86-4789-9656-04BE8C1BF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8220-B07A-423B-8065-46C43947A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E819D67E-6206-4D41-A8C6-790CB92C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5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CBA841C8-E097-4477-9014-84EFC433D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rules stat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0, its factorial is 1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than 0, its factorial is the product of all the positive integers from 1 up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ial(6) is calculat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× 2 × 3 × 4 × 5 ×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e case is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al to 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then factorial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case, or the part of the problem that we use recursion to solv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if n &gt; 0 then factorial(n) = n × factorial(n –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E393EA16-C68A-44AD-B014-1D447218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call works on a reduced version of the proble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rule for calculating the factor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then factoria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 then factoria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 factoria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va based 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atic int factorial(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n == 0) return 1; // Base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return n * factorial(n -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FE1672A2-448A-43F0-898B-72E0A9BD4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038480" y="1519200"/>
            <a:ext cx="251460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4038480" y="1814400"/>
            <a:ext cx="2514600" cy="29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4038480" y="2109960"/>
            <a:ext cx="2514600" cy="29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267080" y="2479680"/>
            <a:ext cx="259092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267080" y="2774880"/>
            <a:ext cx="259092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4267080" y="3071880"/>
            <a:ext cx="259092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495680" y="3440160"/>
            <a:ext cx="266724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4495680" y="3735360"/>
            <a:ext cx="266724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4495680" y="4032360"/>
            <a:ext cx="266724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4724280" y="4400640"/>
            <a:ext cx="2743200" cy="29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4724280" y="4697280"/>
            <a:ext cx="2743200" cy="29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4724280" y="4992840"/>
            <a:ext cx="274320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4952880" y="5361120"/>
            <a:ext cx="2819520" cy="29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4952880" y="5657760"/>
            <a:ext cx="281952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8"/>
          <p:cNvSpPr/>
          <p:nvPr/>
        </p:nvSpPr>
        <p:spPr>
          <a:xfrm>
            <a:off x="4952880" y="5952960"/>
            <a:ext cx="2819520" cy="29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ue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29"/>
          <p:cNvCxnSpPr>
            <a:stCxn id="150" idx="3"/>
            <a:endCxn id="146" idx="3"/>
          </p:cNvCxnSpPr>
          <p:nvPr/>
        </p:nvCxnSpPr>
        <p:spPr>
          <a:xfrm flipH="1" flipV="1">
            <a:off x="7466760" y="4844160"/>
            <a:ext cx="305640" cy="1256760"/>
          </a:xfrm>
          <a:prstGeom prst="bentConnector3">
            <a:avLst>
              <a:gd name="adj1" fmla="val -75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2" name="AutoShape 30"/>
          <p:cNvCxnSpPr>
            <a:stCxn id="147" idx="3"/>
            <a:endCxn id="143" idx="3"/>
          </p:cNvCxnSpPr>
          <p:nvPr/>
        </p:nvCxnSpPr>
        <p:spPr>
          <a:xfrm flipH="1" flipV="1">
            <a:off x="7162560" y="3884400"/>
            <a:ext cx="305280" cy="1256400"/>
          </a:xfrm>
          <a:prstGeom prst="bentConnector3">
            <a:avLst>
              <a:gd name="adj1" fmla="val -7497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3" name="AutoShape 31"/>
          <p:cNvCxnSpPr>
            <a:stCxn id="144" idx="3"/>
            <a:endCxn id="140" idx="3"/>
          </p:cNvCxnSpPr>
          <p:nvPr/>
        </p:nvCxnSpPr>
        <p:spPr>
          <a:xfrm flipH="1" flipV="1">
            <a:off x="6857280" y="2921760"/>
            <a:ext cx="305640" cy="1258200"/>
          </a:xfrm>
          <a:prstGeom prst="bentConnector3">
            <a:avLst>
              <a:gd name="adj1" fmla="val -75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4" name="AutoShape 32"/>
          <p:cNvCxnSpPr>
            <a:stCxn id="141" idx="3"/>
            <a:endCxn id="137" idx="3"/>
          </p:cNvCxnSpPr>
          <p:nvPr/>
        </p:nvCxnSpPr>
        <p:spPr>
          <a:xfrm flipH="1" flipV="1">
            <a:off x="6552360" y="1961280"/>
            <a:ext cx="305640" cy="1258200"/>
          </a:xfrm>
          <a:prstGeom prst="bentConnector3">
            <a:avLst>
              <a:gd name="adj1" fmla="val -75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5" name="AutoShape 34"/>
          <p:cNvCxnSpPr>
            <a:stCxn id="137" idx="1"/>
            <a:endCxn id="139" idx="1"/>
          </p:cNvCxnSpPr>
          <p:nvPr/>
        </p:nvCxnSpPr>
        <p:spPr>
          <a:xfrm flipH="1" flipV="1" rot="10800000">
            <a:off x="4037400" y="1962000"/>
            <a:ext cx="229320" cy="665640"/>
          </a:xfrm>
          <a:prstGeom prst="bentConnector3">
            <a:avLst>
              <a:gd name="adj1" fmla="val -1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6" name="AutoShape 36"/>
          <p:cNvCxnSpPr>
            <a:stCxn id="146" idx="1"/>
            <a:endCxn id="148" idx="1"/>
          </p:cNvCxnSpPr>
          <p:nvPr/>
        </p:nvCxnSpPr>
        <p:spPr>
          <a:xfrm flipH="1" flipV="1" rot="10800000">
            <a:off x="4723200" y="4844880"/>
            <a:ext cx="229320" cy="665640"/>
          </a:xfrm>
          <a:prstGeom prst="bentConnector3">
            <a:avLst>
              <a:gd name="adj1" fmla="val -1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7" name="AutoShape 37"/>
          <p:cNvCxnSpPr>
            <a:stCxn id="143" idx="1"/>
            <a:endCxn id="145" idx="1"/>
          </p:cNvCxnSpPr>
          <p:nvPr/>
        </p:nvCxnSpPr>
        <p:spPr>
          <a:xfrm flipH="1" flipV="1" rot="10800000">
            <a:off x="4494600" y="3883680"/>
            <a:ext cx="229320" cy="664200"/>
          </a:xfrm>
          <a:prstGeom prst="bentConnector3">
            <a:avLst>
              <a:gd name="adj1" fmla="val -1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AutoShape 38"/>
          <p:cNvCxnSpPr>
            <a:stCxn id="140" idx="1"/>
            <a:endCxn id="142" idx="1"/>
          </p:cNvCxnSpPr>
          <p:nvPr/>
        </p:nvCxnSpPr>
        <p:spPr>
          <a:xfrm flipH="1" flipV="1" rot="10800000">
            <a:off x="4266000" y="2922480"/>
            <a:ext cx="229320" cy="665640"/>
          </a:xfrm>
          <a:prstGeom prst="bentConnector3">
            <a:avLst>
              <a:gd name="adj1" fmla="val -1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9" name="Text Box 39"/>
          <p:cNvSpPr/>
          <p:nvPr/>
        </p:nvSpPr>
        <p:spPr>
          <a:xfrm>
            <a:off x="685800" y="1371600"/>
            <a:ext cx="251460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method is first called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ialDem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AutoShape 40"/>
          <p:cNvCxnSpPr>
            <a:stCxn id="159" idx="3"/>
            <a:endCxn id="136" idx="1"/>
          </p:cNvCxnSpPr>
          <p:nvPr/>
        </p:nvCxnSpPr>
        <p:spPr>
          <a:xfrm flipV="1">
            <a:off x="3200400" y="1666440"/>
            <a:ext cx="838800" cy="246960"/>
          </a:xfrm>
          <a:prstGeom prst="bentConnector3">
            <a:avLst>
              <a:gd name="adj1" fmla="val 4997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30F56E67-B99B-4C7D-AB44-64B16F23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 and Indirect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cursive methods directly call themselves it is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ect recu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rect recur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hen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lls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in turn calls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can even be several methods involved in the recu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,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ld call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ould call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alls method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must be used in indirect recursion to ensure that the proper base cases and return values are hand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6725F632-E2DE-4ACD-AB4A-9D80B661F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ing a Range of Arra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 can be used to sum a range of array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ge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following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ying the starting element of the rang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ying the ending element of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might be call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 = {1, 2, 3, 4, 5, 6, 7, 8, 9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rangeSum(numbers, 3, 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3EF9F84F-E2E6-4D55-92DF-BD638D06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inition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ge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int rangeSum(int[] arra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tart, int e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tart &gt; e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rray[start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rangeSum(array, start + 1, en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angeSum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ing a Range of Arra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B086CC3A-E2BD-448E-8AB1-381AB909E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efinition of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drawCir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drawCircles(Graphics g, int n, 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pXY, intƒsi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Oval(topXY, topXY, size, siz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Circles(g, n - 1, topXY + 15, size - 3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Circles.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Concentric Cir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E30879AC-125E-4301-8A10-F35415099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bonacci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athematical problems are designed to be solved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ell known example is the calcul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bonacci nu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1, 2, 3, 5, 8, 13, 21, 34, 55, 89, 144, 233,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second number, each number in the series is the sum of the two previou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bonacci series can be defin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N = F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1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F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65FE7E2B-12D0-4E66-BEFE-CA5A2C66E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bonacci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int fib(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n =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b(n - 1) + fib(n - 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has two base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 is equal to 0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 is equal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ibNumber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E50F9229-AA7B-49C4-B258-630F1594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gcd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x % y =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gcd(y, x %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GCDdem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est Common Divisor (G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5284F195-AE57-4924-965B-C16FAC97A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5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Problems with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Recursive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ursive Binary Search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wers of Han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DCCC57A6-3353-4F29-BB6A-423AFA533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ursive Binary 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nary search algorithm can be implemented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dure can be express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array[middle] equals the search value, then the value is fo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array[middle] is less than the search value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a binary search on the upper half of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array[middle] is greater than the search value, perform a binary search on the lower half of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ecursiveBinarySearch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ADCBB6A1-2B89-487A-8CF7-C886D1F5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wers of Han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wers of Hanoi is a mathematical game that 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eg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discs with holes through their cen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cs are stacked on the leftmost peg, in order of size with the largest disc at the bot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bject of the game is to move the pegs from the left peg to the right peg by these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disk may be moved at a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k cannot be placed on top of a smaller di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iscs must be stored on a peg except while being mo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0F558C39-2717-41A1-87C7-D58767E6B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wers of Han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verall solution to the problem is to move n discs from peg 1 to peg 3 using peg 2 as a temporary p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gorithm solves the g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n &gt; 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n – 1 discs from peg A to peg 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peg C as a temporary pe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the remaining disc from the peg A to peg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n – 1 discs from peg B to peg 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peg A as a temporary pe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e case for the algorithm is reached when there are no more discs to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Hanoi.java, Hanoi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FE00318E-B6C3-449B-88A0-9F36C676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been calling other methods from 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also possible for a method to call itsel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calls itself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EndlessRecursion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95F366B5-BF23-4B26-926B-F9C5D7E23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in the example displays the string “This is a recursive method.”, and then calls itsel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ime it calls itself, the cycle is repeated endles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 loop, a recursive method must have some way to control the number of times it repe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ecursive.java, Recursion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2EFA6039-F40C-45DE-A03D-ACBDA51DD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38480" y="15238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419720" y="2209680"/>
            <a:ext cx="2590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800600" y="28954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181480" y="35812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5562720" y="4267080"/>
            <a:ext cx="2590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5943600" y="49528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call of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85800" y="1371600"/>
            <a:ext cx="251460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method is first called from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cursionDem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AutoShape 18"/>
          <p:cNvCxnSpPr>
            <a:stCxn id="113" idx="3"/>
            <a:endCxn id="114" idx="1"/>
          </p:cNvCxnSpPr>
          <p:nvPr/>
        </p:nvCxnSpPr>
        <p:spPr>
          <a:xfrm>
            <a:off x="3200400" y="3040200"/>
            <a:ext cx="591120" cy="884880"/>
          </a:xfrm>
          <a:prstGeom prst="bentConnector3">
            <a:avLst>
              <a:gd name="adj1" fmla="val 5155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3" name="Text Box 19"/>
          <p:cNvSpPr/>
          <p:nvPr/>
        </p:nvSpPr>
        <p:spPr>
          <a:xfrm>
            <a:off x="685800" y="2743200"/>
            <a:ext cx="25146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second through sixth calls are recurs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0"/>
          <p:cNvSpPr/>
          <p:nvPr/>
        </p:nvSpPr>
        <p:spPr>
          <a:xfrm>
            <a:off x="3809880" y="220968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1"/>
          <p:cNvCxnSpPr>
            <a:stCxn id="111" idx="3"/>
            <a:endCxn id="105" idx="1"/>
          </p:cNvCxnSpPr>
          <p:nvPr/>
        </p:nvCxnSpPr>
        <p:spPr>
          <a:xfrm flipV="1">
            <a:off x="3200400" y="1790280"/>
            <a:ext cx="838800" cy="123120"/>
          </a:xfrm>
          <a:prstGeom prst="bentConnector3">
            <a:avLst>
              <a:gd name="adj1" fmla="val 4997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DE14CF31-4867-48EB-930F-AE2F4C6E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 can be a powerful tool for solving repetitiv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 is never absolutely required to solve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roblem that can be solved recursively can also be solved iteratively, with a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ny cases, recursive algorithms are less efficient than iterative algo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65B01E3F-700D-473E-8F5C-7B5A39CDB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solutions repetitiv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e memory for parameters and local variable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the address of where control returns after the method termin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ction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ver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ake place with each method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verhead does not occur with a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repetitive problems are more easily solved with recursion than with it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 algorithms might execute faster; howe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cursive algorithm might be designe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DBA7848D-18A1-4FA1-B547-43409993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 works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se case is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atched, the method solves it and ret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ase case cannot be solved 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hod reduces it to a smaller problem (recursive case) and calls itself to solve the smaller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ducing the problem with each recursive call, the base case will eventually be reached and the recursion will st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thematics, the not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represents the factorial of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-</a:t>
            </a:r>
            <a:fld id="{5560B70C-9B9C-454A-BAF8-52E25A6BA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ctorial of a nonnegative number can be defined by the follow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= 1 × 2 × 3 × ... ×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replace the not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with factori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ich looks a bit more like computer code, and rewrite these rules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 then factoria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 then factoria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 × 2 × 3 × ... ×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With Rec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4:42:30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9:53:07Z</dcterms:modified>
  <cp:revision>27</cp:revision>
  <dc:subject>Recursion</dc:subject>
  <dc:title>Chapter 15 </dc:title>
</cp:coreProperties>
</file>