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C2640-1F43-426F-A2FD-42DB13B656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93787-384D-4C06-A5FC-1547165724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31FAA-86C8-480F-A9A2-39FB5454AC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16B87-6172-4187-83D7-52FD0E7D84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0A7E6-FEE1-4ABF-AE27-7A14520411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EA238-36BB-4F78-AD67-01A310FB36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DFB79-F7AD-462A-802B-72EF63CAB9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296E2-68E1-448E-A15A-059C5EDAD8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4A396-73A8-4412-99BE-9A6D8AECE5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E62A5-544F-4387-B825-B1FC273F54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8FE61-E024-442B-AA9F-7C64B55B10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92AAB-D1E2-4AC5-B976-B79ADB3047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953EC-1C3F-40D3-ABBF-91059BC8AD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F8FA7-D1AC-49D3-96D1-0C447F68A2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EC898-C44E-4CD8-BEF6-6F2E4933EB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7D7F9-2F42-401C-B4CA-B5964CB7F6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DBB41-D5C1-45E5-B51E-42F35EA89E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157E4-5096-476E-9D0B-19FFB61B28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A4FA8-BE87-43ED-ABF8-45F4BDDC50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B9B02-2924-4811-9194-4EFB8465EE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DABC1-5E39-4C49-8F9B-6CE318C4F8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80087-FA4A-4B92-8D6D-6A92F8BC33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B95C7-E86F-4F5F-B374-1251B54854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6E58B-1BF8-459B-9FC7-6750EC087C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24497-3EEE-4850-AD69-05E0E39CEA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69BCD-0221-491B-B83C-A54115BDDE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54B41-A8A9-4AB4-9C1A-612F4ACDE4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FB790-B291-4CA8-A4AA-220433DB6B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8EA1D-2D12-4DBD-B37A-7336157758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2DE1B-832C-40E8-B799-25AADD6F55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18E5C-18CF-420B-B2CE-5C621E8932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FD57B-85C7-420A-9C30-B1CAFAFFEA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90B35-DBB6-4595-8476-46423B0035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889A8-8B7C-4B0D-9F16-A23DACE36B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9ABC9-14B7-4047-8457-D591D94D56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460D1-4E03-4DF1-BA47-FEB8D76EB8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E7455-BFF4-49D5-819D-1790C6F2FD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AEBA1-9867-4092-A6F8-1E36E2F2C8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CD715-598B-4054-AEFA-2DEC5C6660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2DBE4-FB60-4B05-A562-64E0407D08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42571-B218-4E62-AD15-347BF0D4D7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1EBEF-048B-4B1F-8384-90A099CDFE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A23B3-9973-4085-B8F6-E93907ECC2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808A7-FFBB-498C-BD63-7BA6C6AAB0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15BEE-AAF9-4825-84DF-DBF5268B68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13DAA-A88A-4539-82FD-9766E6824F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3AE3B-BD28-4048-B408-2A11A3E38A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7E845-A63B-4200-8ACC-4DDAEAA0A3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293F1-0146-42A6-9A35-8BBC54C635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03EA3-2297-4848-8484-5B827CB224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FD178-14DA-43D9-A5C7-66936E5C62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63E37-50C1-40EC-8416-A69E35D37C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2139C-0A93-4C32-A62A-668338D8E5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98844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27B0E-55B5-49C2-A670-40475783F3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5508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5FF87-ADAE-485E-A70F-06601FA5BB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093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37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093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37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361EB-CB09-4892-967A-00D5155EC7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4920" y="303120"/>
            <a:ext cx="861048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21B09-AA15-426E-ACBD-CEB76CDBB0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5508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4920" y="398844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5508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093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137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49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093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137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49179-6C28-4973-A7C8-48A9E321C6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BBC56-171B-4AB9-9FB7-0422EC3CF0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DFBF7-8ABB-4AB5-93A9-A14D34176C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303120"/>
            <a:ext cx="861048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518C1-E2BA-41D4-8E6E-8ED5558CC0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4981B-40E6-44C1-BD91-886CEFA37F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5508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4A0D9-0F0C-4774-B395-DE41512171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8A53E-52DF-4A97-830A-09FC577FBD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>
            <a:off x="-2160" y="-9360"/>
            <a:ext cx="9140760" cy="2133360"/>
          </a:xfrm>
          <a:custGeom>
            <a:avLst/>
            <a:gdLst>
              <a:gd name="textAreaLeft" fmla="*/ 0 w 9140760"/>
              <a:gd name="textAreaRight" fmla="*/ 9140760 w 914076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d885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</a:t>
            </a:r>
            <a:fld id="{9533502B-6B4A-4A66-B373-FA1E0EF96F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6324480"/>
            <a:ext cx="5562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0 Pearson Addison-Wesley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d885e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234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85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523880" y="6248520"/>
            <a:ext cx="556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0 Pearson Addison-Wesley. All rights reserved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0" y="1523880"/>
            <a:ext cx="9144000" cy="152640"/>
          </a:xfrm>
          <a:custGeom>
            <a:avLst/>
            <a:gdLst>
              <a:gd name="textAreaLeft" fmla="*/ 360 w 9144000"/>
              <a:gd name="textAreaRight" fmla="*/ 9144720 w 9144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3c3c3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Group 6"/>
          <p:cNvGrpSpPr/>
          <p:nvPr/>
        </p:nvGrpSpPr>
        <p:grpSpPr>
          <a:xfrm>
            <a:off x="203040" y="5715000"/>
            <a:ext cx="1371600" cy="914400"/>
            <a:chOff x="203040" y="5715000"/>
            <a:chExt cx="1371600" cy="914400"/>
          </a:xfrm>
        </p:grpSpPr>
        <p:pic>
          <p:nvPicPr>
            <p:cNvPr id="45" name="Picture 4" descr="Pearson_CMYK"/>
            <p:cNvPicPr/>
            <p:nvPr/>
          </p:nvPicPr>
          <p:blipFill>
            <a:blip r:embed="rId2"/>
            <a:stretch/>
          </p:blipFill>
          <p:spPr>
            <a:xfrm>
              <a:off x="304920" y="6172200"/>
              <a:ext cx="11556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Text Box 5"/>
            <p:cNvSpPr/>
            <p:nvPr/>
          </p:nvSpPr>
          <p:spPr>
            <a:xfrm>
              <a:off x="203040" y="5715000"/>
              <a:ext cx="13716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ヒラギノ角ゴ Pro W3"/>
                </a:rPr>
                <a:t>Addison Wesley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ヒラギノ角ゴ Pro W3"/>
                </a:rPr>
                <a:t>is an imprint of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d885e3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PersonSearch.java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StringAnalyzer.java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file:///Telephone.java" TargetMode="External"/><Relationship Id="rId2" Type="http://schemas.openxmlformats.org/officeDocument/2006/relationships/hyperlink" Target="file:///TelephoneTester.java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file:///DateComponent.java" TargetMode="External"/><Relationship Id="rId2" Type="http://schemas.openxmlformats.org/officeDocument/2006/relationships/hyperlink" Target="file:///DateTester.java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file:///TestScoreReader.java" TargetMode="External"/><Relationship Id="rId2" Type="http://schemas.openxmlformats.org/officeDocument/2006/relationships/hyperlink" Target="file:///TestAverages.java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CharacterTest.java" TargetMode="External"/><Relationship Id="rId2" Type="http://schemas.openxmlformats.org/officeDocument/2006/relationships/hyperlink" Target="file:///CustomerNumber.java" TargetMode="External"/><Relationship Id="rId3" Type="http://schemas.openxmlformats.org/officeDocument/2006/relationships/hyperlink" Target="file:///CircleArea.java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85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8"/>
          <p:cNvSpPr/>
          <p:nvPr/>
        </p:nvSpPr>
        <p:spPr>
          <a:xfrm>
            <a:off x="0" y="45720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apter 10:</a:t>
            </a:r>
            <a:br>
              <a:rPr sz="3200"/>
            </a:b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ext Processing and More about Wrapper Clas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838080" y="1981080"/>
            <a:ext cx="75438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rting Out with Java: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Control Structures through Objec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E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y Tony Gadd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-</a:t>
            </a:r>
            <a:fld id="{170487D6-A9D9-499E-8908-331DF5443D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arching Str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endsWi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 determines whether a string ends with a specified substring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ing str = "Four score and seven years ago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str.endsWith("ago"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ystem.out.println("The string ends with ago.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ystem.out.println("The string does not end with ago.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endsWi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 also performs a case sensitive comparis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PersonSearch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-</a:t>
            </a:r>
            <a:fld id="{BBD9424B-FF0F-480F-BFB9-A163108D56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arching Str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 provides methods that will if specified regions of two strings mat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885e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gionMatches(int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tar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String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tart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s true if the specified regions match or false if they don’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 sensitive comparis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885e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gionMatches(boolean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ignoreCa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tar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String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tart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ignore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rue, it performs case insensitive compar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-</a:t>
            </a:r>
            <a:fld id="{5D2D5CD0-B5E6-4796-A825-A2903D84B0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arching Str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 also provides methods that will locate the position of a sub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885e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dex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s the first location of a substring or character in the call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bj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885e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astIndex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s the last location of a substring or character in the call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bj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-</a:t>
            </a:r>
            <a:fld id="{BB360B45-A7DF-4E26-9BF2-FD6A797738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arching Str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 fontScale="97000"/>
          </a:bodyPr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ing str = "Four score and seven years ago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first, las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rst = </a:t>
            </a:r>
            <a:r>
              <a:rPr b="1" lang="en-US" sz="1600" spc="-1" strike="noStrike">
                <a:solidFill>
                  <a:srgbClr val="ff3300"/>
                </a:solidFill>
                <a:latin typeface="Courier New"/>
              </a:rPr>
              <a:t>str.indexOf('r'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ast = </a:t>
            </a:r>
            <a:r>
              <a:rPr b="1" lang="en-US" sz="1600" spc="-1" strike="noStrike">
                <a:solidFill>
                  <a:srgbClr val="ff3300"/>
                </a:solidFill>
                <a:latin typeface="Courier New"/>
              </a:rPr>
              <a:t>str.lastIndexOf('r'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ystem.out.println("The letter r first appears at 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+ "position " + fir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ystem.out.println("The letter r last appears at 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+ "position " + la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ing str = "and a one and a two and a three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positio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ystem.out.println("The word and appears at the 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+ "following locations.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sition = str.indexOf("and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 (position != -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ystem.out.println(position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sition = str.indexOf("and", position + 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4"/>
          <p:cNvSpPr/>
          <p:nvPr/>
        </p:nvSpPr>
        <p:spPr>
          <a:xfrm>
            <a:off x="990720" y="3505320"/>
            <a:ext cx="7010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2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-</a:t>
            </a:r>
            <a:fld id="{E088786B-E9D1-4ED6-9E3D-831F6AADD2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Methods For Getting Character Or Substring Lo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7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7551720" cy="498132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6"/>
          <p:cNvSpPr/>
          <p:nvPr/>
        </p:nvSpPr>
        <p:spPr>
          <a:xfrm>
            <a:off x="6095880" y="685800"/>
            <a:ext cx="2819520" cy="8254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ee Table 10-4 on page 61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2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-</a:t>
            </a:r>
            <a:fld id="{530E347F-5B3D-4214-9168-2852093B04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Methods For Getting Character Or Substring Lo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6095880" y="685800"/>
            <a:ext cx="2819520" cy="8254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ee Table 10-4 on page 61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751392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-</a:t>
            </a:r>
            <a:fld id="{D5BCC8E3-7B4C-43F3-963D-0F75624885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tracting Substr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 provides methods to extract substrings in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b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bst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thod returns a substring beginning at a start location and an optional ending loc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 fullName = "Cynthia Susan Smith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 lastName = fullName.substring(14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"The full name is "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+ fullNam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"The last name is "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+ lastNam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-</a:t>
            </a:r>
            <a:fld id="{A09410D3-7E6D-4891-8386-9648A2C41F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tracting Substr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1219320" y="2590920"/>
            <a:ext cx="12952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4800600" y="2590920"/>
            <a:ext cx="34290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ynthia Susan Smith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533520" y="182880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ull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variable holds the address of a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bjec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AutoShape 12"/>
          <p:cNvCxnSpPr>
            <a:stCxn id="146" idx="3"/>
            <a:endCxn id="147" idx="1"/>
          </p:cNvCxnSpPr>
          <p:nvPr/>
        </p:nvCxnSpPr>
        <p:spPr>
          <a:xfrm>
            <a:off x="2514600" y="2781000"/>
            <a:ext cx="2286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0" name="Rectangle 8"/>
          <p:cNvSpPr/>
          <p:nvPr/>
        </p:nvSpPr>
        <p:spPr>
          <a:xfrm>
            <a:off x="1219320" y="4572000"/>
            <a:ext cx="12952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4800600" y="4572000"/>
            <a:ext cx="1371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mith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11"/>
          <p:cNvSpPr/>
          <p:nvPr/>
        </p:nvSpPr>
        <p:spPr>
          <a:xfrm>
            <a:off x="685800" y="373392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ast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variable holds the address of a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bjec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3" name="AutoShape 13"/>
          <p:cNvCxnSpPr>
            <a:stCxn id="150" idx="3"/>
            <a:endCxn id="151" idx="1"/>
          </p:cNvCxnSpPr>
          <p:nvPr/>
        </p:nvCxnSpPr>
        <p:spPr>
          <a:xfrm>
            <a:off x="2514600" y="4762080"/>
            <a:ext cx="2286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54" name="Group 17"/>
          <p:cNvGrpSpPr/>
          <p:nvPr/>
        </p:nvGrpSpPr>
        <p:grpSpPr>
          <a:xfrm>
            <a:off x="5486040" y="2666880"/>
            <a:ext cx="2134080" cy="1905480"/>
            <a:chOff x="5486040" y="2666880"/>
            <a:chExt cx="2134080" cy="1905480"/>
          </a:xfrm>
        </p:grpSpPr>
        <p:sp>
          <p:nvSpPr>
            <p:cNvPr id="155" name="Rectangle 14"/>
            <p:cNvSpPr/>
            <p:nvPr/>
          </p:nvSpPr>
          <p:spPr>
            <a:xfrm>
              <a:off x="6934320" y="2666880"/>
              <a:ext cx="685800" cy="2509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6" name="AutoShape 16"/>
            <p:cNvCxnSpPr>
              <a:stCxn id="155" idx="2"/>
              <a:endCxn id="151" idx="0"/>
            </p:cNvCxnSpPr>
            <p:nvPr/>
          </p:nvCxnSpPr>
          <p:spPr>
            <a:xfrm flipH="1">
              <a:off x="5486040" y="2930400"/>
              <a:ext cx="1791360" cy="164232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-</a:t>
            </a:r>
            <a:fld id="{5A178CEE-6580-406C-A718-256AB54599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tracting Characters to Arra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 provides methods to extract substrings in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bject and store them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ra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885e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Ch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d885e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res a substring in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885e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oChar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d885e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’s contents in an array o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valu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StringAnalyzer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-</a:t>
            </a:r>
            <a:fld id="{2ED498BA-459F-4EE7-8E75-6338BF2382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turning Modified Str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 provides methods to return modifie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bjec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nc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d885e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 that is the concatenation of tw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p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d885e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 with all occurrences of one character being replaced by another character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d885e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 with all leading and trailing whitespace characters remov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-</a:t>
            </a:r>
            <a:fld id="{E4A1067D-798A-4250-B6F0-BBA5251D5C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pter 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153640" cy="510552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pter 10 discusses the following main topic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roduction to Wrapp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cter Testing and Conversion with the Characte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Build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Tokeniz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per Classes for the Numeric Data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cus on Problem Solving: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stScoreRead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-</a:t>
            </a:r>
            <a:fld id="{185595F5-8377-4917-BCF0-82B10D3BBD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valueOf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13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ss provides several overload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alue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tho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return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bject representat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imitive value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haracter arr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.valueOf(true) will return "true"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.valueOf(5.0) will return "5.0"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.valueOf(‘C’) will return "C"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-</a:t>
            </a:r>
            <a:fld id="{5DA86DC2-0344-4228-AE49-694935E684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valueOf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 b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[] letters = { 'a', 'b', 'c', 'd', 'e' 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 d = 2.4981567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i = 7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(String.valueOf(b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(String.valueOf(letters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(String.valueOf(letters, 1, 3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(String.valueOf(d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(String.valueOf(i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es the following outpu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bc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c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.498156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-</a:t>
            </a:r>
            <a:fld id="{FF52846A-0AF2-40D1-8251-51226B5442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StringBuilde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1608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Build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ss is similar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you may change the contents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Build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bje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ou can change specific character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ert character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lete characters,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other opera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Build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bject will grow or shrink in size, as needed, to accommodate the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-</a:t>
            </a:r>
            <a:fld id="{7E6C9FBF-6AE8-4902-9F9A-0822535EAE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StringBuilde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Constru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153640" cy="495324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885e3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Builder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constructor gives the object enough storage space to hold 16 character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885e3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Builder(int 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constructor gives the object enough storage space to hold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racter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885e3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Builder(String 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constructor initializes the object with the string in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bject will have at least enough storage space to hold the string in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-</a:t>
            </a:r>
            <a:fld id="{8E9F666A-A2F8-40F5-A9DB-F7E515670C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tringBuild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St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Build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so have common method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 charAt(int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positi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getChars(int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star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end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[]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arra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arrayStar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indexOf(String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indexOf(String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star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lastIndexOf(String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lastIndexOf(String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star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length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 substring(int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star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 substring(int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star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-</a:t>
            </a:r>
            <a:fld id="{12B39A68-5490-400A-BD0A-50D0CD3BBA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ending to a </a:t>
            </a:r>
            <a:r>
              <a:rPr b="0" lang="en-US" sz="3000" spc="-1" strike="noStrike">
                <a:solidFill>
                  <a:srgbClr val="000000"/>
                </a:solidFill>
                <a:latin typeface="Courier New"/>
              </a:rPr>
              <a:t>StringBuilde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bje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Build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ss has several overloaded versions of a method nam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ppe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append a string representation of their argument to the calling object’s current cont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eneral form of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ppe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thod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object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(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ite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n instance of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Build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ss and 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i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d885e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mitive literal or varia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d885e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char  array, 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d885e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literal or objec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-</a:t>
            </a:r>
            <a:fld id="{350AC2B8-F322-4327-AFFB-76BCF67814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ppe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thod is called, a string representation of 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ite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 be appended to 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ent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Builder str = new StringBuilder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.append("We sold 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.append(1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.append(" doughnuts for $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.append(15.95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(st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Mini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ion-Regular"/>
              </a:rPr>
              <a:t>This code will produce the following out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e sold 12 doughnuts for $15.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ending to a </a:t>
            </a:r>
            <a:r>
              <a:rPr b="0" lang="en-US" sz="3000" spc="-1" strike="noStrike">
                <a:solidFill>
                  <a:srgbClr val="000000"/>
                </a:solidFill>
                <a:latin typeface="Courier New"/>
              </a:rPr>
              <a:t>StringBuilde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bje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-</a:t>
            </a:r>
            <a:fld id="{439ECEBC-A30B-4FFF-990E-88E84BAFF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8088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Build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ss also has several overloaded versions of a method nam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s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methods accept two argu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at specifies the position to begin insertion,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value to be inser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alue to be inserted may 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mitive literal or varia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ray, 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literal or objec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ending to a </a:t>
            </a:r>
            <a:r>
              <a:rPr b="0" lang="en-US" sz="3000" spc="-1" strike="noStrike">
                <a:solidFill>
                  <a:srgbClr val="000000"/>
                </a:solidFill>
                <a:latin typeface="Courier New"/>
              </a:rPr>
              <a:t>StringBuilde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bje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-</a:t>
            </a:r>
            <a:fld id="{9D44F9BE-FBED-41C6-9E13-94D9979B8C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eneral form of a typical call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se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th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object.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sert(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tart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item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n instance of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Build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ss, 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sta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insertion location, and 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i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mitive literal or varia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ray, 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literal or objec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Telephone.jav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TelephoneTester.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ending to a </a:t>
            </a:r>
            <a:r>
              <a:rPr b="0" lang="en-US" sz="3000" spc="-1" strike="noStrike">
                <a:solidFill>
                  <a:srgbClr val="000000"/>
                </a:solidFill>
                <a:latin typeface="Courier New"/>
              </a:rPr>
              <a:t>StringBuilde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bje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-</a:t>
            </a:r>
            <a:fld id="{935970C3-F508-4C14-A9F9-A5FC1BF671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Build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ss ha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pla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thod that replaces a specified substring with a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eneral form of a call to the metho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object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place(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star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d885e3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tar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at specifies the starting position of a substring in the calling object,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d885e3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at specifies the ending position of the substring. (The starting position is included in the substring, but the ending position is not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d885e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ameter is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the method executes, the substring will be replaced wi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lacing a Substring in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Build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-</a:t>
            </a:r>
            <a:fld id="{683FC0F3-42B3-4060-8FFC-36C578A3FA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roduction to Wrapper Cl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 provides 8 primitive data typ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are called “primitive” because they are not created from clas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 provides wrapper classes for all of the primitive data typ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rapper cla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 class that is “wrapped around” a primitive data typ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wrapper classes are part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la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o to use them, there is n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m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atement requi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-</a:t>
            </a:r>
            <a:fld id="{F964FCFD-31F8-4D1E-9143-3AC7B4698F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epla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 in this code replaces the word “Chicago” with “New York”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Builder str = new StringBuilder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We moved from Chicago to Atlanta.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.replace(14, 21, "New York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str);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de will produce the following out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 moved from New York to Atlan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lacing a Substring in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Build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-</a:t>
            </a:r>
            <a:fld id="{1E5EA528-AD76-4D79-88E8-58C0C2F7E2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tringBuild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Build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ss also provides methods to set and delete characters in an obj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ingBuilder str = new StringBuilder(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I ate 100 blueberries!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Display the StringBuilder objec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ystem.out.println(st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Delete the '0'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.deleteCharAt(8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Delete "blue"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.delete(9, 13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Display the StringBuilder objec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ystem.out.println(st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Change the '1' to '5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.setCharAt(6, '5'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Display the StringBuilder objec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ystem.out.println(st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-</a:t>
            </a:r>
            <a:fld id="{F728A6BD-85C4-45FF-864E-460D211135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StringTokenize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Tokeniz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 breaks a string down into its components, which are call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oke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kens are a series of words or other items of data separated by spaces or other charac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peach raspberry strawberry vanilla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string contains the following four tokens: peach, raspberry, strawberry, and vanil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-</a:t>
            </a:r>
            <a:fld id="{DF68FB71-2F93-4866-A45F-B74D71CF1F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StringTokenize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haracter that separates tokens is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limi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17;92;81;12;46;5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string contains the following tokens: 17, 92, 81, 12, 46, and 5 that are delimited by semi-col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programming problems require you to process a string that contains a list of it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-</a:t>
            </a:r>
            <a:fld id="{AB49B0E4-D37E-4390-8AD2-E92E9915B7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StringTokenize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ampl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cess of breaking a string into tokens is known a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keniz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Java API provides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Tokeniz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ss  that allows you to tokenize a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llow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m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atement must be used in any class that uses i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885e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.util.StringTokenize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219320" y="1905120"/>
          <a:ext cx="6095880" cy="761760"/>
        </p:xfrm>
        <a:graphic>
          <a:graphicData uri="http://schemas.openxmlformats.org/drawingml/2006/table">
            <a:tbl>
              <a:tblPr/>
              <a:tblGrid>
                <a:gridCol w="2514600"/>
                <a:gridCol w="3581280"/>
              </a:tblGrid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d885e3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 date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d885e3"/>
                        </a:buClr>
                        <a:buFont typeface="Courier New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"4-2-2010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d885e3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n operating system pathname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d885e3"/>
                        </a:buClr>
                        <a:buFont typeface="Courier New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/home/rsullivan/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-</a:t>
            </a:r>
            <a:fld id="{59C10F72-DC43-4C2C-B24C-ED22FDD31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tringTokeniz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u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1544760"/>
          <a:ext cx="8382240" cy="4135320"/>
        </p:xfrm>
        <a:graphic>
          <a:graphicData uri="http://schemas.openxmlformats.org/drawingml/2006/table">
            <a:tbl>
              <a:tblPr/>
              <a:tblGrid>
                <a:gridCol w="3760920"/>
                <a:gridCol w="4621320"/>
              </a:tblGrid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nstruc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76869"/>
                        </a:gs>
                        <a:gs pos="50000">
                          <a:srgbClr val="bbe0e3"/>
                        </a:gs>
                        <a:gs pos="100000">
                          <a:srgbClr val="57686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76869"/>
                        </a:gs>
                        <a:gs pos="50000">
                          <a:srgbClr val="bbe0e3"/>
                        </a:gs>
                        <a:gs pos="100000">
                          <a:srgbClr val="576869"/>
                        </a:gs>
                      </a:gsLst>
                      <a:lin ang="5400000"/>
                    </a:gradFill>
                  </a:tcPr>
                </a:tc>
              </a:tr>
              <a:tr h="1013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StringTokenizer(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   String 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str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he string to be tokenized is passed into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. Whitespace characters (space, tab, and newline) are used as delimiter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3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StringTokenizer(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   String 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str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,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   String 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delimiters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he string to be tokenized is passed into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. The characters in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limiter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will be used as delimiter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StringTokenizer(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   String 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str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,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   String 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delimiters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,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   Boolean 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returnDelimeters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he string to be tokenized is passed into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. The characters in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limiter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will be used as delimiters. If the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eturnDelimiter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arameter is set to true, the delimiters will be included as tokens. If this parameter is set to false, the delimiters will not be included as token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-</a:t>
            </a:r>
            <a:fld id="{504A6FA7-5D16-44CA-B656-48B988929B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Tokeniz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reat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Tokeniz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bject with the default delimiters (whitespace character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Tokenizer strTokenizer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w StringTokenizer("2 4 6 8");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reat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Tokeniz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bject with the hyphen character as a delimi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Tokenizer strTokenizer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w StringTokenizer("8-14-2004", "-");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reat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Tokeniz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bject with the hyphen character as a delimiter, returning hyphen characters as tokens as wel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Tokenizer strTokenizer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w StringTokenizer("8-14-2004", "-", tr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-</a:t>
            </a:r>
            <a:fld id="{048D5187-691F-49EA-9D79-805CCF1AA5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StringTokenize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Tokeniz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 provid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885e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untTok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d885e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nt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main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kens in the str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885e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sMoreTok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d885e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e there any more tokens to extrac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885e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extTo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d885e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the next token in the str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d885e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ows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SuchElementExcep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f there are no more tokens in the str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-</a:t>
            </a:r>
            <a:fld id="{FDD09628-10B8-4B95-9716-EECDCABAD0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tracting Toke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ps are often used to extract tokens from a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Tokenizer strTokenizer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w StringTokenizer("One Two Three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(strTokenizer.hasMoreTokens(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(strTokenizer.nextToken(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code will produce the following out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w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r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DateComponent.jav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DateTester.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-</a:t>
            </a:r>
            <a:fld id="{D66CAC33-03C7-44E7-B1DD-0309AE65FA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ltiple Delimi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fault delimiters for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Tokeniz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are the whitespace charact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885e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\n\r\t\b\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multiple characters can be used as delimiters in the same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885e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oe@gaddisbooks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string uses two delimiters: </a:t>
            </a:r>
            <a:r>
              <a:rPr b="0" lang="en-US" sz="2800" spc="-1" strike="noStrike">
                <a:solidFill>
                  <a:srgbClr val="ff3300"/>
                </a:solidFill>
                <a:latin typeface="Courier New"/>
              </a:rPr>
              <a:t>@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ff3300"/>
                </a:solidFill>
                <a:latin typeface="Courier New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non-default delimiters are 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thod should be used on user input strings to avoid having whitespace become part of the last tok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-</a:t>
            </a:r>
            <a:fld id="{FD6ACC0D-1286-4DF6-AC48-FE40FD0B1A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rapper Cl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apper classes allow you to create objects to represent a primit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apper classes are immutable, which means that once you create an object, you cannot change the object’s val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get the value stored in an object you must call a meth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apper classes provide static methods that are very usef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-</a:t>
            </a:r>
            <a:fld id="{44DB5631-E4A9-4B72-9232-CC5C6E422E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ltiple Delimi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extract the tokens from this string we must specify both characters as delimiters to the constructo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Tokenizer strTokenizer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w StringTokenizer("joe@gaddisbooks.com", "@.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(strTokenizer.hasMoreTokens(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(strTokenizer.nextToken(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code will produce the following out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addisboo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-</a:t>
            </a:r>
            <a:fld id="{6AA8E271-29D2-4A4C-978B-58340DB453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lass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pl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kenize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bject and returns an array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array element is one tok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Create a String to tokeniz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str = "one two three four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Get the tokens from the str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[] tokens = str.split(" 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Display each tok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String s : toke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s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code will produce the following out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w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r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-</a:t>
            </a:r>
            <a:fld id="{0EF1A3CE-9266-4B49-B8E6-0713AF8698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umeric Data Type Wrapp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294400" cy="162252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provides wrapper classes for all of the primitive data typ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umeric primitive wrapper classes 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2590920" y="3124080"/>
          <a:ext cx="3733560" cy="2895840"/>
        </p:xfrm>
        <a:graphic>
          <a:graphicData uri="http://schemas.openxmlformats.org/drawingml/2006/table">
            <a:tbl>
              <a:tblPr/>
              <a:tblGrid>
                <a:gridCol w="1295280"/>
                <a:gridCol w="2438280"/>
              </a:tblGrid>
              <a:tr h="703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Wrapper Cla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76869"/>
                        </a:gs>
                        <a:gs pos="50000">
                          <a:srgbClr val="bbe0e3"/>
                        </a:gs>
                        <a:gs pos="100000">
                          <a:srgbClr val="57686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umeric Primitive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ype It Applies 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76869"/>
                        </a:gs>
                        <a:gs pos="50000">
                          <a:srgbClr val="bbe0e3"/>
                        </a:gs>
                        <a:gs pos="100000">
                          <a:srgbClr val="576869"/>
                        </a:gs>
                      </a:gsLst>
                      <a:lin ang="5400000"/>
                    </a:gra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By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by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Dou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dou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Flo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flo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Integ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L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l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Sh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sh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-</a:t>
            </a:r>
            <a:fld id="{F4A82A37-5483-4B0B-95A2-1182FD81E5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eating a Wrapper Obj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create objects from these wrapper classes, you can pass a value to the construct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eger number = new Integer(7);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can also assign a primitive value to a wrapper class obje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eger numb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umber = 7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-</a:t>
            </a:r>
            <a:fld id="{47DA1BE5-03DE-4F55-A105-FAA0C03E7E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arse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all from Chapter 2, we convert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put (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OptionPa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nto numbers.  An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taining a number, such as “127.89”, can be converted to a numeric data typ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of the numeric wrapper classes has a static method that converts a string to a numb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eg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ss has a method that convert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ss has a method that convert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methods are known a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se method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their names begin with the word “pars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-</a:t>
            </a:r>
            <a:fld id="{44674A74-0E52-47E5-801C-63F47F49A7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arse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Store 1 in bVa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yte bVar = Byte.parseByte("1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Store 2599 in iV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iVar = Integer.parseInt("2599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Store 10 in sV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hort sVar = Short.parseShort("10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Store 15908 in lV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ng lVar = Long.parseLong("15908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Store 12.3 in fV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loat fVar = Float.parseFloat("12.3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Store 7945.6 in dV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 dVar = Double.parseDouble("7945.6");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arse methods all throw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mberFormatExce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f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bject does not represent a numeric val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-</a:t>
            </a:r>
            <a:fld id="{BE4544D0-C5A4-4D61-B9BA-0D638EB977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of the numeric wrapper classes has a static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 that converts a number to a 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ethod accepts the number as its argument and returns a string representation of that number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i = 1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uble d = 14.95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 str1 = Integer.toString(i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 str2 = Double.toString(d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-</a:t>
            </a:r>
            <a:fld id="{3963D816-1A2F-4F99-A4C5-9A26794D7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oBinarySt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oHexSt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oOctalSt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teg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o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es have three additional method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885e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oBinarySt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oHexSt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oOctal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number = 14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(Integer.toBinaryString(number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(Integer.toHexString(number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(Integer.toOctalString(number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code will produce the following out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1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-</a:t>
            </a:r>
            <a:fld id="{0E437414-7D79-4264-9476-BB33FDB5C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MIN_VALU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MAX_VAL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umeric wrapper classes each have a set of static final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885e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N_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885e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X_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variables hold the minimum and maximum values for a particular data typ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("The minimum value for an 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+ "int is 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+ Integer.MIN_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("The maximum value for an 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+ "int is 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+ Integer.MAX_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-</a:t>
            </a:r>
            <a:fld id="{10F0E04E-3CAB-4032-B0FA-B64826B3EC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toboxing and Unbox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 declare a wrapper class variable and assign a val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ger numb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umber = 7;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nay think this is an error, but because number is a wrapper class variabl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utobox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ccur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box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oes the opposite with wrapper class variab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ger myInt = 5;        // Autoboxes the value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primitiveNumb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mitiveNumber = myInt;  // unbox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-</a:t>
            </a:r>
            <a:fld id="{EABE4072-9B42-48FD-A182-2F9FCF9FCF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37944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 Testing and Conversion With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harac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harac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 allows a char data type to b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rapp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an ob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harac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 provides methods that allow easy testing, processing, and conversion of character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-</a:t>
            </a:r>
            <a:fld id="{387AB02F-3704-4936-8603-9C03BD8ADB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toboxing and Unbox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rarely need to declare numeric wrapper class objects, but they can be useful when you need to work with primitives in a context where primitives are not permit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all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ss, which works only with object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rrayList&lt;int&gt; list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ew ArrayList&lt;int&gt;();     // Error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rrayList&lt;Integer&gt; list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ew ArrayList&lt;Integer&gt;(); // OK!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boxing and unboxing allow you to conveniently us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with primiti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-</a:t>
            </a:r>
            <a:fld id="{87683043-7E59-4A14-ACC3-2B4644052E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blem Solv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. Harrison keeps student scores in an Excel file.  This can be exported as a comma separated text file.  Each student’s data will be on one line. We want to write a Java program that will find the average for each student. (The number of students changes each year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ution: 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TestScoreReader.jav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TestAverages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-</a:t>
            </a:r>
            <a:fld id="{6CA177E7-1ECE-4140-AB5B-C5648DBD2A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Characte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85800" y="1371600"/>
          <a:ext cx="8001000" cy="4800600"/>
        </p:xfrm>
        <a:graphic>
          <a:graphicData uri="http://schemas.openxmlformats.org/drawingml/2006/table">
            <a:tbl>
              <a:tblPr/>
              <a:tblGrid>
                <a:gridCol w="3216240"/>
                <a:gridCol w="4784760"/>
              </a:tblGrid>
              <a:tr h="546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76869"/>
                        </a:gs>
                        <a:gs pos="50000">
                          <a:srgbClr val="bbe0e3"/>
                        </a:gs>
                        <a:gs pos="100000">
                          <a:srgbClr val="57686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76869"/>
                        </a:gs>
                        <a:gs pos="50000">
                          <a:srgbClr val="bbe0e3"/>
                        </a:gs>
                        <a:gs pos="100000">
                          <a:srgbClr val="576869"/>
                        </a:gs>
                      </a:gsLst>
                      <a:lin ang="5400000"/>
                    </a:gradFill>
                  </a:tcPr>
                </a:tc>
              </a:tr>
              <a:tr h="671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boolean isDigit(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   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char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ch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eturns true if the argument passed into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h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is a digit from 0 through 9. Otherwise returns fals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boolean isLetter(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   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char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ch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eturns true if the argument passed into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h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is an alphabetic letter. Otherwise returns fals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boolean isLetterOrDigit(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    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char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ch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eturns true if the character passed into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h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ntains a digit (0 through 9) or an alphabetic letter. Otherwise returns fals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3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boolean isLowerCase(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    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char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ch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eturns true if the argument passed into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h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is a lowercase letter. Otherwise returns fals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boolean isUpperCase(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    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char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ch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eturns true if the argument passed into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h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is an uppercase letter. Otherwise returns fals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0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boolean isSpaceChar(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    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char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ch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eturns true if the argument passed into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h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is a space character. Otherwise returns fals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-</a:t>
            </a:r>
            <a:fld id="{961F267E-8910-4E37-8336-C7AFEB44EA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racter Testing and Conversion With The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Characte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2433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CharacterTest.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CustomerNumber.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harac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 provides two methods that will change the case of a charac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143000" y="3962520"/>
          <a:ext cx="7391520" cy="1692000"/>
        </p:xfrm>
        <a:graphic>
          <a:graphicData uri="http://schemas.openxmlformats.org/drawingml/2006/table">
            <a:tbl>
              <a:tblPr/>
              <a:tblGrid>
                <a:gridCol w="2878200"/>
                <a:gridCol w="4513320"/>
              </a:tblGrid>
              <a:tr h="406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Meth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76869"/>
                        </a:gs>
                        <a:gs pos="50000">
                          <a:srgbClr val="bbe0e3"/>
                        </a:gs>
                        <a:gs pos="100000">
                          <a:srgbClr val="57686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76869"/>
                        </a:gs>
                        <a:gs pos="50000">
                          <a:srgbClr val="bbe0e3"/>
                        </a:gs>
                        <a:gs pos="100000">
                          <a:srgbClr val="57686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char toLowerCase(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   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char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ch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eturns the lowercase equivalent of the argument passed to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char toUpperCase(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   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char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ch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eturns the uppercase equivalent of the argument passed to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Text Box 39"/>
          <p:cNvSpPr/>
          <p:nvPr/>
        </p:nvSpPr>
        <p:spPr>
          <a:xfrm>
            <a:off x="907920" y="5715000"/>
            <a:ext cx="381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example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CircleArea.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-</a:t>
            </a:r>
            <a:fld id="{733CB46E-E48C-45DB-95F6-66F74320E4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bstr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ss provides several methods that search for a string inside of a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st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string that is part of another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of the substring searching methods provided by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ss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 startsWith(String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 endsWith(String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 regionMatches(int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star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String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start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     int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 regionMatches(boolean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ignoreCase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star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     String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start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-</a:t>
            </a:r>
            <a:fld id="{7688E2BB-A672-493B-AA46-0BE917B93B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arching Str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artsWi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 determines whether a string begins with a specified substring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ing str = "Four score and seven years ago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str.startsWith("Four"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ystem.out.println("The string starts with Four.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ystem.out.println("The string does not start with Four.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885e3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.startsWith("Four"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turns true becaus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oes begin with “Four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885e3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artsWi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case sensitive comparis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6T01:54:02Z</dcterms:created>
  <dc:creator>Tony Gaddis</dc:creator>
  <dc:description/>
  <cp:keywords/>
  <dc:language>en-US</dc:language>
  <cp:lastModifiedBy>usellst</cp:lastModifiedBy>
  <cp:lastPrinted>2009-04-22T19:24:48Z</cp:lastPrinted>
  <dcterms:modified xsi:type="dcterms:W3CDTF">2009-03-24T19:49:58Z</dcterms:modified>
  <cp:revision>48</cp:revision>
  <dc:subject>Text Processing and More about Wrapper Classes</dc:subject>
  <dc:title>Chapter 10</dc:title>
</cp:coreProperties>
</file>