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8F2E-AFFA-4C6F-BFA7-616212595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D8E9-527B-422D-9296-064268A4D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CDAC-4F8F-46BB-B42F-E03E2AFDB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ABB0-7C4C-4A64-A87D-2BF94EBCC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0001-9C3A-4059-AA99-09BFE47F7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5306-8D2F-4879-8DFB-8B843F293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5C09-0E12-4286-913C-71D270B39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0380-9B82-4BF6-A3B6-17796DA80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5783-4FF4-402E-95D8-BEE0B7C19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A760-4F10-467F-AF6F-098FBCE98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3134-BD4C-43F0-B6CF-04F255B36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8A1B-9F76-4870-89D4-D9B7DBBD0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751D-32E7-41BE-A9CE-A4FA3D6CA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0DBE-7629-4E46-8929-32E1456FF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60B1-1896-41AF-94D0-1E7C22CB9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87E6-5724-4818-BE49-BD6C7CF0F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E0E8-E576-416B-AFA7-7D3C846F4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2889-1809-4F06-B831-027A4BFBB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CAD8-203C-4485-9629-702CF23A7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22A2-6905-4C98-B1EB-560B25330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3A2A-B1DE-47BB-9238-2787225E0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02F3-8EA9-4202-A2EC-E03F79C52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E5EB-2A99-4C19-9311-B904E5D19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74FE-BCA2-4BDC-A4BD-B13B7F723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D862-6710-46A9-BB06-64EA72824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D30D-0F89-46A9-8C84-DBC2C0BA2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2692-49FB-4615-92EB-79D5EDE0E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D821-C44E-4B32-A105-1BA28D323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4B4B-8191-47C6-AAE9-E69D174E7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5E38-8ED5-4782-9B8D-0490B3FF7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F642-331B-4F3E-ACC4-474CA5290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EDDB-1001-4B87-8632-96D4FF684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4B1A-7A19-47C8-9407-BBB1C1A4C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6AFC-31C8-43E2-B8B1-DCA70DDDD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E9E4-378E-4ED0-95F1-486513796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8D67-BFD6-4AF6-BF60-8A938D014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64F9-DAD1-4A6A-9B9C-DFD48ECE7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7C1B-1F30-4539-9BC0-59A6A57C6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CF83-7732-40F6-8496-CAF60FE13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802D-EFCA-469E-8FD0-0282F194B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1A5A-6ABA-43C7-9F34-39B9B2F7E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1E90-0C58-4262-961C-1EEE20636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4584-45AF-4150-8102-AEF6E8F89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3E8A-1E48-4A36-A208-016A0F71F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1192-8CE0-4CBF-A1D9-BCE41B8E9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5566-02B7-4480-B082-D9F79A6D8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3414-17C9-4E38-9780-8423EEC2B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28D3-8479-4AAC-BA31-C278EC54A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626E-D823-4509-B86A-13B108032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D8EB-3E54-4AAB-9458-680061EA8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6BF1-ADFE-4132-AF3A-CA5C157F4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3081-BCB4-4CA4-AFB3-774F9EE2C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49D0-E952-44EB-B8AB-60DD84BAA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C609-86AD-4167-AC3F-A71F3C71A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7AE8-8C94-4B73-92F5-9F55EACD7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B7D3-C4BC-4754-B65D-2F461C314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1F6E-94F0-4850-A637-6C2FB8878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7F3C-1B3E-45A3-811E-17CD16DC3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1304-CE6C-442A-B86F-59F4E3D8C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FE5C-F43E-4EB9-B297-52B7F374B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7D17-A9F8-4F4A-A13A-A36DCFE9A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DC8F-656E-417D-96DA-0E8899DF9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6724-A23A-42BC-AAD2-2B7E40EC5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1C1D-CAAC-412D-8AC6-6FECA582C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08C0-1DCE-44DE-A2D3-355BF7DDD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A697-2CA5-4FA2-BBB9-86B06CDCC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16AF-103B-425B-8E2A-C6B70DE37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B0A6-1110-486B-8189-527B2EFE5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7AB7-B348-4EC5-B8BC-701F12119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B0E2-A1AF-4C8E-A2D8-4B0EEF179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AA6F-D093-4209-9253-5E1193D70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78CD-E81F-4871-92F2-8679DF373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D1B6-E8A2-42BF-BDB5-8D918F738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BF21-EEBE-4B85-806C-B781D0812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F09B-74B3-4504-A652-1B4FE6E91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E6AB-F9C1-4D48-9CA6-D921FD31F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64D5-FC74-43D2-8E7C-C2B8B5357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B72C-24C3-4CC9-BC60-85C787016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01AC-CF8B-4E91-8500-08DBB680A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A8C3-A92B-4CCF-B035-F3114E039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551D-9871-444C-A017-A8E4CA793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3C20-1E7A-4C47-91BC-ABCB1FF19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0126-71E1-42A3-9E6E-EE456A236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04F8-A9E3-4577-96C4-73364BEDB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5E0A-F81B-453C-8CD2-A6D4CA2C2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9930-F9DC-4477-9F04-42CB5AEEE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582B-4CDB-413C-BCF1-95DDEF827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A340-996A-4256-9598-5B05660C5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6369-40D5-4DBB-8C93-798E0E885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6D1D-8C20-4BF4-ABAC-B6C7BBB8A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71DC-C762-4AB4-BC60-D44C17CDE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FE13-E8CD-47B3-B38E-E0C65D445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7F03-86E1-4499-BDDB-911C3A0F5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2837-B5BB-4E35-BA14-7DD7D3FBB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6C79-B1FA-413A-BE5E-BC4044F80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97FCB-118F-4434-AA7E-D0F322B80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2160" y="-9360"/>
            <a:ext cx="9140760" cy="213336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885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E41448F7-BE56-4809-92F2-D14E23B37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3880" y="62485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c3c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203040" y="5715000"/>
            <a:ext cx="1371600" cy="914400"/>
            <a:chOff x="203040" y="5715000"/>
            <a:chExt cx="1371600" cy="914400"/>
          </a:xfrm>
        </p:grpSpPr>
        <p:pic>
          <p:nvPicPr>
            <p:cNvPr id="45" name="Picture 4" descr="Pearson_CMYK"/>
            <p:cNvPicPr/>
            <p:nvPr/>
          </p:nvPicPr>
          <p:blipFill>
            <a:blip r:embed="rId2"/>
            <a:stretch/>
          </p:blipFill>
          <p:spPr>
            <a:xfrm>
              <a:off x="304920" y="6172200"/>
              <a:ext cx="11556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5"/>
            <p:cNvSpPr/>
            <p:nvPr/>
          </p:nvSpPr>
          <p:spPr>
            <a:xfrm>
              <a:off x="203040" y="5715000"/>
              <a:ext cx="137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Addison Wesley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is an imprint o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d885e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ListWindow.jav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ListWindowWithScroll.jav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MultipleIntervalSelection.java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ComboBoxWindow.java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MyCatImage.jav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MenuWindow.jav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file:///TempConverter.jav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13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ced GUI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838080" y="198108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459F5783-A857-4413-842A-D6F3EC714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n item i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is selected it generate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st selection ev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is handled by an instance of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st selection listen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, which must meet the following r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must implemen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SelectionListen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must have a method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Chang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This method must take an argument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SelectionEv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ListSelectionListe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to register the instance of the list selection listener class with the lis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8AF0541C-A46F-4105-8663-4C905C184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onent generates an ev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utomatically execut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lueChang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of the list selection listener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passes the event object as an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8D695395-69C7-4B37-89D9-F3F319890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7944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rieving Selected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ay 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elected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electedInde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termine which item in a list is currently select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urns a reference to the item that is currently sel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selected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ectedName = (String)nameList.getSelectedValu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turn value must be cas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required in order to store it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ected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item in the list is selected, the method returns n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A19A1A33-B4B2-4C64-B714-7B85A6466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7944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rieving Selected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returns the index of the selected item,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no item is sel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ly, the items that are stored in a list are numbered (similar to an arra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item’s number is called i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item has the index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the index of the selected item to retrieve the item from an arra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names = { "Bill", "Geri", "Greg", "Jean", "Kirk", "Phillip", "Susan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List nameList = new JList(nam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2DBFE19B-0BD1-4E0C-AD0A-8EA1567CD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37944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rieving Selected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ode could be used to determine the selected ite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elected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 = nameList.getSelectedIndex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index != -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edName = names[index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ListWindow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9CEE0850-581B-452A-B202-D1314EFD1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rdered 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B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can be used to draw a border around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nthList.setBorder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rderFactory.createLineBorder(Color.black,1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2971800" y="3200400"/>
            <a:ext cx="243828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30B961D5-FFA3-47FB-B198-5E9A37D29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A Scroll Bar To a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default, a list component is large enough to display all of the items it cont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a list component contains too many items to be displayed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GUI applications display a scroll bar on list components that contain a large number of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components do not automatically display a scroll b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9A122F33-0DE3-4608-81D3-B9B73B105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A Scroll Bar To a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38040" indent="-33804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isplay a scroll bar on a list component,  follow these general ste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5480">
              <a:spcBef>
                <a:spcPts val="601"/>
              </a:spcBef>
              <a:buClr>
                <a:srgbClr val="d885e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number of visible rows for the list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5480">
              <a:spcBef>
                <a:spcPts val="601"/>
              </a:spcBef>
              <a:buClr>
                <a:srgbClr val="d885e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scroll pane object and add the list component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5480">
              <a:spcBef>
                <a:spcPts val="601"/>
              </a:spcBef>
              <a:buClr>
                <a:srgbClr val="d885e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scroll pane object to any other containers, such as pan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names = { "Bill", "Geri", "Greg", "Jean", "Kirk", "Phillip", "Susan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List nameList = new JList(nam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84553F61-C11C-48C2-A586-1846F856B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A Scroll Bar To a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the size of the list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List.setVisibleRowCount(3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scroll pane object and add the list component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roll pane obj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container that displays scroll bars on any component it cont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crollP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to create a scroll pan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ass the object that we wish to add to the scroll pane as an argument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crollP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or.</a:t>
            </a:r>
            <a:r>
              <a:rPr b="0" lang="en-US" sz="2400" spc="-1" strike="noStrike">
                <a:solidFill>
                  <a:srgbClr val="000000"/>
                </a:solidFill>
                <a:latin typeface="Minion-Regular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inion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ScrollPane scrollPane = 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ScrollPane(nameLis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AA70DC1B-E057-49CC-8B16-25C801EAE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A Scroll Bar To a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scroll pane object to any other containers that are necessary for our G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Panel panel = new JPane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add(scrollPan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pane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list component is displayed, it will appear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items showing at a tim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 ba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A5A4BCF3-1777-4B8D-BEEC-BF1B56A7A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3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wing and AWT Class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-Only Text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o Bo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ing Images in Labels and But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nemonics and Tool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990C386D-5913-47D8-928E-E3D4F7790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A Scroll Bar To a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efault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onents added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crollP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only display a scroll bar if there are more items in the list than there are visible r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onent is added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crollP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, a border will automatically appear around the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ListWindowWithScroll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D4CED61D-8872-4A74-B80D-F47729674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Items to an Existing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13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List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allows the adding of items in an exis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ListData(Object[]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places any items that are currently displayed in the compo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an be used to add items to an empty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F6C7E7A5-479E-45DA-94C8-1032439B1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Items to an Existing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reate an empty list by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’s no-parameter constructor:</a:t>
            </a:r>
            <a:r>
              <a:rPr b="0" lang="en-US" sz="2800" spc="-1" strike="noStrike">
                <a:solidFill>
                  <a:srgbClr val="000000"/>
                </a:solidFill>
                <a:latin typeface="Minion-Regular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inion-Regul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List nameList = new JLi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can be added to the lis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names = { "Bill", "Geri", "Greg", "Jean", "Kirk", "Phillip", "Susan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List.setListData(nam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A192A345-B514-4C0C-86E9-2AAC7E545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le Interval Selection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st is set to single interval selection mode by passing the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SelectionModel.SINGLE_INTERVAL_SELE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component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electionM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erval is a set of contiguous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er sel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item in the interval by clicking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ast item by holding the Shift key while clicking on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e items that appear in the list from the first item through the last item are sel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720B30A5-3C70-42CB-8FA8-26ABF58F4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le Interval Selection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returns the first item in the selected interv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returns the index of the first item in the selected inter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t the entire selected interval,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ethod returns an array of objects, which are the items in the selected interv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Ind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returns an array of int values that are the indices of all the selected items in the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41CC54C9-DF24-4C6E-A2C8-ABC2F3A53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Interval Selection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multiple interval selection mode by passing the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SelectionModel.MULTIPLE_INTERVAL_SEL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component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electionM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ultiple interval selection m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tems can be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tems do not have to be in the same interv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ultiple interval selection mode the user can select single items or interv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946BDA78-C053-485F-AD71-4D828F832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Interval Selection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er holds down the Ctrl key while clicking on an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elects the item without deselecting other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returns the first selected i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returns the index of the first selected i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returns an array of objects containing the items that are sel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Ind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return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y containing the indices of the selected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0A4E94D5-73F6-4C5C-A2DE-A93416FCC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Interval Selection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360" y="1828800"/>
            <a:ext cx="43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MultipleIntervalSelection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738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111658DB-125B-4B98-9BD2-13A87A964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o Bo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4280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bo box presents a drop-down list of items that the user may select f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ComboBo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is used to create a combo b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an array of objects that are to be displayed as the items in the drop-down list to the constru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names = { "Bill", "Geri", "Greg", "Jean", "Kirk", "Phillip", "Susan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omboBox nameBox = new JComboBox(names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displayed, the combo box created by this code will initially appear as the butt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4800600" y="5257800"/>
            <a:ext cx="12286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8B6A2CED-CD31-4242-BB6E-8102B26BC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o Bo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31808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utton displays the item that is currently sel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item in the list is automatically selected when the combo box is displa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user clicks on the button, the drop-down list appears and the user may select another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7629480" y="2438280"/>
            <a:ext cx="1209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0A05A497-7F02-46F3-9E28-6DE061960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3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Choosers and Color Choo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about Text Components: Text Areas and Fo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nd F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6B7DECFB-1403-47A8-B09E-E84DD9CBD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o Box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n item i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ComboBo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is selected, it generates an action ev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 action events with an action event listener class, which must hav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user selects an item in a combo box, the combo box executes its action event listener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, pass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as an arg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A5688973-540F-4A6B-A33D-3CBA3D500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rieving Selected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methods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ComboBo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that can be used to determine which item in a list is currently selec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elected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elected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returns a reference to the item that is currently sel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selected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edName = (String) nameBox.getSelectedIte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urn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ence so we cast the return value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82896D7B-E086-493D-A40F-ECA9B7E60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rieving Selected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SelectedInd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turns the index of the selected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names = { "Bill", "Geri", "Greg", "Jean", "Kirk", "Phillip", "Susan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omboBox nameBox = new JComboBox(nam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the selected item from the names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elected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 = nameBox.getSelectedIndex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edName = names[index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94919EFC-7123-4044-BF44-778F6C1F9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rieving Selected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267800" y="1627200"/>
            <a:ext cx="3507120" cy="9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omboBoxWindow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2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3354480" cy="1447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3"/>
          <a:stretch/>
        </p:blipFill>
        <p:spPr>
          <a:xfrm>
            <a:off x="685800" y="3581280"/>
            <a:ext cx="3124080" cy="2090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4" descr=""/>
          <p:cNvPicPr/>
          <p:nvPr/>
        </p:nvPicPr>
        <p:blipFill>
          <a:blip r:embed="rId4"/>
          <a:stretch/>
        </p:blipFill>
        <p:spPr>
          <a:xfrm>
            <a:off x="4800600" y="3657600"/>
            <a:ext cx="3178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3FD05EF6-47CF-4974-B1EF-B6D32547C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itable Combo Bo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types of combo box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editable – allows the user to only select items from its l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table – combines a text field and a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allows the selection of items from th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the user to type input into the text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Edi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sets the edit mode for the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names = { "Bill", "Geri", "Greg", "Jean", "Kirk", "Phillip", "Susan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omboBox nameBox = new JComboBox(nam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Box.setEditable(tr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B6A36FBD-086D-4729-B3A1-B8BAABBD5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itable Combo Bo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ditable combo box appears as a text field with a small button displaying an arrow join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user clicks on the button, the drop-down list appears as shown in the center of the fig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er m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an item from the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a value into the text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er is not restricted to the values that appear in the list, and may type any input into the text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C721BBC4-7986-41C9-888F-E28995130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itable Combo Bo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1666800" cy="447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3581280" y="2895480"/>
            <a:ext cx="1752840" cy="212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3"/>
          <a:stretch/>
        </p:blipFill>
        <p:spPr>
          <a:xfrm>
            <a:off x="5943600" y="2895480"/>
            <a:ext cx="1638360" cy="4478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2590920" y="1447920"/>
            <a:ext cx="3733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Sharon is not in the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7"/>
          <p:cNvCxnSpPr>
            <a:stCxn id="216" idx="2"/>
          </p:cNvCxnSpPr>
          <p:nvPr/>
        </p:nvCxnSpPr>
        <p:spPr>
          <a:xfrm flipH="1">
            <a:off x="4457160" y="1854360"/>
            <a:ext cx="1080" cy="1041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8" name="AutoShape 8"/>
          <p:cNvCxnSpPr>
            <a:stCxn id="216" idx="2"/>
          </p:cNvCxnSpPr>
          <p:nvPr/>
        </p:nvCxnSpPr>
        <p:spPr>
          <a:xfrm flipH="1" rot="16200000">
            <a:off x="5089680" y="1222200"/>
            <a:ext cx="1041840" cy="2305440"/>
          </a:xfrm>
          <a:prstGeom prst="bentConnector3">
            <a:avLst>
              <a:gd name="adj1" fmla="val 49982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B6DCD1F4-067A-477A-B339-41EF7074F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playing Images in Labels and But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s can display text, an image, or b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isplay an image, create an instance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, which reads the imag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structor accepts the name of an imag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pported file types are JPEG, GIF, and P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can also contain path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Icon image = new ImageIcon("Smiley.gi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Icon image = new ImageIc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C:\\Chapter 12\\Images\\Smiley.gi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858DB278-3FCC-4DFA-B467-964E7A41F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playing Images in Labels and But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the image in a label by pass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as an argument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Label(Icon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im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 passed can b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or any object that implement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c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Icon image = new ImageIcon("Smiley.gi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Label label = new JLabel(ima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Label label = new JLabel("Have a nice day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bel.setIcon(ima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B7EFFADE-497F-46F9-A259-9378187E2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playing Images in Labels and But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is displayed to the right of images by defa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alignment can be modified by passing one of the following to an overloaded constru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ngConstants.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ngConstants.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ngConstants.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Icon image = new ImageIcon("Smiley.gi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Label label = new JLabel("Have a nice day!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Constants.RIGH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F5E2261D-5795-4C76-866F-667975387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wing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T Class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Figure 13-1"/>
          <p:cNvPicPr/>
          <p:nvPr/>
        </p:nvPicPr>
        <p:blipFill>
          <a:blip r:embed="rId1"/>
          <a:stretch/>
        </p:blipFill>
        <p:spPr>
          <a:xfrm>
            <a:off x="4491000" y="457200"/>
            <a:ext cx="4272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2C1FE52A-DBA6-49DD-822A-7F7DF5543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playing Images in Labels and But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a button with an image is similar to that of creating a label with an im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Icon image = new ImageIcon("Smiley.gi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Button button = new JButton(ima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button with an image and tex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Icon image = new ImageIcon("Smiley.gi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Button button = new JButt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Have a nice day!", ima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.setIcon(ima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2DBEBFA6-B78A-41EA-A9A8-28CC208A3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playing Images in Labels and But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dd an image to an existing butt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Button button = new JButt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Have a nice day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Icon image = new ImageIcon("Smiley.gi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.setIcon(ima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not limited to small graphical icons when placing images in labels or but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MyCatImage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AAB91838-EBB6-415C-9685-7C9945E6B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nem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nemoni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key that you press in combination with the Alt key to quickly access a compo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sometimes referred to as hot ke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ot key is assigned to a component through the component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Mnemon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gument passed to the method is an integer code that represents the key you wish to as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3080E280-2427-4946-BBAC-9670888A8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534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nem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codes are predefined constants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awt.ev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ckag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constants take the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Event.VK_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key on the keybo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tters VK in the constants stand for “virtual key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ssig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ey as a mnemonic,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Event.VK_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Button exitButton = new JButton("Exi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Button.setMnemonic(KeyEvent.VK_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9B2439AD-4C1D-420A-8F37-C3DF18544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nem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letter is in the component’s text, the first occurrence of that letter will appear underl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letter does not appear in the component’s text, then no letter will appear underl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D00F7FCE-BE2B-4C37-A1B2-360BE4FBE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nem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also assign mnemonics to radio buttons and check box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RadioButton rb1 = new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RadioButton("Breakfas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b1.setMnemonic(KeyEvent.VK_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RadioButton rb2 = new JRadioButton("Lunch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b2.setMnemonic(KeyEvent.VK_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heckBox cb1 = new JCheckBox("Monday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cb1.setMnemonic(KeyEvent.VK_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heckBox cb2 = new JCheckBox("Wednesday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cb2.setMnemonic(KeyEvent.VK_W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74B4A5B7-7A40-42BB-B0F3-7C9DD6224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ol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ol ti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ext that is displayed in a small box when the mouse is held over a compo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x usually gives a short description of what the component do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GUI applications use tool tips as concise help to the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9DDAFA58-A7E4-4FDD-9D35-51C57496A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ol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 a tool tip to a component with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ToolTip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Button exitButton = new JButton("Exi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Button.setMnemonic(KeyEvent.VK_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Button.setToolTipText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Click here to exit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2286000" y="4267080"/>
            <a:ext cx="2485800" cy="1371600"/>
            <a:chOff x="2286000" y="4267080"/>
            <a:chExt cx="2485800" cy="1371600"/>
          </a:xfrm>
        </p:grpSpPr>
        <p:pic>
          <p:nvPicPr>
            <p:cNvPr id="253" name="Picture 5" descr=""/>
            <p:cNvPicPr/>
            <p:nvPr/>
          </p:nvPicPr>
          <p:blipFill>
            <a:blip r:embed="rId1"/>
            <a:stretch/>
          </p:blipFill>
          <p:spPr>
            <a:xfrm>
              <a:off x="2286000" y="4267080"/>
              <a:ext cx="2485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" descr=""/>
            <p:cNvPicPr/>
            <p:nvPr/>
          </p:nvPicPr>
          <p:blipFill>
            <a:blip r:embed="rId2"/>
            <a:stretch/>
          </p:blipFill>
          <p:spPr>
            <a:xfrm>
              <a:off x="2743200" y="4419360"/>
              <a:ext cx="438120" cy="3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Text Box 7"/>
          <p:cNvSpPr/>
          <p:nvPr/>
        </p:nvSpPr>
        <p:spPr>
          <a:xfrm>
            <a:off x="5644440" y="4114800"/>
            <a:ext cx="28933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e mnemonic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8"/>
          <p:cNvSpPr/>
          <p:nvPr/>
        </p:nvSpPr>
        <p:spPr>
          <a:xfrm flipH="1">
            <a:off x="2971440" y="4343400"/>
            <a:ext cx="259092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5645520" y="4876920"/>
            <a:ext cx="1155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l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0"/>
          <p:cNvSpPr/>
          <p:nvPr/>
        </p:nvSpPr>
        <p:spPr>
          <a:xfrm flipH="1">
            <a:off x="4571640" y="5105520"/>
            <a:ext cx="1066680" cy="152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947D3B1D-E7A0-439B-AC66-941FC15A2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e Choo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73836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le chooser is a specialized dialog box that allows the user to browse for a file and select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0292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D9593672-46EE-4C41-90B1-C930C5DE7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e Choo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n instance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ileChoo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to display a file chooser dialog b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f the constructors have the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FileChoose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FileChooser(String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constructor shown takes no arguments and uses the default directory as the starting point for all of its dialog box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constructor tak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gument containing a valid path. This path will be the starting point for the object’s dialog box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6E169AF9-19FF-4995-93EE-A414E8BC4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Only Text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13760" cy="39085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only text fields are a different way to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onent has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Edi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Editable(boolean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dita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efault a text field is edi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Edi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must be called and passed false to make the field read-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F0A6CEFB-6270-4805-9AB5-0B62B69C3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e Choo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FileChoo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can display two types of predefined dialog box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file dialog box – lets the user browse for an existing file to op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ve file dialog box – lest the user browse to a location to save a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10F2D878-BA82-4A61-9BA6-ACDF73DF2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534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e Choo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isplay an open file dialog box,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wOpenDia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form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howOpenDialog(Compone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are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 can be null or a reference to a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ull is passed, the dialog box is normally centered in the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pass a reference to a component the dialog box is displayed over the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3DEEE671-E4CE-4A8C-B73A-6689195FF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e Choo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isplay a save file dialog box,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howSaveDia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howSaveDialog(Compone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are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gument can be either null or a reference to a compo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methods return an integer that indicates the action taken by the user to close the dialog bo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8C210B21-7501-4206-AF42-68EB60E8D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e Choo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compare the return value to one of the following consta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ileChooser.CANCEL_O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ndicates that the user clicked on the Cancel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ileChooser.APPROVE_O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ndicates that the user clicked on the OK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ileChooser.ERROR_O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ndicates that an error occurred, or the user clicked on the standard close button on the window to dismiss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user selected a file,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to determine the file that was sel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lected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, which contains data about the sel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B513E2F8-67DD-4538-A28C-35BF46150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e Choo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Pa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to get the path and file name a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FileChooser fileChooser = new JFileChoos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tatus = fileChooser.showOpenDialog(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tatus == JFileChooser.APPROVE_O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File selectedFil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fileChooser.getSelectedFi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tring filename = selectedFile.getPath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OptionPane.showMessageDialog(nul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You selected " + file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AC9C5F58-5BBD-4E0F-8EBA-61E39AC4B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r Choo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or chooser is a specialized dialog box that allows the user to select a color from a predefined palette of col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6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39621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8C21E528-F0AC-47DB-BD75-F519C571D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r Choo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licking the HSB tab you can select a color by specifying its hue, saturation, and bright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licking the RGB tab you can select a color by specifying its red, green, and blue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ColorChoo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has a static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wDia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ith the following general forma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 showDialog(Compone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aren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it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Color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2824643D-B84C-4AAD-9227-30BB26768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r Choo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first argumen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dialog box is normally centered in the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is a reference to a component the dialog box is displayed over the compo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argument is the dialog tit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hird argument indicates the color that appears initially selected in the dialog bo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thod returns the color selected by the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7DD40896-9705-4B7B-8EA4-3A9B4F366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r Choo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Panel panel = new JPanel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lor selectedColo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ColorChooser.showDialog(nu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Select a Background Color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lor.BL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nel.setBackground(selectedColo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94400" cy="8114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nu syste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collection of commands organized in one or more drop-down men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25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199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3AA72FD9-EA66-4B18-8695-127DFECD7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component that displays a list of items and allows the user to select items from the li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 is used for creating l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instance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s created, an array of objects is passed to the constr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List (Object[]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 uses the array to create the list of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names = { "Bill", "Geri", "Greg", "Jean", "Kirk", "Phillip", "Susan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List nameList = new JList(nam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DE15BFA7-B757-47FD-B220-14962D314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nents of A Menu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nu system commonly consists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u B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nu ba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s the names of one or men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 drop-down list of menu i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u I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nu ite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select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ck box menu i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heck box menu ite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s with a small box beside i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item may be selected or deselec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dio button menu i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dio button menu ite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be selected or desel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m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– A menu within a menu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bmen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arator b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A separator bar is a horizontal bar used to separate groups of items on a men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05D1D24E-C3AC-4B93-8854-5AEA98DA5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u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nu system is constructed with the following cla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enuB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Used to create a menu b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MenuB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 can contain JMenu compon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en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Used to create a menu.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en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onent can conta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MenuI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CheckBoxMenuI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RadioButtonMenuI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mponent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well as oth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Men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mpon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d885e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ubmenu is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Men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omponent that is inside anothe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Men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ompon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enuI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Used to create a regular menu i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MenuI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mponent generates an action event when selec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A222AEB4-4D41-419F-B457-50BD6DE36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u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heckBoxMenuI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Used to create a check box menu i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lass’s isSelected method returns true if the item is selected, or false otherwi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CheckBoxMenuI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mponent generates an action event when selec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RadioButtonMenuI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Used to create a radio button menu i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RadioButtonMenuI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mponents can be grouped together in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 so that only one of them can be selected at a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lass’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Selec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ethod returns true if the item is selected, or false otherwi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RadioButtonMenuI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mponent generates an action event when selec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D851D36B-51FA-4B09-B11B-6C8F7DF44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u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MenuWindow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19139450-E739-482F-877C-682ADC22B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is used to create text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xt field is a component that allows the user to enter a single line of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xt area is like a text field that can accept multiple lines of in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extAr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to create a text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neral format of two of the class’s constru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TextArea(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rows, int column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TextArea(String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ext, int 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olumn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B6CE6C62-760D-42B9-B513-D3560BF61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1608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extAr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provide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s for getting and setting the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userText = textInput.getTex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Input.setText("Modified: " + userText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extAr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onents do not automatically display scroll b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ust add a text area to a scroll p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TextArea textInput = JTextArea(20, 4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ScrollPane scrollPane = new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ScrollPane(textInp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5BDF4F36-6252-4643-A0DE-3E9666E25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crollPa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displays both vertical and horizontal scroll bars on a text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default, the scroll bars are not displayed until they are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behavior can be alte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rollPane.setHorizontalScrollBarPolicy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ScrollPane.HORIZONTAL_SCROLLBAR_NEV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rollPane.setVerticalScrollBarPolicy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ScrollPane.VERTICAL_SCROLLBAR_ALWAY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AA02328F-6D0D-47FA-9D05-223ACC692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pass one of the following constants as an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urier New"/>
              </a:rPr>
              <a:t>setHorizontalScrollBar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ScrollPane.HORIZONTAL_SCROLLBAR_AS_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ScrollPane.HORIZONTAL_SCROLLBAR_N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ScrollPane.HORIZONTAL_SCROLLBAR_AL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urier New"/>
              </a:rPr>
              <a:t>setVericalScrollBar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ScrollPane.VERTICAL_SCROLLBAR_AS_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ScrollPane.VERTICAL_SCROLLBAR_N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ScrollPane.VERTICAL_SCROLLBAR_AL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2AC6B2E4-EE69-4FAC-AEAE-EC71F1CFE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efault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extAr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onents do not perfo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 wrapp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able line wrap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Input.setLineWrap(tr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different styles of line wrap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d wrapping – the line breaks always occur between wor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Input.setWrapStyleWord(true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 wrapping – lines are broken between characters (default mod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32645B15-5CAC-4140-96D0-B308F0231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display according to their font 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nt – the name of the type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yle – can be plain, bold, and/or ita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– size of the text in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ponent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Fo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will change the appearance of the text in the compon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Font (Fo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appeara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Mini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-Regular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0" lang="en-US" sz="2400" spc="-1" strike="noStrike">
                <a:solidFill>
                  <a:srgbClr val="000000"/>
                </a:solidFill>
                <a:latin typeface="Minion-Regular"/>
              </a:rPr>
              <a:t> constructor takes three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(String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font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y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272D70C1-4081-4F89-A78B-FA18B0F25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Selection M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 can operate in any of the following selection mo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ingle Selection M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Only one item can be selected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ingle Interval Selection M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Multiple items can be selected, but they must be in a single interval. An interval is a set of contiguous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ultiple Interval Selection M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n this mode multiple items may be selected with no restri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the default selection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53D6594D-9793-4B3C-87E0-039BAB485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guarantees that you will have the fo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a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alog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nospac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nsSer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hree font sty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nt.PL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nt.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nt.ITA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bel.setFont(new Font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Serif", Font.BOLD, 24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nt styles can be combined adding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bel.setFont(new Font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Serif",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Font.BOLD + Font.ITA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24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A421A732-1233-421D-BBEC-1BE73FC98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572000" cy="42037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slider is a component that allows the user to graphically adjust a number within a rang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liders are created from the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JSlid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y display an image of a “slider knob” that can be dragged along a trac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6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168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36D164E8-5480-49DE-B758-6484B8F74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lider is designed to represent a range of numeric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user moves the knob along the track, the numeric value is adjusted according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ween the minimum and maximum values, major tick marks are displayed with a label indicating the value at that tick ma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ween the major tick marks are minor tick ma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C0D6D986-1E7C-4ECD-A704-C088AF7F7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l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or has the general 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Slider(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orienta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in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ax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initial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orientation, one of these constants should be 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lider.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lider.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26E59A11-D4D9-4FD6-991D-D56C741B4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Slider slider1 = new JSlider(JSlider.HORIZONTAL, 0, 50, 2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Slider slider2 = new JSlider(JSlider.VERTICAL, 0, 50, 2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major and minor tick mark spacing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MajorTickSpa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MinorTickSpa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lider1.setMajorTickSpacing(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lider1.setMinorTickSpacing(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9C7B6A0B-F18F-4A33-8BB5-05CBC9A89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tick marks by ca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PaintTick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ider1.setPaintTickMarks(tr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numeric labels on the slider by ca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Paint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ider1.setPaintLabels(tr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knob’s position is moved, the slider component generate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ge ev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andle the change event, writ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ge listen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795B717C-A884-4490-9713-8303D8D16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i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ange listener class must meet the following requi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ngeListe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hav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Chan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ethod must take an argument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ngeEv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trieve the current value stored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l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rrentValue = slider1.getValu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TempConverter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C13A537E-F4FD-4B62-86FA-44CD9C3FD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nd 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earance of a particular system’s GUI is known as i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ok and fe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allows you to select the look and feel of a GUI appl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most systems, Java’s default look and feel is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lso Motif and Windows look and feel classes for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 is similar to a UNIX look and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 is the look and feel of the Windows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F764F2F7-46F3-4539-8137-A35FC13C2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nd 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hange an application’s look and feel, call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IManag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’s static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LookAndFe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has a class for each look and fe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LookAndFe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takes the fully qualified class name for the desired look and feel as its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ass name must be passed as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207F2B03-D8CE-4A44-944B-B44DA4ADA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nd 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l look and fe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javax.swing.plaf.metal.MetalLookAndFeel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f look and fe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com.sun.java.swing.plaf.motif.MotifLookAndFeel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 look and fe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com.sun.java.swing.plaf.windows.WindowsLookAndFeel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DAD8F614-14F8-4274-A347-E13586515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Selection M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362320" y="1447920"/>
            <a:ext cx="350496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selection mode al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one item to be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a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590920" y="3200400"/>
            <a:ext cx="4038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terval selection mode allows multiple items to be selected with no restri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285280" y="4879800"/>
            <a:ext cx="399996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interval selection mode al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ngle interval of contiguous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 sel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13"/>
          <p:cNvCxnSpPr>
            <a:stCxn id="116" idx="1"/>
          </p:cNvCxnSpPr>
          <p:nvPr/>
        </p:nvCxnSpPr>
        <p:spPr>
          <a:xfrm rot="10800000">
            <a:off x="1739160" y="5069880"/>
            <a:ext cx="543600" cy="319680"/>
          </a:xfrm>
          <a:prstGeom prst="curvedConnector5">
            <a:avLst>
              <a:gd name="adj1" fmla="val 49966"/>
              <a:gd name="adj2" fmla="val 49943"/>
              <a:gd name="adj3" fmla="val 49966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8" name="AutoShape 14"/>
          <p:cNvCxnSpPr>
            <a:stCxn id="115" idx="3"/>
          </p:cNvCxnSpPr>
          <p:nvPr/>
        </p:nvCxnSpPr>
        <p:spPr>
          <a:xfrm flipV="1">
            <a:off x="6629040" y="3543120"/>
            <a:ext cx="686520" cy="167040"/>
          </a:xfrm>
          <a:prstGeom prst="curvedConnector5">
            <a:avLst>
              <a:gd name="adj1" fmla="val 50000"/>
              <a:gd name="adj2" fmla="val 49892"/>
              <a:gd name="adj3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9" name="AutoShape 15"/>
          <p:cNvCxnSpPr>
            <a:stCxn id="114" idx="1"/>
          </p:cNvCxnSpPr>
          <p:nvPr/>
        </p:nvCxnSpPr>
        <p:spPr>
          <a:xfrm flipV="1" rot="10800000">
            <a:off x="1751760" y="1956240"/>
            <a:ext cx="610560" cy="443880"/>
          </a:xfrm>
          <a:prstGeom prst="curvedConnector5">
            <a:avLst>
              <a:gd name="adj1" fmla="val 49970"/>
              <a:gd name="adj2" fmla="val 50000"/>
              <a:gd name="adj3" fmla="val 4997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20" name="Picture 19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1181160" cy="1619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"/>
          <p:cNvPicPr/>
          <p:nvPr/>
        </p:nvPicPr>
        <p:blipFill>
          <a:blip r:embed="rId2"/>
          <a:stretch/>
        </p:blipFill>
        <p:spPr>
          <a:xfrm>
            <a:off x="7315200" y="2590920"/>
            <a:ext cx="1181160" cy="161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3"/>
          <a:stretch/>
        </p:blipFill>
        <p:spPr>
          <a:xfrm>
            <a:off x="533520" y="4248000"/>
            <a:ext cx="11811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A235899B-F84F-4234-A380-61BC76D2F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nd 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5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8153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206A3FBE-F10E-4A5B-8725-F92C4CAA5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nd 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components that have already been created need to be upd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Utilities.updateComponentTreeUI(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takes a reference to the component that you want to update as an arg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IManager.setLookAndFe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throws a number of exce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NotFound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tantiation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llegalAccess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supportedLookAndFeel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2BA3499A-4455-4883-8520-D5E9F3166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nd 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(Motif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IManager.setLookAndFeel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com.sun.java.swing.plaf.motif.MotifLookAndFeel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Utilities.updateComponentTreeUI(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 (Exception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OptionPane.showMessageDialog(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Error setting the look and feel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6B770339-A805-4ED4-AEFA-17BF693E4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nd 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(Window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IManager.setLookAndFeel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com.sun.java.swing.plaf.windows.WindowsLookAndFeel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Utilities.updateComponentTreeUI(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 (Exception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OptionPane.showMessageDialog(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Error setting the look and feel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EBFBBCDB-E08A-4A11-887D-27EE60FDB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Selection M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hang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’s selection mode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Selection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hod accept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gument that determines the selection m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SelectionModel.SINGLE_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SelectionModel.SINGLE_INTERVAL_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SelectionModel.MULTIPLE_INTERVAL_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List.setSelectionMode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SelectionModel.SINGLE_SELECTI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04:42:30Z</dcterms:created>
  <dc:creator>Tony Gaddis</dc:creator>
  <dc:description/>
  <cp:keywords/>
  <dc:language>en-US</dc:language>
  <cp:lastModifiedBy>usellst</cp:lastModifiedBy>
  <cp:lastPrinted>2009-04-22T19:24:48Z</cp:lastPrinted>
  <dcterms:modified xsi:type="dcterms:W3CDTF">2009-03-24T19:51:56Z</dcterms:modified>
  <cp:revision>61</cp:revision>
  <dc:subject>Advanced GUI Applications</dc:subject>
  <dc:title>Chapter 13</dc:title>
</cp:coreProperties>
</file>