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A6B-2964-4051-BD49-C8C98B70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23D-F24E-4111-943A-5AC0564A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B1F1-39A7-4859-AD6A-3219AAA2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420-09D8-4E99-8949-E6DD516C6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091-ED52-409E-832F-65087132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84A-D001-4EF4-9FED-C0FA1F23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9E5-7ACE-48A8-A30A-AD99C42AC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BD5-C16D-456F-92DF-1B0D1474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12A7-B6DD-4924-8E84-E68DD76F3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36F-17F1-4DFF-A441-F12D89AC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A68-ADAD-4830-AEF9-2D536B32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3A6-8358-4D63-A654-97BFADBC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EC4D-DA54-4245-8E20-E051A493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28D-0CFD-48C5-91BA-34C62285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BBD8-F6AC-4BEF-9265-92F94ABE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C083-7F73-455A-BE01-2FF796B1C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A8F-2FC5-44C7-805E-BEC5A3A7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A53-031C-47B2-A3BC-103CA6DE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467-C1D0-47BE-B5D6-48074F75F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2CE-1614-4126-A901-F82F4A8D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6AAA-39FA-456D-BB9B-3616567F9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C7E-B719-412F-803A-F12488BC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B6C-E923-4157-862C-76640F5C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766-0169-4D82-86A7-E43EB7AA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5B76-9AA3-4606-B9F5-FA40FD98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2EE-ED67-4C9C-8608-27F7D76B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8924-C7EF-432A-8714-0AE48637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2B21-CAB5-474C-A511-6FCE109E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135-6BFF-42EE-B9AD-E638C0E1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119-D1BD-4E59-8397-49D3FFB4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E179-0736-485B-9056-278C0FC2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8F6-B933-44B3-B564-CE90BFB5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C7B-FDD1-44B1-9BF0-D9992E57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82D6-EEB5-4768-AAF2-90A2742D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0FF-3D2B-4197-A14D-917210DDD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FF41-3545-47A6-8BCD-BEC6F5D6C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2EC-6C94-461E-8D47-59462508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441-33D2-4D7D-A804-4FE914B8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3F6-C3C7-4DCC-BBC9-0FF1A833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DB3C-2728-4341-9A05-71AEF22D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CC2C-3873-4FA3-AE76-C8EB7EE4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092C-8F64-43C3-8F65-AF0EA55D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21D-391E-4EE1-A1E3-24A6C9DF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D32-BD10-4DFC-B241-2F1CC666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3FE8-7AA9-4484-97EE-43D82625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2DA-4F65-4A32-8F02-0D1CAF9A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E8D7-B8DC-4368-A99F-EE5D2FF3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25D-5701-4C27-9AF1-49FB85A5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9519-93FF-478C-A3EE-26ABA6E0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4056-89C1-45D8-9152-9E090D19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B591-3FD6-47A3-9854-7D4AA0BA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7036-67C6-43E4-BEDF-4218350E4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D76E-EA19-4A6D-B834-8F9D8650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108-6F18-49EA-A38E-52E47045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E55D-96D3-415D-A07E-DCB26257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960-0B01-44F3-91B6-817B0BC1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C3A-66CA-4F1C-96D0-66995A44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D0F-6138-4B58-9781-E15E35F1F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4AB-953E-428C-A926-47F58F522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58E-F5F3-4F2D-B99D-97114145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8D2B-E601-4A56-A45D-D52D36CF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80B-8905-4849-8410-AA802927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C7C6-4336-422B-AF23-BA7D6FB5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813-1AD8-457C-B361-C8136B78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04ED-5B61-4B59-A45D-7E8B9366D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8919-DFE3-4BC3-845E-C6239693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3A75-F36D-4208-974E-BBCB34CB7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3D20-CD02-430C-BCCE-73778088E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3ED4-0136-4ADC-85EB-03E6FDAC2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5EBE-12DF-4E23-9F99-9CC93E029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F5C0-B7A6-4C39-B3C4-BAE208659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CD17-9F43-44EF-9FB9-CB2561DAA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9314-73D2-4F21-BB50-979C86EE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03C4-9F7C-4D90-829F-F13273122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CC38-52B4-4648-9DD6-17EAD59ED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66D9-D3B4-4009-9035-1A85F60DE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8F92-4F27-45DB-8B59-1C1CF9F73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AA50-F75F-4718-A04F-9C3BDB096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FCCF-DD77-4F36-8B0D-46B5FAC12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21481DD-3CDE-4570-977A-DAB5CE85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d3d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10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howWindow.java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KiloConverterWindow%20Phase%201/KiloConverterWindow.jav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7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Look at GUI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i.dailymail.co.uk/i/pix/2010/02/08/article-1249468-02A9E07400000578-757_468x286.jpg"/>
          <p:cNvPicPr/>
          <p:nvPr/>
        </p:nvPicPr>
        <p:blipFill>
          <a:blip r:embed="rId1"/>
          <a:stretch/>
        </p:blipFill>
        <p:spPr>
          <a:xfrm>
            <a:off x="2209680" y="152280"/>
            <a:ext cx="4457880" cy="27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520" y="3048120"/>
            <a:ext cx="8294760" cy="2743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n “Event Listener” comes to rescue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writing a GUI application is creating event liste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ject that automatically executes one of its methods when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pec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ent occ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WINDOW GUI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80700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3C0A5E5-D67C-4BCD-AF10-D2C7CA8F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, applications need one or more windows with various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indow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simply a component that holds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ainer that can be displayed as a window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wing application, you create a frame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87DF180-BA2E-482A-9EFC-4837F1BA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me is a basic window that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rder arou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tle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button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ndard features are sometimes referred to as wind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o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FED2AA4-4C4D-401F-B127-56762F9B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663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howWindow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088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04833A8-197D-4551-AC17-26F2FC85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needed to use the swing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, two constants are decla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WINDOW_WIDTH = 3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WINDOW_HEIGHT = 250;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ese constants later in the program to set the size of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dow’s size is measured in pix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xel (picture element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of the small dots that make up a screen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4F0AA2F-0FEB-4F38-AAD2-365D763E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tance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needs to be cre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Frame window = new JFrame();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n memor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its address to the window variab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ing that is passed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appear in the window’s title bar when it is 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ndow.setTitle("A Simple Window");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itially invi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EB2DFAB-C5B3-4836-A8CA-BD956AF0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t the size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dow.setSize(WINDOW_WIDTH, WINDOW_HEIGHT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pecify the action to take place when the user clicks on the close bu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DefaultCloseOperation(JFrame.EXIT_ON_CLOSE)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efaultClose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ak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gument which specifies the 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.HIDE_ON_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auses the window to be hidden from view, but the application does not 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ault ac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.HIDE_ON_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139550E-12FE-4DA0-9BF9-2F57B4E8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code displays the wind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ndow.setVisible(true)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take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display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hid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3051D53-4503-4C4B-8888-CCFB8D94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ing provides numerous components that can be added to a wind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fundamental component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7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that can display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7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in which the user may type a single line of input from the key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7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tton that can cause an action to occur when it is cli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D679EDF-6BD6-4FBA-8D7C-B2235FBB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7 discusses the following main 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ping GUI Classes with a mai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Buttons and Check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Problem Solving: Extending Classes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5573161-34DC-49CB-9CA0-378C6A9BF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etch of Kilometer Converter Graphical 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477120" cy="2297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05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9680" y="3124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11320" y="5105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752440" y="15238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1143000" y="3352680"/>
            <a:ext cx="5335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2895480" y="21337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6400800" y="1981080"/>
            <a:ext cx="0" cy="99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4267080" y="4495680"/>
            <a:ext cx="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BED5613-2CEE-449A-AEEF-E386915D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Label mess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TextField kilomet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Button calcButt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 = new JLabe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nter a distance in kilometer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ometers = new JTextField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Button = new JButton("Calculate"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de declares and instantiates three Swing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9012E71-58E7-45A7-AA26-C11B05DD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 pa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ntainer that is part of ever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component add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added to its content pane. You do this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'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pane is not visible and it does not have a b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n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a container that can hold GUI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74674CE-7F34-4C72-B43C-B69DB232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s cannot be displayed by 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s are commonly used to hold and organize collections of relate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panels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JPanel pan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kilomete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add(calcButt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73CF94C-BE95-4326-8CFE-C0800D10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ng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ypically placed on a panel and then the panel is added to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s content pan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(panel);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loConverterWindow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ilometerConverter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6FD140C-CC0E-4305-AEDB-8B855E08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action that takes place within a program, such as the clicking of a bu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event takes place, the component that is responsible for the event create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obj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about the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onent that generated the event object is know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that the source component is connected to one or more event liste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D1739DF-B67E-4C71-A651-42FBF8E6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ject that responds to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urce compon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vent which is passed to a method in the event liste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listener classes are specific to each appl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listener classes are commonly written as private inner classes in an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DBE8CFB-9AEC-4556-A6CC-CC845828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Event Listener Classes as Private In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is defined inside of another class is known as an inn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elds and methods of the Outer class appear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elds and methods of the Inner class appear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F14D293-22C9-4E0D-87F7-EB1F0D5A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Listeners Must Implement an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vent listener classes m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lement an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face is something like a class containing one or more method head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write a class that implements an interface, you are agreeing that the class will have all of the methods that are specified in th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1171724-B683-42C8-A4BF-95584360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s 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requir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 liste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listener classes must meet the following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akes an argumen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de to be executed when button is pressed goes he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D62AC1C-8D6E-4840-AFE0-A86AD879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Java application u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phical user interf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nounced “gooey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’s accept input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ndow in a GUI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data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interaction with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1C6920E-540D-418F-9F08-6A2BBE12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ling Acti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38080" y="2682720"/>
            <a:ext cx="2514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191120" y="2606760"/>
            <a:ext cx="4343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Listen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68440" y="35701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button is pressed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3886200" y="1387440"/>
            <a:ext cx="958680" cy="95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13"/>
          <p:cNvCxnSpPr>
            <a:stCxn id="190" idx="0"/>
            <a:endCxn id="193" idx="2"/>
          </p:cNvCxnSpPr>
          <p:nvPr/>
        </p:nvCxnSpPr>
        <p:spPr>
          <a:xfrm flipH="1" flipV="1" rot="5400000">
            <a:off x="2581920" y="1378080"/>
            <a:ext cx="818280" cy="179136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5" name="AutoShape 14"/>
          <p:cNvCxnSpPr>
            <a:stCxn id="193" idx="6"/>
            <a:endCxn id="191" idx="0"/>
          </p:cNvCxnSpPr>
          <p:nvPr/>
        </p:nvCxnSpPr>
        <p:spPr>
          <a:xfrm>
            <a:off x="4844880" y="1865160"/>
            <a:ext cx="1518480" cy="7423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6" name="Rectangle 16"/>
          <p:cNvSpPr/>
          <p:nvPr/>
        </p:nvSpPr>
        <p:spPr>
          <a:xfrm>
            <a:off x="1828800" y="41911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onent generates an event object and passes it to the action listener object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80880" y="5425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oConverterWindow.java, KilometerConverter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3BC7124-A660-4479-8C3C-E2AEFC0B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ering A Lis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connecting an event listener object to a componen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ste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liste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have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cButton.addActionListen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CalcButtonListener()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user clicks on the source button, the action listener object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be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FE8D219-92CB-4803-B8A5-C61E8FE1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and Foreground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 Swing component classes have method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ore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change the color of the component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oreg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change the color of the text displayed on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thod takes a color constant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D23F28F-871E-4F27-A4C3-230A8CD60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redefined constants that you can use for col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DARK_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P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ColorWindow.java, Color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CC6C91C-3792-4E23-9EA3-D2AC20C1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objects contain certain information about th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formation can be obtained by calling one of the event objec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f these method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returns a reference to the object that generated this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ction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returns the action command for this even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ObjectWindow.java, EventObjectDem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256118E-0886-4442-BE02-1A57984F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ping GUI Classes with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plications always starts execution with a method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applications in two separate files, one file for the class that defines the GUI window and one file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that creates an object of the GUI window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also be written with the main method directly written into the GUI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 EmbeddedMain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ECAEFA3-8D22-45C7-AB7D-17A67877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part of designing a GUI application is determining the layout of the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yo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positioning and sizing of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ava, you do not normally specify the exact location of a component within a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the positions and sizes of component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adjustments when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FD1C3C6-6E1F-4811-A3B2-3EB627FB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yout manager object and the container work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several layout mana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rows. This is the default for pa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fiv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, South, East, West, and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default layout manager fo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’s content p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rranges components in a grid with rows and colu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939A63C-031F-42D3-B813-563E7F6D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one of the base classes that many components are derived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ponent that is derive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can have a layout manager added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dd a layout manager to a container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 you might use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ayout(new Flow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EF98408-A65C-46D6-AC46-E0BE6921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fault layout manager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appear horizontally, from left to right, in the order that they were added.  When there is no more room in a row, the next components “flow” to the next 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Flow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http://sco.wisc.edu/wisclinc/metatool/mpbatch/gui_noconfig_scrn.gif"/>
          <p:cNvPicPr/>
          <p:nvPr/>
        </p:nvPicPr>
        <p:blipFill>
          <a:blip r:embed="rId1"/>
          <a:stretch/>
        </p:blipFill>
        <p:spPr>
          <a:xfrm>
            <a:off x="685800" y="0"/>
            <a:ext cx="7620120" cy="50562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286000" y="1371600"/>
            <a:ext cx="6019920" cy="3828960"/>
            <a:chOff x="2286000" y="1371600"/>
            <a:chExt cx="6019920" cy="3828960"/>
          </a:xfrm>
        </p:grpSpPr>
        <p:pic>
          <p:nvPicPr>
            <p:cNvPr id="102" name="Picture 2" descr="http://www.n2men.org/wp-content/uploads/2011/08/thinking-asian-guy1.jpg"/>
            <p:cNvPicPr/>
            <p:nvPr/>
          </p:nvPicPr>
          <p:blipFill>
            <a:blip r:embed="rId2"/>
            <a:stretch/>
          </p:blipFill>
          <p:spPr>
            <a:xfrm>
              <a:off x="2286000" y="3200400"/>
              <a:ext cx="1333440" cy="2000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3" name="Cloud Callout 3"/>
            <p:cNvSpPr/>
            <p:nvPr/>
          </p:nvSpPr>
          <p:spPr>
            <a:xfrm>
              <a:off x="3352680" y="1371600"/>
              <a:ext cx="4953240" cy="1752480"/>
            </a:xfrm>
            <a:prstGeom prst="cloudCallout">
              <a:avLst>
                <a:gd name="adj1" fmla="val -47740"/>
                <a:gd name="adj2" fmla="val 68958"/>
              </a:avLst>
            </a:prstGeom>
            <a:solidFill>
              <a:srgbClr val="ffff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an you tell me all the GUI components in this window?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2D87324-9918-4F2F-81A7-090174E2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ager allows you to align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center of each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ng the left or right edges of each 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loaded constructor allows you to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.CEN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.LEFT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.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ayout(new FlowLayout(FlowLayout.LEF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4BD14A5-B528-4C38-ACC1-826340CD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erts a gap of five pixels between components, horizontally and ver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or allows these to be adju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structor has the following form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wLayout(int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align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orizontalG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erticalG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Layout(new FlowLayout(FlowLayout.LEFT, 10, 7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5ABD1BC-0DE1-437F-B9D7-57929C06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914400" y="2233440"/>
            <a:ext cx="6781680" cy="40910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676520" y="13190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ages five regions where components can be 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5329B27-2152-41F2-B7C1-C00EA3CB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Border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onent placed into a container that is managed by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placed into one of five reg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.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.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.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.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.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E96CB27-AD7B-47CC-A08E-AD52729C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egion can hold only one component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mponent is added to a region, it is stretched so it fills up the entir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fault manage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(button, BorderLayout.NORTH);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not pass a second argument to the add method, the component will be added to the center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D09C4B7-BC40-4D0C-99F0-4EDA8619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ly the size of a button is just large enough to accommodate the text that it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ttons display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gion will not retain their norm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nents are stretched to fill all of the space in their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DBF32E7-B1EA-4206-9E5A-5E8E4C0E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user resizes the window, the sizes of the components will be changed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nager resizes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d in the north or south regions may be resized horizontally so it fills up the entire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d in the east or west regions may be resized vertically so it fills up the entir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onent that is placed in the center region may be resized both horizontally and vertically so it fills up the entir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5B1DD41-CE39-496F-8A15-7A3FA2C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 there is no gap between the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allows horizontal and vertical gaps to be specified (in pixe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ructor has the following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(int horizontalGap, int verticalGap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(new BorderLayout(5,1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290F98E-5358-4BE3-B562-0771506E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sting Components in a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mponents to panels and then nesting the panels inside the regions can overcome the single component limitation of layout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dding buttons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 add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o a region, sophisticated layouts can be ach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BorderPanel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DDC606D-A208-4EA2-97DD-3FDC3B4E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219320" y="121932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grid with rows and columns, much like a spreadsheet.  A container that is managed by a</a:t>
            </a:r>
            <a:r>
              <a:rPr b="0" lang="en-US" sz="2000" spc="-1" strike="noStrike">
                <a:solidFill>
                  <a:srgbClr val="000000"/>
                </a:solidFill>
                <a:latin typeface="Minion-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s divided into equally sized c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95480" y="3368520"/>
          <a:ext cx="3124440" cy="228600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AutoShape 44"/>
          <p:cNvSpPr/>
          <p:nvPr/>
        </p:nvSpPr>
        <p:spPr>
          <a:xfrm rot="5400000">
            <a:off x="4228560" y="1485720"/>
            <a:ext cx="457200" cy="3124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5"/>
          <p:cNvSpPr/>
          <p:nvPr/>
        </p:nvSpPr>
        <p:spPr>
          <a:xfrm>
            <a:off x="2362320" y="3368520"/>
            <a:ext cx="380880" cy="2270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040 h 2270160"/>
              <a:gd name="textAreaBottom" fmla="*/ 2193120 h 22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2"/>
                  <a:pt x="10800" y="2344"/>
                </a:cubicBezTo>
                <a:lnTo>
                  <a:pt x="10800" y="8456"/>
                </a:lnTo>
                <a:cubicBezTo>
                  <a:pt x="10800" y="9628"/>
                  <a:pt x="5400" y="10800"/>
                  <a:pt x="0" y="10800"/>
                </a:cubicBezTo>
                <a:cubicBezTo>
                  <a:pt x="5400" y="10800"/>
                  <a:pt x="10800" y="11972"/>
                  <a:pt x="10800" y="13144"/>
                </a:cubicBezTo>
                <a:lnTo>
                  <a:pt x="10800" y="19256"/>
                </a:lnTo>
                <a:cubicBezTo>
                  <a:pt x="10800" y="2042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3887280" y="2362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1510920" y="4572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03BA88B-F9A4-4762-9EEB-E14D1A8D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52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mmon GUI componen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337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EB143A4-9B92-4FC1-9EB1-0C153E6A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nager follows some simple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can hold only on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cells are the size of the largest component placed within the lay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onent that is placed in a cell is automatically resized to fill up any extra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pass the number of rows and columns as argument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D990B9F-B78E-4001-943E-3DF02E3A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at of the constru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(int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rows, int colum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(new GridLayout(2, 3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zero (0) can be passed for one of the arguments but no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0 for both arguments will ca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llegalArgument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05A4628-B7E3-4B0E-A3C9-0B0C7D18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1143000" y="2666880"/>
            <a:ext cx="3124080" cy="2587680"/>
            <a:chOff x="1143000" y="2666880"/>
            <a:chExt cx="3124080" cy="2587680"/>
          </a:xfrm>
        </p:grpSpPr>
        <p:sp>
          <p:nvSpPr>
            <p:cNvPr id="270" name="Rectangle 5"/>
            <p:cNvSpPr/>
            <p:nvPr/>
          </p:nvSpPr>
          <p:spPr>
            <a:xfrm>
              <a:off x="3641760" y="473688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017880" y="473688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2392200" y="473688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1768320" y="473688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1143000" y="473688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3641760" y="4219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017880" y="4219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2392200" y="421920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1768320" y="4219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143000" y="4219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3641760" y="3701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3017880" y="3701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2392200" y="3701880"/>
              <a:ext cx="625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1768320" y="3701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1143000" y="3701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3641760" y="3184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3017880" y="3184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2392200" y="3184200"/>
              <a:ext cx="625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1768320" y="3184200"/>
              <a:ext cx="623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1143000" y="3184200"/>
              <a:ext cx="625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3641760" y="2666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3017880" y="2666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2392200" y="2666880"/>
              <a:ext cx="625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1768320" y="2666880"/>
              <a:ext cx="623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1143000" y="2666880"/>
              <a:ext cx="62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0"/>
            <p:cNvSpPr/>
            <p:nvPr/>
          </p:nvSpPr>
          <p:spPr>
            <a:xfrm>
              <a:off x="1143000" y="2666880"/>
              <a:ext cx="3124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1"/>
            <p:cNvSpPr/>
            <p:nvPr/>
          </p:nvSpPr>
          <p:spPr>
            <a:xfrm>
              <a:off x="1143000" y="31842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2"/>
            <p:cNvSpPr/>
            <p:nvPr/>
          </p:nvSpPr>
          <p:spPr>
            <a:xfrm>
              <a:off x="1143000" y="37018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143000" y="421920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>
              <a:off x="1143000" y="47368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>
              <a:off x="1143000" y="5254560"/>
              <a:ext cx="3124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>
              <a:off x="1143000" y="2666880"/>
              <a:ext cx="0" cy="25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176832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239220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>
              <a:off x="301788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3641760" y="266688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4267080" y="2666880"/>
              <a:ext cx="0" cy="258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06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are added 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following order (for a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ri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4876920" y="2666880"/>
            <a:ext cx="373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Window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ccepts nested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PanelWindow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0B42445-5CF0-42C3-973A-E1A781D2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dio butt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to select one choice from several possible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used to create radio but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(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(Str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ext, boolean sel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"Choice 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Choice 1", 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324480" y="2666880"/>
            <a:ext cx="190512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Button appears already selected when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6781680" y="3657600"/>
            <a:ext cx="152640" cy="3049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8333FB1-1E93-44AC-AE1E-707BE3B0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buttons normally are group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radio button group only one of the radio buttons in the group may be selected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ing on a radio button selects it and automatically deselects any other radio button in the sam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a used to group radio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BEA517A-AFE5-4E2A-AD77-FFF0C53D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reat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 between the radio buttons that it contai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1 = new JRadioButton("Choice 1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2 = new JRadioButton("Choice 2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RadioButton radio3 = new JRadioButton("Choice 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.add(radio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76E7DBD-5A30-438E-937A-5E16CE40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are not containers 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, or content f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ish to add the radio buttons to a panel or a content frame, you must add them individuall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add(radio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add(radio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add(radio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CF74906-127F-4502-AF32-66EC5E8A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 Button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generate an action event when they are cli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spond to an action event, you must write an action listener class, just lik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ent hand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MetricConverter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B3153F5-1EA2-4F4E-973B-0AB61AB6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ng Selected Radio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indicating if the radio button is selec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adio.isSelected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here executes if the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button is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7115E5E-762F-4767-814B-777A93EC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a Radio Button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possible to select a radio button in code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Cli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method is called, the radio button is selected just as if the user had click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an action event is genera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.doCli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D13A901-C5C7-4D4A-B6C5-9CD628CC2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FC, AWT,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mers us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Foundation Classes (JF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GUI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FC consists of several sets of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sets of JFC classes that we focus on are AWT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wing 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equipped with a set of classes for drawing graphics and creating graphical user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1AC6CAB-E6E5-46C8-9C05-20505E1C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 bo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rs as a small box with a label appearing next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radio buttons, check boxes may be selected or deselected at ru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heck box is selected, a small check mark appears inside the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boxes are often displayed in groups but they are not usually group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EDCE7A3-7D38-48EF-874B-69A6C1F0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is allowed to select any or all of the check boxes that are displayed in a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used to create check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(String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xt, boolean sel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Mini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heck1 = new JCheckBox("Macaroni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heckBox check1 = new JCheckBox("Macaroni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019920" y="2743200"/>
            <a:ext cx="20574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heck appears in box if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"/>
          <p:cNvSpPr/>
          <p:nvPr/>
        </p:nvSpPr>
        <p:spPr>
          <a:xfrm flipH="1">
            <a:off x="6019920" y="3581280"/>
            <a:ext cx="457200" cy="3812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E3075EA-1917-4EE1-8567-209F1DA5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is selected or deselected, it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em 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item events is similar to handling action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em listen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, which must meet the following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thod must take an argument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07C742C-AD64-4BF0-A04C-CBF5C3D5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 Box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bject of th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the item listener object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n event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item listener object is automatically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 object is passed in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B178FDA-949C-4AF3-8ABC-5D972C44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ng Selected Check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Sel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will determine wheth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 is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retur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r>
              <a:rPr b="0" lang="en-US" sz="2800" spc="-1" strike="noStrike">
                <a:solidFill>
                  <a:srgbClr val="000000"/>
                </a:solidFill>
                <a:latin typeface="Minion-Regu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checkBox.isSelected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de here executes if the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ox is se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ColorCheckBox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3927651-4FB0-482E-8DEB-630BE93A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Check Boxes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sible to select check boxes in code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Cli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method is called, the check box is selected just as if the user had click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an item event is genera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Box.doCli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9D5B1B0-E19C-4483-9519-38687370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have a more organized look if related components are grouped inside b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dd a border to any component that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ponent deriv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s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1590840" cy="184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6714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42468C9-BFB4-431C-A61E-72113DCF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 to add a border to the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accep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as its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s detailed information describing the appearance of a b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which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, has static methods that return various types of b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3B53CAA-474B-4EF0-BBD4-5408238C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1371600"/>
                <a:gridCol w="2438280"/>
                <a:gridCol w="39625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rderFacto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Compoun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has two parts: an inside edge and an outside edge. The inside and outside edges can be any of the other bord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Empty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contains only empty spa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he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Etche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with a 3D appearance that looks “etched” into the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Line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appears as a li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ed bevel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LoweredBevel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looks like beveled edges. It has a 3D appearance that gives the illusion of being sunken into the surrounding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e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Matte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ne border that can have edges of different thickn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sed bevel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RaisedBevel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order that looks like beveled edges. It has a 3D appearance that gives the illusion of being raised above the surrounding back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d b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reateTitled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etched border with a tit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37919F7-C207-4B3F-A868-1CAECA70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randi’s Bagel House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ex application that uses numeroous components can be constructed from several specialized panel components, each containing other components and related code such as event liste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tingPanel.java, BagelPanel.jav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pingPanel.java, CoffeePanel.java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CalculatorGUI.java, Bagel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0F02AAB-DD91-4C35-B433-D1669C76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Driven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191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that operate in a GUI environment must b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vent-dr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action that takes place within a program, such as the clicking of a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list most common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1905120" cy="2619360"/>
          </a:xfrm>
          <a:prstGeom prst="rect">
            <a:avLst/>
          </a:prstGeom>
          <a:ln w="0">
            <a:noFill/>
          </a:ln>
        </p:spPr>
      </p:pic>
      <p:sp>
        <p:nvSpPr>
          <p:cNvPr id="115" name="Cloud Callout 5"/>
          <p:cNvSpPr/>
          <p:nvPr/>
        </p:nvSpPr>
        <p:spPr>
          <a:xfrm>
            <a:off x="3352680" y="1371600"/>
            <a:ext cx="4953240" cy="1752480"/>
          </a:xfrm>
          <a:prstGeom prst="cloudCallout">
            <a:avLst>
              <a:gd name="adj1" fmla="val -47740"/>
              <a:gd name="adj2" fmla="val 68958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an “Event Driven” progra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37482AA-1332-4124-806B-CD323FBC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lash Sc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lash screen is a graphic image that is displayed while an application loads into memory and start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lash screen keeps the user's attention while a large application loads and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ning with Java 6, you can display splash screens with your Java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7C9A5F6-2ECA-44EE-A897-BF1A2A54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lash Sc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play the splash screen you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in the following way when you run the application: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splash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GraphicFileName ClassFile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FileN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ame of the file that contains the graphic image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FileN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ame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 le that you are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ic file can be in the GIF, PNG, or JPEG for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D471C7DE-F2E5-4135-AC26-CF739CBB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onsole Output to Debug a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variable values, etc. as your application executes to identify 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For debugging, display the text entered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ts value converted to a do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Reading " + str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from the text field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onverted value: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.parseDouble(str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KiloConverterWindow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events could you have 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915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culture24.org.uk/asset_arena/7/69/97/179967/v0_master.jpg"/>
          <p:cNvPicPr/>
          <p:nvPr/>
        </p:nvPicPr>
        <p:blipFill>
          <a:blip r:embed="rId1"/>
          <a:stretch/>
        </p:blipFill>
        <p:spPr>
          <a:xfrm>
            <a:off x="1828800" y="13716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events occur whi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program is running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5029200"/>
            <a:ext cx="8294400" cy="990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’t need to listen to what 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people are talking ab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4:42:30Z</dcterms:created>
  <dc:creator>Tony Gaddis</dc:creator>
  <dc:description/>
  <cp:keywords/>
  <dc:language>en-US</dc:language>
  <cp:lastModifiedBy>ferreipb</cp:lastModifiedBy>
  <cp:lastPrinted>2009-04-22T19:24:48Z</cp:lastPrinted>
  <dcterms:modified xsi:type="dcterms:W3CDTF">2013-10-22T19:13:48Z</dcterms:modified>
  <cp:revision>74</cp:revision>
  <dc:subject>A First Look at GUI Applications</dc:subject>
  <dc:title>Chapter 7</dc:title>
</cp:coreProperties>
</file>